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480-5B59-40D4-AC10-4CA9EA97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861-8D6C-4938-B811-7D9DFA75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283-EC67-415F-B455-1972CBA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CDB-5754-4CF7-A3B7-A493F21C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286-635A-42D7-A058-AFCADB3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DEE-5C22-437E-AFCE-D09088A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833-C144-4D08-8DBC-A2ADC503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59C-CA64-4E94-86B4-12CDE40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5CF-E277-4FA9-A6AA-7E53483E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3EE-8752-48C9-A528-2C242FA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667-6730-4C81-8DCD-BC76E0B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E8B-7E4F-44EE-AADB-A939A04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D8B-AD5B-4672-BFF3-655ADBA9B1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171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生日蛋糕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686680" y="2133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06C-0FB9-4D78-B672-A5803CCF3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5:10:08Z</dcterms:created>
  <dc:creator/>
  <dc:description/>
  <dc:language>en-US</dc:language>
  <cp:lastModifiedBy/>
  <dcterms:modified xsi:type="dcterms:W3CDTF">2015-07-04T09:13:1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ea02000000000001024140</vt:lpwstr>
  </property>
</Properties>
</file>