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B53C-2D02-45F8-9158-393EC1D8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6845-3CC7-4461-A5A6-E2DA960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C16E-FE2E-4791-B050-35F94FC6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DE33-8BED-4430-9738-770F56AE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0EFA3-70BC-4061-89B0-2C239A957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17873-92D1-417C-AD6B-C3EAC557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0D283-7606-4FEB-99F9-E3364B3F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15B51-C834-4EB6-8826-019E93C6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EF25B-C73E-49BE-8903-EBEEAF19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08D4D-98E3-4C90-90C4-1DE87E2B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B5D93-2468-4DB0-B235-F9AC5240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097B-9330-4A57-B029-3543D2CD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FFE8E-A6A1-44DA-975A-C490303D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4855D-A5ED-402D-BD71-C714CF8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C3156-2804-4531-932C-71912395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3ACEA-4CB3-482B-B86B-94C1E680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9FB39-E3A6-439A-A0E9-DA6258910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A14B-CE2A-4C87-B9D4-CE5DE279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D084-B114-478E-BD2D-66DCDAF9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1AD6-C7E0-4BE2-A8FB-BE03E4A7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8974-0F76-426F-A9C6-443FBFF6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EA8A-9768-44AD-A85D-58CCFC0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612F-4DB0-43FE-A20F-F53E2734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7555-8FF1-4481-BA64-9CCBCCCA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7370-069B-4CA3-85D3-48D759734906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4418-58E5-433F-86E3-C51711397DC0}" type="slidenum">
              <a:rPr b="0" lang="en-US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871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童幻世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1924200"/>
            <a:ext cx="5319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252360" y="1060560"/>
            <a:ext cx="85726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d90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标题 1" descr=""/>
          <p:cNvPicPr/>
          <p:nvPr/>
        </p:nvPicPr>
        <p:blipFill>
          <a:blip r:embed="rId2"/>
          <a:stretch/>
        </p:blipFill>
        <p:spPr>
          <a:xfrm>
            <a:off x="652320" y="1122480"/>
            <a:ext cx="62247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45F2-BD04-4711-A5AC-E6EE943579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22:49Z</dcterms:created>
  <dc:creator/>
  <dc:description/>
  <dc:language>en-US</dc:language>
  <cp:lastModifiedBy>微软用户</cp:lastModifiedBy>
  <dcterms:modified xsi:type="dcterms:W3CDTF">2015-07-04T08:39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