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20.png" ContentType="image/png"/>
  <Override PartName="/ppt/media/image34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31.png" ContentType="image/png"/>
  <Override PartName="/ppt/media/image33.png" ContentType="image/png"/>
  <Override PartName="/ppt/media/image12.png" ContentType="image/png"/>
  <Override PartName="/ppt/media/image2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1.png" ContentType="image/png"/>
  <Override PartName="/ppt/media/image9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554040"/>
            <a:ext cx="8209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272960"/>
            <a:ext cx="82296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481920"/>
            <a:ext cx="82296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554040"/>
            <a:ext cx="8209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272960"/>
            <a:ext cx="4015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272960"/>
            <a:ext cx="4015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481920"/>
            <a:ext cx="4015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481920"/>
            <a:ext cx="4015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554040"/>
            <a:ext cx="8209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272960"/>
            <a:ext cx="26496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272960"/>
            <a:ext cx="26496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272960"/>
            <a:ext cx="26496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481920"/>
            <a:ext cx="26496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481920"/>
            <a:ext cx="26496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481920"/>
            <a:ext cx="26496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554040"/>
            <a:ext cx="8209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68360" y="1272960"/>
            <a:ext cx="8229600" cy="42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554040"/>
            <a:ext cx="8209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272960"/>
            <a:ext cx="82296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554040"/>
            <a:ext cx="8209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272960"/>
            <a:ext cx="40158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5400" y="1272960"/>
            <a:ext cx="40158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554040"/>
            <a:ext cx="8209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000" y="554040"/>
            <a:ext cx="82090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554040"/>
            <a:ext cx="8209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272960"/>
            <a:ext cx="4015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5400" y="1272960"/>
            <a:ext cx="40158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360" y="3481920"/>
            <a:ext cx="4015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554040"/>
            <a:ext cx="8209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272960"/>
            <a:ext cx="8229600" cy="42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554040"/>
            <a:ext cx="8209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272960"/>
            <a:ext cx="40158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5400" y="1272960"/>
            <a:ext cx="4015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5400" y="3481920"/>
            <a:ext cx="4015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554040"/>
            <a:ext cx="8209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272960"/>
            <a:ext cx="4015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1272960"/>
            <a:ext cx="4015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8360" y="3481920"/>
            <a:ext cx="82296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554040"/>
            <a:ext cx="8209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272960"/>
            <a:ext cx="82296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360" y="3481920"/>
            <a:ext cx="82296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554040"/>
            <a:ext cx="8209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272960"/>
            <a:ext cx="4015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5400" y="1272960"/>
            <a:ext cx="4015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360" y="3481920"/>
            <a:ext cx="4015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5400" y="3481920"/>
            <a:ext cx="4015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554040"/>
            <a:ext cx="8209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272960"/>
            <a:ext cx="26496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0800" y="1272960"/>
            <a:ext cx="26496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33240" y="1272960"/>
            <a:ext cx="26496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8360" y="3481920"/>
            <a:ext cx="26496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0800" y="3481920"/>
            <a:ext cx="26496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33240" y="3481920"/>
            <a:ext cx="26496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554040"/>
            <a:ext cx="8209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272960"/>
            <a:ext cx="82296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554040"/>
            <a:ext cx="8209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272960"/>
            <a:ext cx="40158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272960"/>
            <a:ext cx="40158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554040"/>
            <a:ext cx="8209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554040"/>
            <a:ext cx="82090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554040"/>
            <a:ext cx="8209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272960"/>
            <a:ext cx="4015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272960"/>
            <a:ext cx="40158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481920"/>
            <a:ext cx="4015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554040"/>
            <a:ext cx="8209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272960"/>
            <a:ext cx="40158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272960"/>
            <a:ext cx="4015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481920"/>
            <a:ext cx="4015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554040"/>
            <a:ext cx="8209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272960"/>
            <a:ext cx="4015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272960"/>
            <a:ext cx="40158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481920"/>
            <a:ext cx="82296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.jpe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6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7.png"/><Relationship Id="rId22" Type="http://schemas.openxmlformats.org/officeDocument/2006/relationships/slideLayout" Target="../slideLayouts/slideLayout13.xml"/><Relationship Id="rId23" Type="http://schemas.openxmlformats.org/officeDocument/2006/relationships/slideLayout" Target="../slideLayouts/slideLayout14.xml"/><Relationship Id="rId24" Type="http://schemas.openxmlformats.org/officeDocument/2006/relationships/slideLayout" Target="../slideLayouts/slideLayout15.xml"/><Relationship Id="rId25" Type="http://schemas.openxmlformats.org/officeDocument/2006/relationships/slideLayout" Target="../slideLayouts/slideLayout16.xml"/><Relationship Id="rId26" Type="http://schemas.openxmlformats.org/officeDocument/2006/relationships/slideLayout" Target="../slideLayouts/slideLayout17.xml"/><Relationship Id="rId27" Type="http://schemas.openxmlformats.org/officeDocument/2006/relationships/slideLayout" Target="../slideLayouts/slideLayout18.xml"/><Relationship Id="rId28" Type="http://schemas.openxmlformats.org/officeDocument/2006/relationships/slideLayout" Target="../slideLayouts/slideLayout19.xml"/><Relationship Id="rId29" Type="http://schemas.openxmlformats.org/officeDocument/2006/relationships/slideLayout" Target="../slideLayouts/slideLayout20.xml"/><Relationship Id="rId30" Type="http://schemas.openxmlformats.org/officeDocument/2006/relationships/slideLayout" Target="../slideLayouts/slideLayout21.xml"/><Relationship Id="rId31" Type="http://schemas.openxmlformats.org/officeDocument/2006/relationships/slideLayout" Target="../slideLayouts/slideLayout22.xml"/><Relationship Id="rId32" Type="http://schemas.openxmlformats.org/officeDocument/2006/relationships/slideLayout" Target="../slideLayouts/slideLayout23.xml"/><Relationship Id="rId3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E:\图片夹\国外网美图\玻璃水珠\20091026_3d1b4748c4ad09431dc9jc37SRLqpQ03.jpg"/>
          <p:cNvPicPr/>
          <p:nvPr/>
        </p:nvPicPr>
        <p:blipFill>
          <a:blip r:embed="rId2">
            <a:grayscl/>
            <a:lum bright="24000"/>
          </a:blip>
          <a:stretch/>
        </p:blipFill>
        <p:spPr>
          <a:xfrm>
            <a:off x="-7920" y="0"/>
            <a:ext cx="9151920" cy="5715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82600" y="433440"/>
            <a:ext cx="8610480" cy="5281560"/>
            <a:chOff x="282600" y="433440"/>
            <a:chExt cx="8610480" cy="5281560"/>
          </a:xfrm>
        </p:grpSpPr>
        <p:sp>
          <p:nvSpPr>
            <p:cNvPr id="2" name="矩形 5"/>
            <p:cNvSpPr/>
            <p:nvPr/>
          </p:nvSpPr>
          <p:spPr>
            <a:xfrm>
              <a:off x="395280" y="696960"/>
              <a:ext cx="8353440" cy="4824360"/>
            </a:xfrm>
            <a:prstGeom prst="rect">
              <a:avLst/>
            </a:prstGeom>
            <a:solidFill>
              <a:srgbClr val="ffffff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3" name="Picture 6" descr="F:\work\第二\大桥\未标题-5副本.png"/>
            <p:cNvPicPr/>
            <p:nvPr/>
          </p:nvPicPr>
          <p:blipFill>
            <a:blip r:embed="rId3"/>
            <a:stretch/>
          </p:blipFill>
          <p:spPr>
            <a:xfrm>
              <a:off x="282600" y="433440"/>
              <a:ext cx="8610480" cy="528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68360" y="1272960"/>
            <a:ext cx="82296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68000" y="554040"/>
            <a:ext cx="8209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E:\图片夹\国外网美图\玻璃水珠\20091026_3d1b4748c4ad09431dc9jc37SRLqpQ03.jpg"/>
          <p:cNvPicPr/>
          <p:nvPr/>
        </p:nvPicPr>
        <p:blipFill>
          <a:blip r:embed="rId2"/>
          <a:stretch/>
        </p:blipFill>
        <p:spPr>
          <a:xfrm>
            <a:off x="6877080" y="0"/>
            <a:ext cx="1657440" cy="5715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E:\图片夹\国外网美图\玻璃水珠\20091026_3d1b4748c4ad09431dc9jc37SRLqpQ03.jpg"/>
          <p:cNvPicPr/>
          <p:nvPr/>
        </p:nvPicPr>
        <p:blipFill>
          <a:blip r:embed="rId3"/>
          <a:stretch/>
        </p:blipFill>
        <p:spPr>
          <a:xfrm>
            <a:off x="6010200" y="0"/>
            <a:ext cx="938160" cy="5715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E:\图片夹\国外网美图\玻璃水珠\20091026_3d1b4748c4ad09431dc9jc37SRLqpQ03.jpg"/>
          <p:cNvPicPr/>
          <p:nvPr/>
        </p:nvPicPr>
        <p:blipFill>
          <a:blip r:embed="rId4"/>
          <a:stretch/>
        </p:blipFill>
        <p:spPr>
          <a:xfrm>
            <a:off x="4210200" y="0"/>
            <a:ext cx="1874520" cy="5715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E:\图片夹\国外网美图\玻璃水珠\20091026_3d1b4748c4ad09431dc9jc37SRLqpQ03.jpg"/>
          <p:cNvPicPr/>
          <p:nvPr/>
        </p:nvPicPr>
        <p:blipFill>
          <a:blip r:embed="rId5"/>
          <a:stretch/>
        </p:blipFill>
        <p:spPr>
          <a:xfrm>
            <a:off x="973080" y="0"/>
            <a:ext cx="1511280" cy="571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E:\图片夹\国外网美图\玻璃水珠\20091026_3d1b4748c4ad09431dc9jc37SRLqpQ03.jpg"/>
          <p:cNvPicPr/>
          <p:nvPr/>
        </p:nvPicPr>
        <p:blipFill>
          <a:blip r:embed="rId6"/>
          <a:stretch/>
        </p:blipFill>
        <p:spPr>
          <a:xfrm>
            <a:off x="3419640" y="0"/>
            <a:ext cx="793440" cy="5715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E:\图片夹\国外网美图\玻璃水珠\20091026_3d1b4748c4ad09431dc9jc37SRLqpQ03.jpg"/>
          <p:cNvPicPr/>
          <p:nvPr/>
        </p:nvPicPr>
        <p:blipFill>
          <a:blip r:embed="rId7"/>
          <a:stretch/>
        </p:blipFill>
        <p:spPr>
          <a:xfrm>
            <a:off x="2409840" y="0"/>
            <a:ext cx="1082520" cy="5715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E:\图片夹\国外网美图\玻璃水珠\20091026_3d1b4748c4ad09431dc9jc37SRLqpQ03.jpg"/>
          <p:cNvPicPr/>
          <p:nvPr/>
        </p:nvPicPr>
        <p:blipFill>
          <a:blip r:embed="rId8"/>
          <a:stretch/>
        </p:blipFill>
        <p:spPr>
          <a:xfrm>
            <a:off x="8461440" y="0"/>
            <a:ext cx="718920" cy="5715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E:\图片夹\国外网美图\玻璃水珠\20091026_3d1b4748c4ad09431dc9jc37SRLqpQ03.jpg"/>
          <p:cNvPicPr/>
          <p:nvPr/>
        </p:nvPicPr>
        <p:blipFill>
          <a:blip r:embed="rId9"/>
          <a:srcRect l="0" t="0" r="89246" b="0"/>
          <a:stretch/>
        </p:blipFill>
        <p:spPr>
          <a:xfrm>
            <a:off x="-6480" y="0"/>
            <a:ext cx="105120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矩形 15"/>
          <p:cNvSpPr/>
          <p:nvPr/>
        </p:nvSpPr>
        <p:spPr>
          <a:xfrm>
            <a:off x="3049560" y="1128600"/>
            <a:ext cx="6085080" cy="126684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Picture 7" descr="F:\work\第二\大桥\未标题-6副本.png"/>
          <p:cNvPicPr/>
          <p:nvPr/>
        </p:nvPicPr>
        <p:blipFill>
          <a:blip r:embed="rId10"/>
          <a:srcRect l="3334" t="7779" r="2519" b="56682"/>
          <a:stretch/>
        </p:blipFill>
        <p:spPr>
          <a:xfrm>
            <a:off x="3049560" y="1128600"/>
            <a:ext cx="6202440" cy="126684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6461280" y="2127240"/>
            <a:ext cx="830160" cy="835200"/>
            <a:chOff x="6461280" y="2127240"/>
            <a:chExt cx="830160" cy="835200"/>
          </a:xfrm>
        </p:grpSpPr>
        <p:pic>
          <p:nvPicPr>
            <p:cNvPr id="53" name="椭圆 10" descr=""/>
            <p:cNvPicPr/>
            <p:nvPr/>
          </p:nvPicPr>
          <p:blipFill>
            <a:blip r:embed="rId11"/>
            <a:stretch/>
          </p:blipFill>
          <p:spPr>
            <a:xfrm>
              <a:off x="6461280" y="2127240"/>
              <a:ext cx="83016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672240" y="2341440"/>
              <a:ext cx="40824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4950000" y="1932120"/>
            <a:ext cx="1225440" cy="1225440"/>
            <a:chOff x="4950000" y="1932120"/>
            <a:chExt cx="1225440" cy="1225440"/>
          </a:xfrm>
        </p:grpSpPr>
        <p:pic>
          <p:nvPicPr>
            <p:cNvPr id="56" name="椭圆 20" descr=""/>
            <p:cNvPicPr/>
            <p:nvPr/>
          </p:nvPicPr>
          <p:blipFill>
            <a:blip r:embed="rId12"/>
            <a:stretch/>
          </p:blipFill>
          <p:spPr>
            <a:xfrm>
              <a:off x="4950000" y="1932120"/>
              <a:ext cx="12254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218200" y="2202120"/>
              <a:ext cx="687600" cy="68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2517840" y="2871720"/>
            <a:ext cx="828720" cy="835200"/>
            <a:chOff x="2517840" y="2871720"/>
            <a:chExt cx="828720" cy="835200"/>
          </a:xfrm>
        </p:grpSpPr>
        <p:pic>
          <p:nvPicPr>
            <p:cNvPr id="59" name="椭圆 23" descr=""/>
            <p:cNvPicPr/>
            <p:nvPr/>
          </p:nvPicPr>
          <p:blipFill>
            <a:blip r:embed="rId13"/>
            <a:stretch/>
          </p:blipFill>
          <p:spPr>
            <a:xfrm>
              <a:off x="2517840" y="2871720"/>
              <a:ext cx="8287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2727360" y="3084480"/>
              <a:ext cx="4078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529160" y="1878120"/>
            <a:ext cx="828720" cy="828720"/>
            <a:chOff x="4529160" y="1878120"/>
            <a:chExt cx="828720" cy="828720"/>
          </a:xfrm>
        </p:grpSpPr>
        <p:pic>
          <p:nvPicPr>
            <p:cNvPr id="62" name="椭圆 24" descr=""/>
            <p:cNvPicPr/>
            <p:nvPr/>
          </p:nvPicPr>
          <p:blipFill>
            <a:blip r:embed="rId14"/>
            <a:stretch/>
          </p:blipFill>
          <p:spPr>
            <a:xfrm>
              <a:off x="4529160" y="1878120"/>
              <a:ext cx="8287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4740120" y="2087640"/>
              <a:ext cx="4082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7858080" y="682560"/>
            <a:ext cx="974880" cy="987480"/>
            <a:chOff x="7858080" y="682560"/>
            <a:chExt cx="974880" cy="987480"/>
          </a:xfrm>
        </p:grpSpPr>
        <p:pic>
          <p:nvPicPr>
            <p:cNvPr id="65" name="椭圆 25" descr=""/>
            <p:cNvPicPr/>
            <p:nvPr/>
          </p:nvPicPr>
          <p:blipFill>
            <a:blip r:embed="rId15"/>
            <a:stretch/>
          </p:blipFill>
          <p:spPr>
            <a:xfrm>
              <a:off x="7858080" y="682560"/>
              <a:ext cx="9748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8091360" y="915840"/>
              <a:ext cx="5097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181320" y="4022640"/>
            <a:ext cx="914400" cy="914400"/>
            <a:chOff x="3181320" y="4022640"/>
            <a:chExt cx="914400" cy="914400"/>
          </a:xfrm>
        </p:grpSpPr>
        <p:pic>
          <p:nvPicPr>
            <p:cNvPr id="68" name="椭圆 26" descr=""/>
            <p:cNvPicPr/>
            <p:nvPr/>
          </p:nvPicPr>
          <p:blipFill>
            <a:blip r:embed="rId16"/>
            <a:stretch/>
          </p:blipFill>
          <p:spPr>
            <a:xfrm>
              <a:off x="3181320" y="402264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405240" y="4249800"/>
              <a:ext cx="4665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267000" y="2511360"/>
            <a:ext cx="744480" cy="744480"/>
            <a:chOff x="3267000" y="2511360"/>
            <a:chExt cx="744480" cy="744480"/>
          </a:xfrm>
        </p:grpSpPr>
        <p:pic>
          <p:nvPicPr>
            <p:cNvPr id="71" name="椭圆 31" descr=""/>
            <p:cNvPicPr/>
            <p:nvPr/>
          </p:nvPicPr>
          <p:blipFill>
            <a:blip r:embed="rId17"/>
            <a:stretch/>
          </p:blipFill>
          <p:spPr>
            <a:xfrm>
              <a:off x="3267000" y="2511360"/>
              <a:ext cx="74448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3467160" y="2712960"/>
              <a:ext cx="342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62280" y="2901960"/>
            <a:ext cx="914400" cy="914400"/>
            <a:chOff x="2762280" y="2901960"/>
            <a:chExt cx="914400" cy="914400"/>
          </a:xfrm>
        </p:grpSpPr>
        <p:pic>
          <p:nvPicPr>
            <p:cNvPr id="74" name="椭圆 21" descr=""/>
            <p:cNvPicPr/>
            <p:nvPr/>
          </p:nvPicPr>
          <p:blipFill>
            <a:blip r:embed="rId18"/>
            <a:stretch/>
          </p:blipFill>
          <p:spPr>
            <a:xfrm>
              <a:off x="2762280" y="290196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2986200" y="3127320"/>
              <a:ext cx="46656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816440" y="2511360"/>
            <a:ext cx="785880" cy="785880"/>
            <a:chOff x="4816440" y="2511360"/>
            <a:chExt cx="785880" cy="785880"/>
          </a:xfrm>
        </p:grpSpPr>
        <p:pic>
          <p:nvPicPr>
            <p:cNvPr id="77" name="椭圆 22" descr=""/>
            <p:cNvPicPr/>
            <p:nvPr/>
          </p:nvPicPr>
          <p:blipFill>
            <a:blip r:embed="rId19"/>
            <a:stretch/>
          </p:blipFill>
          <p:spPr>
            <a:xfrm>
              <a:off x="4816440" y="2511360"/>
              <a:ext cx="78588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5022720" y="2719440"/>
              <a:ext cx="3747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778800" y="781200"/>
            <a:ext cx="785520" cy="785520"/>
            <a:chOff x="6778800" y="781200"/>
            <a:chExt cx="785520" cy="785520"/>
          </a:xfrm>
        </p:grpSpPr>
        <p:pic>
          <p:nvPicPr>
            <p:cNvPr id="80" name="椭圆 27" descr=""/>
            <p:cNvPicPr/>
            <p:nvPr/>
          </p:nvPicPr>
          <p:blipFill>
            <a:blip r:embed="rId20"/>
            <a:stretch/>
          </p:blipFill>
          <p:spPr>
            <a:xfrm>
              <a:off x="6778800" y="781200"/>
              <a:ext cx="785520" cy="78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6981480" y="987120"/>
              <a:ext cx="376200" cy="37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347840" y="3005280"/>
            <a:ext cx="743040" cy="744480"/>
            <a:chOff x="1347840" y="3005280"/>
            <a:chExt cx="743040" cy="744480"/>
          </a:xfrm>
        </p:grpSpPr>
        <p:pic>
          <p:nvPicPr>
            <p:cNvPr id="83" name="椭圆 29" descr=""/>
            <p:cNvPicPr/>
            <p:nvPr/>
          </p:nvPicPr>
          <p:blipFill>
            <a:blip r:embed="rId21"/>
            <a:stretch/>
          </p:blipFill>
          <p:spPr>
            <a:xfrm>
              <a:off x="1347840" y="3005280"/>
              <a:ext cx="74304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546200" y="3206880"/>
              <a:ext cx="3445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33440" y="1203120"/>
            <a:ext cx="59720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2"/>
    <p:sldLayoutId id="2147483663" r:id="rId23"/>
    <p:sldLayoutId id="2147483664" r:id="rId24"/>
    <p:sldLayoutId id="2147483665" r:id="rId25"/>
    <p:sldLayoutId id="2147483666" r:id="rId26"/>
    <p:sldLayoutId id="2147483667" r:id="rId27"/>
    <p:sldLayoutId id="2147483668" r:id="rId28"/>
    <p:sldLayoutId id="2147483669" r:id="rId29"/>
    <p:sldLayoutId id="2147483670" r:id="rId30"/>
    <p:sldLayoutId id="2147483671" r:id="rId31"/>
    <p:sldLayoutId id="2147483672" r:id="rId32"/>
    <p:sldLayoutId id="2147483673" r:id="rId3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0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33440" y="1203120"/>
            <a:ext cx="59720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透明水珠艺术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995640" y="1922400"/>
            <a:ext cx="5113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554040"/>
            <a:ext cx="8209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272960"/>
            <a:ext cx="82296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2090880" y="1457280"/>
            <a:ext cx="4929120" cy="787320"/>
            <a:chOff x="2090880" y="1457280"/>
            <a:chExt cx="4929120" cy="787320"/>
          </a:xfrm>
        </p:grpSpPr>
        <p:grpSp>
          <p:nvGrpSpPr>
            <p:cNvPr id="128" name=""/>
            <p:cNvGrpSpPr/>
            <p:nvPr/>
          </p:nvGrpSpPr>
          <p:grpSpPr>
            <a:xfrm>
              <a:off x="2090880" y="1457280"/>
              <a:ext cx="4929120" cy="787320"/>
              <a:chOff x="2090880" y="1457280"/>
              <a:chExt cx="4929120" cy="787320"/>
            </a:xfrm>
          </p:grpSpPr>
          <p:pic>
            <p:nvPicPr>
              <p:cNvPr id="129" name="圆角矩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2090880" y="1457280"/>
                <a:ext cx="4929120" cy="78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"/>
              <p:cNvSpPr/>
              <p:nvPr/>
            </p:nvSpPr>
            <p:spPr>
              <a:xfrm>
                <a:off x="2259000" y="1574640"/>
                <a:ext cx="45846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31" name="标题 1"/>
            <p:cNvSpPr/>
            <p:nvPr/>
          </p:nvSpPr>
          <p:spPr>
            <a:xfrm>
              <a:off x="3057840" y="1496880"/>
              <a:ext cx="29862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090880" y="2370240"/>
            <a:ext cx="4929120" cy="787320"/>
            <a:chOff x="2090880" y="2370240"/>
            <a:chExt cx="4929120" cy="787320"/>
          </a:xfrm>
        </p:grpSpPr>
        <p:grpSp>
          <p:nvGrpSpPr>
            <p:cNvPr id="133" name=""/>
            <p:cNvGrpSpPr/>
            <p:nvPr/>
          </p:nvGrpSpPr>
          <p:grpSpPr>
            <a:xfrm>
              <a:off x="2090880" y="2370240"/>
              <a:ext cx="4929120" cy="787320"/>
              <a:chOff x="2090880" y="2370240"/>
              <a:chExt cx="4929120" cy="787320"/>
            </a:xfrm>
          </p:grpSpPr>
          <p:pic>
            <p:nvPicPr>
              <p:cNvPr id="134" name="圆角矩形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2090880" y="2370240"/>
                <a:ext cx="4929120" cy="78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2259000" y="2486160"/>
                <a:ext cx="45846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36" name="标题 1"/>
            <p:cNvSpPr/>
            <p:nvPr/>
          </p:nvSpPr>
          <p:spPr>
            <a:xfrm>
              <a:off x="3057840" y="2408760"/>
              <a:ext cx="29862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090880" y="3284640"/>
            <a:ext cx="4929120" cy="787320"/>
            <a:chOff x="2090880" y="3284640"/>
            <a:chExt cx="4929120" cy="787320"/>
          </a:xfrm>
        </p:grpSpPr>
        <p:grpSp>
          <p:nvGrpSpPr>
            <p:cNvPr id="138" name=""/>
            <p:cNvGrpSpPr/>
            <p:nvPr/>
          </p:nvGrpSpPr>
          <p:grpSpPr>
            <a:xfrm>
              <a:off x="2090880" y="3284640"/>
              <a:ext cx="4929120" cy="787320"/>
              <a:chOff x="2090880" y="3284640"/>
              <a:chExt cx="4929120" cy="787320"/>
            </a:xfrm>
          </p:grpSpPr>
          <p:pic>
            <p:nvPicPr>
              <p:cNvPr id="139" name="圆角矩形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090880" y="3284640"/>
                <a:ext cx="4929120" cy="78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2259000" y="3400560"/>
                <a:ext cx="45846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41" name="标题 1"/>
            <p:cNvSpPr/>
            <p:nvPr/>
          </p:nvSpPr>
          <p:spPr>
            <a:xfrm>
              <a:off x="3057840" y="3323160"/>
              <a:ext cx="29862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090880" y="4197240"/>
            <a:ext cx="4929120" cy="692280"/>
            <a:chOff x="2090880" y="4197240"/>
            <a:chExt cx="4929120" cy="692280"/>
          </a:xfrm>
        </p:grpSpPr>
        <p:grpSp>
          <p:nvGrpSpPr>
            <p:cNvPr id="143" name=""/>
            <p:cNvGrpSpPr/>
            <p:nvPr/>
          </p:nvGrpSpPr>
          <p:grpSpPr>
            <a:xfrm>
              <a:off x="2090880" y="4197240"/>
              <a:ext cx="4929120" cy="692280"/>
              <a:chOff x="2090880" y="4197240"/>
              <a:chExt cx="4929120" cy="692280"/>
            </a:xfrm>
          </p:grpSpPr>
          <p:pic>
            <p:nvPicPr>
              <p:cNvPr id="144" name="圆角矩形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2090880" y="4197240"/>
                <a:ext cx="4929120" cy="69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2259000" y="4298760"/>
                <a:ext cx="458460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46" name="标题 1"/>
            <p:cNvSpPr/>
            <p:nvPr/>
          </p:nvSpPr>
          <p:spPr>
            <a:xfrm>
              <a:off x="3038400" y="4264920"/>
              <a:ext cx="298620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944800" y="290520"/>
            <a:ext cx="3240000" cy="804960"/>
            <a:chOff x="2944800" y="290520"/>
            <a:chExt cx="3240000" cy="804960"/>
          </a:xfrm>
        </p:grpSpPr>
        <p:grpSp>
          <p:nvGrpSpPr>
            <p:cNvPr id="148" name=""/>
            <p:cNvGrpSpPr/>
            <p:nvPr/>
          </p:nvGrpSpPr>
          <p:grpSpPr>
            <a:xfrm>
              <a:off x="2959560" y="352800"/>
              <a:ext cx="3207960" cy="676440"/>
              <a:chOff x="2959560" y="352800"/>
              <a:chExt cx="3207960" cy="6764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2959560" y="352800"/>
                <a:ext cx="3207960" cy="676440"/>
                <a:chOff x="2959560" y="352800"/>
                <a:chExt cx="3207960" cy="676440"/>
              </a:xfrm>
            </p:grpSpPr>
            <p:pic>
              <p:nvPicPr>
                <p:cNvPr id="150" name="圆角矩形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959560" y="352800"/>
                  <a:ext cx="3207960" cy="676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" name=""/>
                <p:cNvSpPr/>
                <p:nvPr/>
              </p:nvSpPr>
              <p:spPr>
                <a:xfrm>
                  <a:off x="3125880" y="452160"/>
                  <a:ext cx="2873160" cy="42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52" name="圆角矩形 4"/>
              <p:cNvSpPr/>
              <p:nvPr/>
            </p:nvSpPr>
            <p:spPr>
              <a:xfrm>
                <a:off x="3095280" y="429840"/>
                <a:ext cx="2934360" cy="232920"/>
              </a:xfrm>
              <a:custGeom>
                <a:avLst/>
                <a:gdLst/>
                <a:ahLst/>
                <a:rect l="l" t="t" r="r" b="b"/>
                <a:pathLst>
                  <a:path w="6120680" h="1008112">
                    <a:moveTo>
                      <a:pt x="264035" y="0"/>
                    </a:moveTo>
                    <a:lnTo>
                      <a:pt x="5856645" y="0"/>
                    </a:lnTo>
                    <a:cubicBezTo>
                      <a:pt x="6002468" y="0"/>
                      <a:pt x="6120680" y="118212"/>
                      <a:pt x="6120680" y="264035"/>
                    </a:cubicBezTo>
                    <a:lnTo>
                      <a:pt x="6120680" y="1008112"/>
                    </a:lnTo>
                    <a:lnTo>
                      <a:pt x="0" y="1008112"/>
                    </a:lnTo>
                    <a:lnTo>
                      <a:pt x="0" y="264035"/>
                    </a:lnTo>
                    <a:cubicBezTo>
                      <a:pt x="0" y="118212"/>
                      <a:pt x="118212" y="0"/>
                      <a:pt x="26403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9d9d9"/>
                  </a:gs>
                  <a:gs pos="100000">
                    <a:srgbClr val="ffffff">
                      <a:alpha val="2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pic>
          <p:nvPicPr>
            <p:cNvPr id="153" name="标题 1" descr=""/>
            <p:cNvPicPr/>
            <p:nvPr/>
          </p:nvPicPr>
          <p:blipFill>
            <a:blip r:embed="rId6"/>
            <a:stretch/>
          </p:blipFill>
          <p:spPr>
            <a:xfrm>
              <a:off x="2944800" y="290520"/>
              <a:ext cx="3240000" cy="804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635040" y="2889360"/>
            <a:ext cx="2508120" cy="731880"/>
            <a:chOff x="635040" y="2889360"/>
            <a:chExt cx="2508120" cy="731880"/>
          </a:xfrm>
        </p:grpSpPr>
        <p:grpSp>
          <p:nvGrpSpPr>
            <p:cNvPr id="155" name=""/>
            <p:cNvGrpSpPr/>
            <p:nvPr/>
          </p:nvGrpSpPr>
          <p:grpSpPr>
            <a:xfrm>
              <a:off x="635040" y="2889360"/>
              <a:ext cx="2508120" cy="731880"/>
              <a:chOff x="635040" y="2889360"/>
              <a:chExt cx="2508120" cy="731880"/>
            </a:xfrm>
          </p:grpSpPr>
          <p:pic>
            <p:nvPicPr>
              <p:cNvPr id="156" name="圆角矩形 100" descr=""/>
              <p:cNvPicPr/>
              <p:nvPr/>
            </p:nvPicPr>
            <p:blipFill>
              <a:blip r:embed="rId1"/>
              <a:stretch/>
            </p:blipFill>
            <p:spPr>
              <a:xfrm>
                <a:off x="635040" y="2889360"/>
                <a:ext cx="2508120" cy="73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>
                <a:off x="793440" y="3000600"/>
                <a:ext cx="2184840" cy="4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58" name="标题 1"/>
            <p:cNvSpPr/>
            <p:nvPr/>
          </p:nvSpPr>
          <p:spPr>
            <a:xfrm>
              <a:off x="1186560" y="2932200"/>
              <a:ext cx="139824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149480" y="4118040"/>
            <a:ext cx="2508120" cy="730080"/>
            <a:chOff x="1149480" y="4118040"/>
            <a:chExt cx="2508120" cy="730080"/>
          </a:xfrm>
        </p:grpSpPr>
        <p:grpSp>
          <p:nvGrpSpPr>
            <p:cNvPr id="160" name=""/>
            <p:cNvGrpSpPr/>
            <p:nvPr/>
          </p:nvGrpSpPr>
          <p:grpSpPr>
            <a:xfrm>
              <a:off x="1149480" y="4118040"/>
              <a:ext cx="2508120" cy="730080"/>
              <a:chOff x="1149480" y="4118040"/>
              <a:chExt cx="2508120" cy="730080"/>
            </a:xfrm>
          </p:grpSpPr>
          <p:pic>
            <p:nvPicPr>
              <p:cNvPr id="161" name="圆角矩形 103" descr=""/>
              <p:cNvPicPr/>
              <p:nvPr/>
            </p:nvPicPr>
            <p:blipFill>
              <a:blip r:embed="rId2"/>
              <a:stretch/>
            </p:blipFill>
            <p:spPr>
              <a:xfrm>
                <a:off x="1149480" y="4118040"/>
                <a:ext cx="2508120" cy="73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"/>
              <p:cNvSpPr/>
              <p:nvPr/>
            </p:nvSpPr>
            <p:spPr>
              <a:xfrm>
                <a:off x="1304640" y="4227480"/>
                <a:ext cx="218952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63" name="标题 1"/>
            <p:cNvSpPr/>
            <p:nvPr/>
          </p:nvSpPr>
          <p:spPr>
            <a:xfrm>
              <a:off x="1698840" y="4159080"/>
              <a:ext cx="14011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446800" y="4118040"/>
            <a:ext cx="2508120" cy="730080"/>
            <a:chOff x="5446800" y="4118040"/>
            <a:chExt cx="2508120" cy="730080"/>
          </a:xfrm>
        </p:grpSpPr>
        <p:grpSp>
          <p:nvGrpSpPr>
            <p:cNvPr id="165" name=""/>
            <p:cNvGrpSpPr/>
            <p:nvPr/>
          </p:nvGrpSpPr>
          <p:grpSpPr>
            <a:xfrm>
              <a:off x="5446800" y="4118040"/>
              <a:ext cx="2508120" cy="730080"/>
              <a:chOff x="5446800" y="4118040"/>
              <a:chExt cx="2508120" cy="730080"/>
            </a:xfrm>
          </p:grpSpPr>
          <p:pic>
            <p:nvPicPr>
              <p:cNvPr id="166" name="圆角矩形 106" descr=""/>
              <p:cNvPicPr/>
              <p:nvPr/>
            </p:nvPicPr>
            <p:blipFill>
              <a:blip r:embed="rId3"/>
              <a:stretch/>
            </p:blipFill>
            <p:spPr>
              <a:xfrm>
                <a:off x="5446800" y="4118040"/>
                <a:ext cx="2508120" cy="73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"/>
              <p:cNvSpPr/>
              <p:nvPr/>
            </p:nvSpPr>
            <p:spPr>
              <a:xfrm>
                <a:off x="5606640" y="4227480"/>
                <a:ext cx="218484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68" name="标题 1"/>
            <p:cNvSpPr/>
            <p:nvPr/>
          </p:nvSpPr>
          <p:spPr>
            <a:xfrm>
              <a:off x="6000120" y="4159080"/>
              <a:ext cx="13982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5951520" y="2889360"/>
            <a:ext cx="2508120" cy="731880"/>
            <a:chOff x="5951520" y="2889360"/>
            <a:chExt cx="2508120" cy="731880"/>
          </a:xfrm>
        </p:grpSpPr>
        <p:grpSp>
          <p:nvGrpSpPr>
            <p:cNvPr id="170" name=""/>
            <p:cNvGrpSpPr/>
            <p:nvPr/>
          </p:nvGrpSpPr>
          <p:grpSpPr>
            <a:xfrm>
              <a:off x="5951520" y="2889360"/>
              <a:ext cx="2508120" cy="731880"/>
              <a:chOff x="5951520" y="2889360"/>
              <a:chExt cx="2508120" cy="731880"/>
            </a:xfrm>
          </p:grpSpPr>
          <p:pic>
            <p:nvPicPr>
              <p:cNvPr id="171" name="圆角矩形 109" descr=""/>
              <p:cNvPicPr/>
              <p:nvPr/>
            </p:nvPicPr>
            <p:blipFill>
              <a:blip r:embed="rId4"/>
              <a:stretch/>
            </p:blipFill>
            <p:spPr>
              <a:xfrm>
                <a:off x="5951520" y="2889360"/>
                <a:ext cx="2508120" cy="73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"/>
              <p:cNvSpPr/>
              <p:nvPr/>
            </p:nvSpPr>
            <p:spPr>
              <a:xfrm>
                <a:off x="6110640" y="3000600"/>
                <a:ext cx="2184840" cy="4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73" name="标题 1"/>
            <p:cNvSpPr/>
            <p:nvPr/>
          </p:nvSpPr>
          <p:spPr>
            <a:xfrm>
              <a:off x="6503760" y="2932200"/>
              <a:ext cx="139824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413320" y="1685880"/>
            <a:ext cx="2508480" cy="731880"/>
            <a:chOff x="5413320" y="1685880"/>
            <a:chExt cx="2508480" cy="731880"/>
          </a:xfrm>
        </p:grpSpPr>
        <p:grpSp>
          <p:nvGrpSpPr>
            <p:cNvPr id="175" name=""/>
            <p:cNvGrpSpPr/>
            <p:nvPr/>
          </p:nvGrpSpPr>
          <p:grpSpPr>
            <a:xfrm>
              <a:off x="5413320" y="1685880"/>
              <a:ext cx="2508480" cy="731880"/>
              <a:chOff x="5413320" y="1685880"/>
              <a:chExt cx="2508480" cy="731880"/>
            </a:xfrm>
          </p:grpSpPr>
          <p:pic>
            <p:nvPicPr>
              <p:cNvPr id="176" name="圆角矩形 112" descr=""/>
              <p:cNvPicPr/>
              <p:nvPr/>
            </p:nvPicPr>
            <p:blipFill>
              <a:blip r:embed="rId5"/>
              <a:stretch/>
            </p:blipFill>
            <p:spPr>
              <a:xfrm>
                <a:off x="5413320" y="1685880"/>
                <a:ext cx="2508480" cy="73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"/>
              <p:cNvSpPr/>
              <p:nvPr/>
            </p:nvSpPr>
            <p:spPr>
              <a:xfrm>
                <a:off x="5571360" y="1796040"/>
                <a:ext cx="218988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78" name="标题 1"/>
            <p:cNvSpPr/>
            <p:nvPr/>
          </p:nvSpPr>
          <p:spPr>
            <a:xfrm>
              <a:off x="5965200" y="1727280"/>
              <a:ext cx="14014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211400" y="1685880"/>
            <a:ext cx="2508120" cy="731880"/>
            <a:chOff x="1211400" y="1685880"/>
            <a:chExt cx="2508120" cy="731880"/>
          </a:xfrm>
        </p:grpSpPr>
        <p:grpSp>
          <p:nvGrpSpPr>
            <p:cNvPr id="180" name=""/>
            <p:cNvGrpSpPr/>
            <p:nvPr/>
          </p:nvGrpSpPr>
          <p:grpSpPr>
            <a:xfrm>
              <a:off x="1211400" y="1685880"/>
              <a:ext cx="2508120" cy="731880"/>
              <a:chOff x="1211400" y="1685880"/>
              <a:chExt cx="2508120" cy="731880"/>
            </a:xfrm>
          </p:grpSpPr>
          <p:pic>
            <p:nvPicPr>
              <p:cNvPr id="181" name="圆角矩形 91" descr=""/>
              <p:cNvPicPr/>
              <p:nvPr/>
            </p:nvPicPr>
            <p:blipFill>
              <a:blip r:embed="rId6"/>
              <a:stretch/>
            </p:blipFill>
            <p:spPr>
              <a:xfrm>
                <a:off x="1211400" y="1685880"/>
                <a:ext cx="2508120" cy="73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>
                <a:off x="1367640" y="1796040"/>
                <a:ext cx="21895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83" name="标题 1"/>
            <p:cNvSpPr/>
            <p:nvPr/>
          </p:nvSpPr>
          <p:spPr>
            <a:xfrm>
              <a:off x="1761480" y="1727280"/>
              <a:ext cx="140112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959200" y="355680"/>
            <a:ext cx="3209760" cy="674640"/>
            <a:chOff x="2959200" y="355680"/>
            <a:chExt cx="3209760" cy="674640"/>
          </a:xfrm>
        </p:grpSpPr>
        <p:grpSp>
          <p:nvGrpSpPr>
            <p:cNvPr id="185" name=""/>
            <p:cNvGrpSpPr/>
            <p:nvPr/>
          </p:nvGrpSpPr>
          <p:grpSpPr>
            <a:xfrm>
              <a:off x="2959200" y="355680"/>
              <a:ext cx="3209760" cy="674640"/>
              <a:chOff x="2959200" y="355680"/>
              <a:chExt cx="3209760" cy="674640"/>
            </a:xfrm>
          </p:grpSpPr>
          <p:pic>
            <p:nvPicPr>
              <p:cNvPr id="186" name="圆角矩形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2959200" y="355680"/>
                <a:ext cx="3209760" cy="67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3125520" y="454680"/>
                <a:ext cx="2874960" cy="41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88" name="圆角矩形 4"/>
            <p:cNvSpPr/>
            <p:nvPr/>
          </p:nvSpPr>
          <p:spPr>
            <a:xfrm>
              <a:off x="3094920" y="432360"/>
              <a:ext cx="2935800" cy="232200"/>
            </a:xfrm>
            <a:custGeom>
              <a:avLst/>
              <a:gdLst/>
              <a:ahLst/>
              <a:rect l="l" t="t" r="r" b="b"/>
              <a:pathLst>
                <a:path w="6120680" h="1008112">
                  <a:moveTo>
                    <a:pt x="264035" y="0"/>
                  </a:moveTo>
                  <a:lnTo>
                    <a:pt x="5856645" y="0"/>
                  </a:lnTo>
                  <a:cubicBezTo>
                    <a:pt x="6002468" y="0"/>
                    <a:pt x="6120680" y="118212"/>
                    <a:pt x="6120680" y="264035"/>
                  </a:cubicBezTo>
                  <a:lnTo>
                    <a:pt x="6120680" y="1008112"/>
                  </a:lnTo>
                  <a:lnTo>
                    <a:pt x="0" y="1008112"/>
                  </a:lnTo>
                  <a:lnTo>
                    <a:pt x="0" y="264035"/>
                  </a:lnTo>
                  <a:cubicBezTo>
                    <a:pt x="0" y="118212"/>
                    <a:pt x="118212" y="0"/>
                    <a:pt x="26403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9d9"/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9" name="AutoShape 73"/>
          <p:cNvSpPr/>
          <p:nvPr/>
        </p:nvSpPr>
        <p:spPr>
          <a:xfrm rot="2700000">
            <a:off x="3666600" y="1881000"/>
            <a:ext cx="720720" cy="927000"/>
          </a:xfrm>
          <a:prstGeom prst="rightArrow">
            <a:avLst>
              <a:gd name="adj1" fmla="val 70389"/>
              <a:gd name="adj2" fmla="val 63769"/>
            </a:avLst>
          </a:prstGeom>
          <a:solidFill>
            <a:srgbClr val="000000">
              <a:alpha val="30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AutoShape 67"/>
          <p:cNvSpPr/>
          <p:nvPr/>
        </p:nvSpPr>
        <p:spPr>
          <a:xfrm flipH="1" rot="18900000">
            <a:off x="4684320" y="1869120"/>
            <a:ext cx="719280" cy="927360"/>
          </a:xfrm>
          <a:prstGeom prst="rightArrow">
            <a:avLst>
              <a:gd name="adj1" fmla="val 70389"/>
              <a:gd name="adj2" fmla="val 63769"/>
            </a:avLst>
          </a:prstGeom>
          <a:solidFill>
            <a:srgbClr val="000000">
              <a:alpha val="30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AutoShape 69"/>
          <p:cNvSpPr/>
          <p:nvPr/>
        </p:nvSpPr>
        <p:spPr>
          <a:xfrm flipH="1" rot="2700000">
            <a:off x="4606560" y="3847680"/>
            <a:ext cx="928800" cy="720720"/>
          </a:xfrm>
          <a:prstGeom prst="rightArrow">
            <a:avLst>
              <a:gd name="adj1" fmla="val 70389"/>
              <a:gd name="adj2" fmla="val 83229"/>
            </a:avLst>
          </a:prstGeom>
          <a:solidFill>
            <a:srgbClr val="000000">
              <a:alpha val="30000"/>
            </a:srgbClr>
          </a:solidFill>
          <a:ln w="0">
            <a:noFill/>
          </a:ln>
          <a:effectLst>
            <a:outerShdw dist="38183" dir="81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71"/>
          <p:cNvSpPr/>
          <p:nvPr/>
        </p:nvSpPr>
        <p:spPr>
          <a:xfrm>
            <a:off x="3068640" y="2813040"/>
            <a:ext cx="722160" cy="927000"/>
          </a:xfrm>
          <a:prstGeom prst="rightArrow">
            <a:avLst>
              <a:gd name="adj1" fmla="val 70389"/>
              <a:gd name="adj2" fmla="val 62116"/>
            </a:avLst>
          </a:prstGeom>
          <a:solidFill>
            <a:srgbClr val="000000">
              <a:alpha val="30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49"/>
          <p:cNvSpPr/>
          <p:nvPr/>
        </p:nvSpPr>
        <p:spPr>
          <a:xfrm flipH="1">
            <a:off x="5257800" y="2813040"/>
            <a:ext cx="720720" cy="927000"/>
          </a:xfrm>
          <a:prstGeom prst="rightArrow">
            <a:avLst>
              <a:gd name="adj1" fmla="val 70389"/>
              <a:gd name="adj2" fmla="val 68255"/>
            </a:avLst>
          </a:prstGeom>
          <a:solidFill>
            <a:srgbClr val="000000">
              <a:alpha val="30000"/>
            </a:srgbClr>
          </a:solidFill>
          <a:ln w="0">
            <a:noFill/>
          </a:ln>
          <a:effectLst>
            <a:outerShdw dist="38183" dir="81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75"/>
          <p:cNvSpPr/>
          <p:nvPr/>
        </p:nvSpPr>
        <p:spPr>
          <a:xfrm rot="18900000">
            <a:off x="3552480" y="3847680"/>
            <a:ext cx="939960" cy="720720"/>
          </a:xfrm>
          <a:prstGeom prst="rightArrow">
            <a:avLst>
              <a:gd name="adj1" fmla="val 70389"/>
              <a:gd name="adj2" fmla="val 85678"/>
            </a:avLst>
          </a:prstGeom>
          <a:solidFill>
            <a:srgbClr val="000000">
              <a:alpha val="30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970520" y="1708200"/>
            <a:ext cx="712800" cy="685800"/>
            <a:chOff x="4970520" y="1708200"/>
            <a:chExt cx="712800" cy="685800"/>
          </a:xfrm>
        </p:grpSpPr>
        <p:grpSp>
          <p:nvGrpSpPr>
            <p:cNvPr id="196" name=""/>
            <p:cNvGrpSpPr/>
            <p:nvPr/>
          </p:nvGrpSpPr>
          <p:grpSpPr>
            <a:xfrm>
              <a:off x="4970520" y="1708200"/>
              <a:ext cx="712800" cy="685800"/>
              <a:chOff x="4970520" y="1708200"/>
              <a:chExt cx="712800" cy="68580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4970520" y="1708200"/>
                <a:ext cx="712800" cy="685800"/>
                <a:chOff x="4970520" y="1708200"/>
                <a:chExt cx="712800" cy="685800"/>
              </a:xfrm>
            </p:grpSpPr>
            <p:pic>
              <p:nvPicPr>
                <p:cNvPr id="198" name="椭圆 3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970520" y="1708200"/>
                  <a:ext cx="71280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9" name="Text Box 55"/>
                <p:cNvSpPr/>
                <p:nvPr/>
              </p:nvSpPr>
              <p:spPr>
                <a:xfrm rot="10107600">
                  <a:off x="5129640" y="1865520"/>
                  <a:ext cx="392760" cy="37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00" name="椭圆 35"/>
              <p:cNvSpPr/>
              <p:nvPr/>
            </p:nvSpPr>
            <p:spPr>
              <a:xfrm>
                <a:off x="5129280" y="1794600"/>
                <a:ext cx="396000" cy="2869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01" name="Text Box 18"/>
            <p:cNvSpPr/>
            <p:nvPr/>
          </p:nvSpPr>
          <p:spPr>
            <a:xfrm>
              <a:off x="5008320" y="1911240"/>
              <a:ext cx="63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384720" y="4132440"/>
            <a:ext cx="712440" cy="687240"/>
            <a:chOff x="3384720" y="4132440"/>
            <a:chExt cx="712440" cy="687240"/>
          </a:xfrm>
        </p:grpSpPr>
        <p:grpSp>
          <p:nvGrpSpPr>
            <p:cNvPr id="203" name=""/>
            <p:cNvGrpSpPr/>
            <p:nvPr/>
          </p:nvGrpSpPr>
          <p:grpSpPr>
            <a:xfrm>
              <a:off x="3384720" y="4132440"/>
              <a:ext cx="712440" cy="687240"/>
              <a:chOff x="3384720" y="4132440"/>
              <a:chExt cx="712440" cy="68724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3384720" y="4132440"/>
                <a:ext cx="712440" cy="687240"/>
                <a:chOff x="3384720" y="4132440"/>
                <a:chExt cx="712440" cy="687240"/>
              </a:xfrm>
            </p:grpSpPr>
            <p:pic>
              <p:nvPicPr>
                <p:cNvPr id="205" name="椭圆 39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384720" y="4132440"/>
                  <a:ext cx="712440" cy="68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6" name="Text Box 49"/>
                <p:cNvSpPr/>
                <p:nvPr/>
              </p:nvSpPr>
              <p:spPr>
                <a:xfrm rot="10107600">
                  <a:off x="3543480" y="4289040"/>
                  <a:ext cx="392760" cy="37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07" name="椭圆 40"/>
              <p:cNvSpPr/>
              <p:nvPr/>
            </p:nvSpPr>
            <p:spPr>
              <a:xfrm>
                <a:off x="3543120" y="4218480"/>
                <a:ext cx="395640" cy="2901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08" name="Text Box 18"/>
            <p:cNvSpPr/>
            <p:nvPr/>
          </p:nvSpPr>
          <p:spPr>
            <a:xfrm>
              <a:off x="3422520" y="4335480"/>
              <a:ext cx="63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2627280" y="2932200"/>
            <a:ext cx="712800" cy="687240"/>
            <a:chOff x="2627280" y="2932200"/>
            <a:chExt cx="712800" cy="687240"/>
          </a:xfrm>
        </p:grpSpPr>
        <p:grpSp>
          <p:nvGrpSpPr>
            <p:cNvPr id="210" name=""/>
            <p:cNvGrpSpPr/>
            <p:nvPr/>
          </p:nvGrpSpPr>
          <p:grpSpPr>
            <a:xfrm>
              <a:off x="2627280" y="2932200"/>
              <a:ext cx="712800" cy="687240"/>
              <a:chOff x="2627280" y="2932200"/>
              <a:chExt cx="712800" cy="687240"/>
            </a:xfrm>
          </p:grpSpPr>
          <p:grpSp>
            <p:nvGrpSpPr>
              <p:cNvPr id="211" name=""/>
              <p:cNvGrpSpPr/>
              <p:nvPr/>
            </p:nvGrpSpPr>
            <p:grpSpPr>
              <a:xfrm>
                <a:off x="2627280" y="2932200"/>
                <a:ext cx="712800" cy="687240"/>
                <a:chOff x="2627280" y="2932200"/>
                <a:chExt cx="712800" cy="687240"/>
              </a:xfrm>
            </p:grpSpPr>
            <p:pic>
              <p:nvPicPr>
                <p:cNvPr id="212" name="椭圆 4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627280" y="2932200"/>
                  <a:ext cx="712800" cy="68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3" name="Text Box 43"/>
                <p:cNvSpPr/>
                <p:nvPr/>
              </p:nvSpPr>
              <p:spPr>
                <a:xfrm rot="10107600">
                  <a:off x="2784600" y="3089520"/>
                  <a:ext cx="392760" cy="37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14" name="椭圆 45"/>
              <p:cNvSpPr/>
              <p:nvPr/>
            </p:nvSpPr>
            <p:spPr>
              <a:xfrm>
                <a:off x="2784600" y="3018600"/>
                <a:ext cx="396000" cy="2901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15" name="Text Box 18"/>
            <p:cNvSpPr/>
            <p:nvPr/>
          </p:nvSpPr>
          <p:spPr>
            <a:xfrm>
              <a:off x="2665080" y="3135240"/>
              <a:ext cx="63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216" name="组合 46" descr=""/>
          <p:cNvPicPr/>
          <p:nvPr/>
        </p:nvPicPr>
        <p:blipFill>
          <a:blip r:embed="rId11"/>
          <a:stretch/>
        </p:blipFill>
        <p:spPr>
          <a:xfrm>
            <a:off x="0" y="1603440"/>
            <a:ext cx="914400" cy="89532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5748480" y="2932200"/>
            <a:ext cx="712800" cy="687240"/>
            <a:chOff x="5748480" y="2932200"/>
            <a:chExt cx="712800" cy="687240"/>
          </a:xfrm>
        </p:grpSpPr>
        <p:grpSp>
          <p:nvGrpSpPr>
            <p:cNvPr id="218" name=""/>
            <p:cNvGrpSpPr/>
            <p:nvPr/>
          </p:nvGrpSpPr>
          <p:grpSpPr>
            <a:xfrm>
              <a:off x="5748480" y="2932200"/>
              <a:ext cx="712800" cy="687240"/>
              <a:chOff x="5748480" y="2932200"/>
              <a:chExt cx="712800" cy="68724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5748480" y="2932200"/>
                <a:ext cx="712800" cy="687240"/>
                <a:chOff x="5748480" y="2932200"/>
                <a:chExt cx="712800" cy="687240"/>
              </a:xfrm>
            </p:grpSpPr>
            <p:pic>
              <p:nvPicPr>
                <p:cNvPr id="220" name="椭圆 54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748480" y="2932200"/>
                  <a:ext cx="712800" cy="68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Text Box 31"/>
                <p:cNvSpPr/>
                <p:nvPr/>
              </p:nvSpPr>
              <p:spPr>
                <a:xfrm rot="10107600">
                  <a:off x="5906160" y="3089520"/>
                  <a:ext cx="392760" cy="37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22" name="椭圆 55"/>
              <p:cNvSpPr/>
              <p:nvPr/>
            </p:nvSpPr>
            <p:spPr>
              <a:xfrm>
                <a:off x="5905800" y="3018600"/>
                <a:ext cx="396000" cy="2901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23" name="Text Box 18"/>
            <p:cNvSpPr/>
            <p:nvPr/>
          </p:nvSpPr>
          <p:spPr>
            <a:xfrm>
              <a:off x="5786280" y="3135240"/>
              <a:ext cx="63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049720" y="4156200"/>
            <a:ext cx="712800" cy="687240"/>
            <a:chOff x="5049720" y="4156200"/>
            <a:chExt cx="712800" cy="687240"/>
          </a:xfrm>
        </p:grpSpPr>
        <p:grpSp>
          <p:nvGrpSpPr>
            <p:cNvPr id="225" name=""/>
            <p:cNvGrpSpPr/>
            <p:nvPr/>
          </p:nvGrpSpPr>
          <p:grpSpPr>
            <a:xfrm>
              <a:off x="5049720" y="4156200"/>
              <a:ext cx="712800" cy="687240"/>
              <a:chOff x="5049720" y="4156200"/>
              <a:chExt cx="712800" cy="68724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5049720" y="4156200"/>
                <a:ext cx="712800" cy="687240"/>
                <a:chOff x="5049720" y="4156200"/>
                <a:chExt cx="712800" cy="687240"/>
              </a:xfrm>
            </p:grpSpPr>
            <p:pic>
              <p:nvPicPr>
                <p:cNvPr id="227" name="椭圆 5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049720" y="4156200"/>
                  <a:ext cx="712800" cy="68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8" name="Text Box 25"/>
                <p:cNvSpPr/>
                <p:nvPr/>
              </p:nvSpPr>
              <p:spPr>
                <a:xfrm rot="10107600">
                  <a:off x="5208840" y="4312440"/>
                  <a:ext cx="392760" cy="37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29" name="椭圆 60"/>
              <p:cNvSpPr/>
              <p:nvPr/>
            </p:nvSpPr>
            <p:spPr>
              <a:xfrm>
                <a:off x="5208840" y="4241520"/>
                <a:ext cx="396000" cy="2901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30" name="Text Box 18"/>
            <p:cNvSpPr/>
            <p:nvPr/>
          </p:nvSpPr>
          <p:spPr>
            <a:xfrm>
              <a:off x="5087520" y="4359240"/>
              <a:ext cx="63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817800" y="2590920"/>
            <a:ext cx="1409760" cy="1357200"/>
            <a:chOff x="3817800" y="2590920"/>
            <a:chExt cx="1409760" cy="1357200"/>
          </a:xfrm>
        </p:grpSpPr>
        <p:grpSp>
          <p:nvGrpSpPr>
            <p:cNvPr id="232" name=""/>
            <p:cNvGrpSpPr/>
            <p:nvPr/>
          </p:nvGrpSpPr>
          <p:grpSpPr>
            <a:xfrm>
              <a:off x="3817800" y="2590920"/>
              <a:ext cx="1409760" cy="1357200"/>
              <a:chOff x="3817800" y="2590920"/>
              <a:chExt cx="1409760" cy="135720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3817800" y="2590920"/>
                <a:ext cx="1409760" cy="1357200"/>
                <a:chOff x="3817800" y="2590920"/>
                <a:chExt cx="1409760" cy="1357200"/>
              </a:xfrm>
            </p:grpSpPr>
            <p:pic>
              <p:nvPicPr>
                <p:cNvPr id="234" name="椭圆 1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3817800" y="2590920"/>
                  <a:ext cx="1409760" cy="1357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5" name="Text Box 61"/>
                <p:cNvSpPr/>
                <p:nvPr/>
              </p:nvSpPr>
              <p:spPr>
                <a:xfrm rot="10107600">
                  <a:off x="4086720" y="2852640"/>
                  <a:ext cx="873360" cy="83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6" name="椭圆 16"/>
              <p:cNvSpPr/>
              <p:nvPr/>
            </p:nvSpPr>
            <p:spPr>
              <a:xfrm>
                <a:off x="4083840" y="2695680"/>
                <a:ext cx="881640" cy="6422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37" name="Text Box 18"/>
            <p:cNvSpPr/>
            <p:nvPr/>
          </p:nvSpPr>
          <p:spPr>
            <a:xfrm>
              <a:off x="3903480" y="3098880"/>
              <a:ext cx="125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本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280" y="338040"/>
            <a:ext cx="8209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/>
          <p:nvPr/>
        </p:nvSpPr>
        <p:spPr>
          <a:xfrm>
            <a:off x="7093080" y="53784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 Narrow"/>
              </a:rPr>
              <a:t>来源</a:t>
            </a:r>
            <a:r>
              <a:rPr b="1" lang="zh-CN" sz="1800" spc="-1" strike="noStrike">
                <a:solidFill>
                  <a:srgbClr val="1c1c1c"/>
                </a:solidFill>
                <a:latin typeface="Arial Narrow"/>
              </a:rPr>
              <a:t>:www.eeppt.com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"/>
          <p:cNvSpPr/>
          <p:nvPr/>
        </p:nvSpPr>
        <p:spPr>
          <a:xfrm>
            <a:off x="920880" y="1693800"/>
            <a:ext cx="68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创意设计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模板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http://www.eeppt.com/moban/chuangyi/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8.89438E-007 C 0.06944 0.08462 0.08628 0.25633 0.03715 0.38264 C -0.01181 0.50865 -0.10781 0.54169 -0.17709 0.45738 C -0.24636 0.37276 -0.26233 0.20105 -0.21337 0.07474 C -0.16493 -0.05127 -0.06945 -0.08431 1.94444E-006 8.89438E-007 Z">
                                      <p:cBhvr>
                                        <p:cTn id="52" dur="1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1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2.77778E-006 1.60593E-006 C -0.00243 0.15164 -0.07761 0.26436 -0.16163 0.25911 C -0.25139 0.25139 -0.3165 0.12075 -0.30521 -0.03058 C -0.30834 -0.18221 -0.23455 -0.29864 -0.14792 -0.2903 C -0.06077 -0.28197 0.00677 -0.15195 2.77778E-006 1.60593E-006 Z">
                                      <p:cBhvr>
                                        <p:cTn id="61" dur="1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1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2.5E-006 -3.3601E-006 C -0.07083 0.0874 -0.1684 0.05312 -0.21875 -0.07566 C -0.26944 -0.20352 -0.25347 -0.37986 -0.18264 -0.46726 C -0.11215 -0.55435 -0.01423 -0.52007 0.03611 -0.39098 C 0.08646 -0.26281 0.07032 -0.08709 -2.5E-006 -3.3601E-006 Z">
                                      <p:cBhvr>
                                        <p:cTn id="70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1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4.16667E-006 -2.85361E-006 C -0.06875 -0.09079 -0.08212 -0.26806 -0.029 -0.39561 C 0.02395 -0.52223 0.12291 -0.55281 0.19201 -0.46232 C 0.26059 -0.37152 0.27343 -0.19456 0.22083 -0.06701 C 0.16788 0.06023 0.06909 0.09049 4.16667E-006 -2.85361E-006 Z">
                                      <p:cBhvr>
                                        <p:cTn id="79" dur="1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1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1.66667E-006 1.09944E-006 C 1.66667E-006 -0.1572 0.07205 -0.28536 0.16042 -0.28536 C 0.24878 -0.28536 0.32048 -0.1572 0.32048 1.09944E-006 C 0.32048 0.1575 0.24878 0.28505 0.16042 0.28505 C 0.07205 0.28505 1.66667E-006 0.1575 1.66667E-006 1.09944E-006 Z">
                                      <p:cBhvr>
                                        <p:cTn id="88" dur="1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1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16667E-006 7.41198E-008 C 0.07101 -0.09574 0.17275 -0.07319 0.2257 0.05096 C 0.27917 0.17573 0.26493 0.35608 0.19358 0.45213 C 0.12223 0.54818 0.02101 0.52532 -0.03211 0.40056 C -0.08524 0.27579 -0.07083 0.09543 -4.16667E-006 7.41198E-008 Z">
                                      <p:cBhvr>
                                        <p:cTn id="97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4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4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400"/>
                            </p:stCondLst>
                            <p:childTnLst>
                              <p:par>
                                <p:cTn id="12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2959200" y="355680"/>
            <a:ext cx="3209760" cy="674640"/>
            <a:chOff x="2959200" y="355680"/>
            <a:chExt cx="3209760" cy="674640"/>
          </a:xfrm>
        </p:grpSpPr>
        <p:grpSp>
          <p:nvGrpSpPr>
            <p:cNvPr id="242" name=""/>
            <p:cNvGrpSpPr/>
            <p:nvPr/>
          </p:nvGrpSpPr>
          <p:grpSpPr>
            <a:xfrm>
              <a:off x="2959200" y="355680"/>
              <a:ext cx="3209760" cy="674640"/>
              <a:chOff x="2959200" y="355680"/>
              <a:chExt cx="3209760" cy="674640"/>
            </a:xfrm>
          </p:grpSpPr>
          <p:pic>
            <p:nvPicPr>
              <p:cNvPr id="243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2959200" y="355680"/>
                <a:ext cx="3209760" cy="67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"/>
              <p:cNvSpPr/>
              <p:nvPr/>
            </p:nvSpPr>
            <p:spPr>
              <a:xfrm>
                <a:off x="3125520" y="454680"/>
                <a:ext cx="2874960" cy="41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45" name="圆角矩形 4"/>
            <p:cNvSpPr/>
            <p:nvPr/>
          </p:nvSpPr>
          <p:spPr>
            <a:xfrm>
              <a:off x="3094920" y="432360"/>
              <a:ext cx="2935800" cy="232200"/>
            </a:xfrm>
            <a:custGeom>
              <a:avLst/>
              <a:gdLst/>
              <a:ahLst/>
              <a:rect l="l" t="t" r="r" b="b"/>
              <a:pathLst>
                <a:path w="6120680" h="1008112">
                  <a:moveTo>
                    <a:pt x="264035" y="0"/>
                  </a:moveTo>
                  <a:lnTo>
                    <a:pt x="5856645" y="0"/>
                  </a:lnTo>
                  <a:cubicBezTo>
                    <a:pt x="6002468" y="0"/>
                    <a:pt x="6120680" y="118212"/>
                    <a:pt x="6120680" y="264035"/>
                  </a:cubicBezTo>
                  <a:lnTo>
                    <a:pt x="6120680" y="1008112"/>
                  </a:lnTo>
                  <a:lnTo>
                    <a:pt x="0" y="1008112"/>
                  </a:lnTo>
                  <a:lnTo>
                    <a:pt x="0" y="264035"/>
                  </a:lnTo>
                  <a:cubicBezTo>
                    <a:pt x="0" y="118212"/>
                    <a:pt x="118212" y="0"/>
                    <a:pt x="26403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9d9"/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46" name="矩形 6"/>
          <p:cNvSpPr/>
          <p:nvPr/>
        </p:nvSpPr>
        <p:spPr>
          <a:xfrm>
            <a:off x="3921120" y="192096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微软雅黑"/>
                <a:ea typeface="微软雅黑"/>
              </a:rPr>
              <a:t>在此添加文字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7" name="Picture 2" descr="E:\图片夹\素材类\20090821_8e2ca1c6ba7ba7d3ca9asCTGdQJLNE87.jpg"/>
          <p:cNvPicPr/>
          <p:nvPr/>
        </p:nvPicPr>
        <p:blipFill>
          <a:blip r:embed="rId2"/>
          <a:stretch/>
        </p:blipFill>
        <p:spPr>
          <a:xfrm>
            <a:off x="755640" y="1922400"/>
            <a:ext cx="2968560" cy="22798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8040"/>
            <a:ext cx="8066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5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标题 1" descr=""/>
          <p:cNvPicPr/>
          <p:nvPr/>
        </p:nvPicPr>
        <p:blipFill>
          <a:blip r:embed="rId1"/>
          <a:srcRect l="0" t="0" r="0" b="33607"/>
          <a:stretch/>
        </p:blipFill>
        <p:spPr>
          <a:xfrm>
            <a:off x="3998880" y="1201680"/>
            <a:ext cx="5145120" cy="7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02:13:24Z</dcterms:created>
  <dc:creator/>
  <dc:description/>
  <dc:language>en-US</dc:language>
  <cp:lastModifiedBy>USER</cp:lastModifiedBy>
  <dcterms:modified xsi:type="dcterms:W3CDTF">2015-07-04T08:37:50Z</dcterms:modified>
  <cp:revision>4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