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1FAB-E963-4D4E-8F39-A2E4EDCC6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128E-BBE9-4B13-8070-1F18E8766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BF17-39C1-482F-8F66-AA8B8494C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DF54-2861-4279-A21F-812912D3B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348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46BC-9B73-40A8-8B08-46897F19F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031C-8B43-425B-904A-2F0B36DBA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8AB9-8426-4B13-9EA8-3D8C3CA90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9D25-221F-4C10-976D-DA5AD72E4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348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6E3B-A04E-44F7-9894-0242BCD4F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2351-12B2-4D38-9549-3E92C2647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9F8B-27DF-4CA9-B903-7561F6DE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E0B5-6621-4DC3-9451-951226182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4F86B3D-441C-485E-A269-7201B8E46D8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aton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童趣演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76280" y="52048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1463760" y="4483080"/>
            <a:ext cx="1820880" cy="843120"/>
          </a:xfrm>
          <a:custGeom>
            <a:avLst/>
            <a:gdLst>
              <a:gd name="textAreaLeft" fmla="*/ 278640 w 1820880"/>
              <a:gd name="textAreaRight" fmla="*/ 1542240 w 1820880"/>
              <a:gd name="textAreaTop" fmla="*/ 128880 h 843120"/>
              <a:gd name="textAreaBottom" fmla="*/ 714240 h 8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01" y="21600"/>
                </a:lnTo>
                <a:lnTo>
                  <a:pt x="2799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41600" y="4858560"/>
            <a:ext cx="144756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12520" y="3598200"/>
            <a:ext cx="1297800" cy="1293840"/>
            <a:chOff x="1712520" y="3598200"/>
            <a:chExt cx="1297800" cy="1293840"/>
          </a:xfrm>
        </p:grpSpPr>
        <p:grpSp>
          <p:nvGrpSpPr>
            <p:cNvPr id="86" name=""/>
            <p:cNvGrpSpPr/>
            <p:nvPr/>
          </p:nvGrpSpPr>
          <p:grpSpPr>
            <a:xfrm>
              <a:off x="1712520" y="3598200"/>
              <a:ext cx="1297800" cy="1293840"/>
              <a:chOff x="1712520" y="3598200"/>
              <a:chExt cx="1297800" cy="1293840"/>
            </a:xfrm>
          </p:grpSpPr>
          <p:sp>
            <p:nvSpPr>
              <p:cNvPr id="87" name=""/>
              <p:cNvSpPr/>
              <p:nvPr/>
            </p:nvSpPr>
            <p:spPr>
              <a:xfrm rot="649800">
                <a:off x="1806480" y="3692520"/>
                <a:ext cx="1109880" cy="11048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649800">
                <a:off x="1868400" y="3752280"/>
                <a:ext cx="984960" cy="983880"/>
              </a:xfrm>
              <a:prstGeom prst="ellipse">
                <a:avLst/>
              </a:prstGeom>
              <a:gradFill rotWithShape="0">
                <a:gsLst>
                  <a:gs pos="0">
                    <a:srgbClr val="0095b8">
                      <a:alpha val="90196"/>
                    </a:srgbClr>
                  </a:gs>
                  <a:gs pos="100000">
                    <a:srgbClr val="00b4de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未知"/>
            <p:cNvSpPr/>
            <p:nvPr/>
          </p:nvSpPr>
          <p:spPr>
            <a:xfrm rot="16200000">
              <a:off x="2069280" y="4021920"/>
              <a:ext cx="421560" cy="8442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 rot="5400000">
              <a:off x="2207880" y="3612600"/>
              <a:ext cx="421560" cy="8442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785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764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659040" y="4483080"/>
            <a:ext cx="1820880" cy="843120"/>
          </a:xfrm>
          <a:custGeom>
            <a:avLst/>
            <a:gdLst>
              <a:gd name="textAreaLeft" fmla="*/ 278640 w 1820880"/>
              <a:gd name="textAreaRight" fmla="*/ 1542240 w 1820880"/>
              <a:gd name="textAreaTop" fmla="*/ 128880 h 843120"/>
              <a:gd name="textAreaBottom" fmla="*/ 714240 h 8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01" y="21600"/>
                </a:lnTo>
                <a:lnTo>
                  <a:pt x="2799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3688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08160" y="3598200"/>
            <a:ext cx="1297440" cy="1293480"/>
            <a:chOff x="3908160" y="3598200"/>
            <a:chExt cx="1297440" cy="1293480"/>
          </a:xfrm>
        </p:grpSpPr>
        <p:grpSp>
          <p:nvGrpSpPr>
            <p:cNvPr id="96" name=""/>
            <p:cNvGrpSpPr/>
            <p:nvPr/>
          </p:nvGrpSpPr>
          <p:grpSpPr>
            <a:xfrm>
              <a:off x="3908160" y="3598200"/>
              <a:ext cx="1297440" cy="1293480"/>
              <a:chOff x="3908160" y="3598200"/>
              <a:chExt cx="1297440" cy="1293480"/>
            </a:xfrm>
          </p:grpSpPr>
          <p:sp>
            <p:nvSpPr>
              <p:cNvPr id="97" name=""/>
              <p:cNvSpPr/>
              <p:nvPr/>
            </p:nvSpPr>
            <p:spPr>
              <a:xfrm rot="649800">
                <a:off x="4002120" y="36925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649800">
                <a:off x="4064040" y="37522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0095b8">
                      <a:alpha val="90196"/>
                    </a:srgbClr>
                  </a:gs>
                  <a:gs pos="100000">
                    <a:srgbClr val="00b4de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未知"/>
            <p:cNvSpPr/>
            <p:nvPr/>
          </p:nvSpPr>
          <p:spPr>
            <a:xfrm rot="16200000">
              <a:off x="4264560" y="402192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5400000">
              <a:off x="4403520" y="361260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981600" y="3995640"/>
            <a:ext cx="112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536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5846760" y="4483080"/>
            <a:ext cx="1820880" cy="843120"/>
          </a:xfrm>
          <a:custGeom>
            <a:avLst/>
            <a:gdLst>
              <a:gd name="textAreaLeft" fmla="*/ 278640 w 1820880"/>
              <a:gd name="textAreaRight" fmla="*/ 1542240 w 1820880"/>
              <a:gd name="textAreaTop" fmla="*/ 128880 h 843120"/>
              <a:gd name="textAreaBottom" fmla="*/ 714240 h 8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01" y="21600"/>
                </a:lnTo>
                <a:lnTo>
                  <a:pt x="2799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2460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3598200"/>
            <a:ext cx="1297440" cy="1293480"/>
            <a:chOff x="6095880" y="3598200"/>
            <a:chExt cx="1297440" cy="1293480"/>
          </a:xfrm>
        </p:grpSpPr>
        <p:grpSp>
          <p:nvGrpSpPr>
            <p:cNvPr id="106" name=""/>
            <p:cNvGrpSpPr/>
            <p:nvPr/>
          </p:nvGrpSpPr>
          <p:grpSpPr>
            <a:xfrm>
              <a:off x="6095880" y="3598200"/>
              <a:ext cx="1297440" cy="1293480"/>
              <a:chOff x="6095880" y="3598200"/>
              <a:chExt cx="1297440" cy="1293480"/>
            </a:xfrm>
          </p:grpSpPr>
          <p:sp>
            <p:nvSpPr>
              <p:cNvPr id="107" name=""/>
              <p:cNvSpPr/>
              <p:nvPr/>
            </p:nvSpPr>
            <p:spPr>
              <a:xfrm rot="649800">
                <a:off x="6189840" y="36925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49800">
                <a:off x="6251760" y="37522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0095b8">
                      <a:alpha val="90196"/>
                    </a:srgbClr>
                  </a:gs>
                  <a:gs pos="100000">
                    <a:srgbClr val="00b4de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未知"/>
            <p:cNvSpPr/>
            <p:nvPr/>
          </p:nvSpPr>
          <p:spPr>
            <a:xfrm rot="16200000">
              <a:off x="6452280" y="402192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 rot="5400000">
              <a:off x="6591240" y="361260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168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764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560" y="2421000"/>
            <a:ext cx="863640" cy="1146240"/>
            <a:chOff x="3049560" y="2421000"/>
            <a:chExt cx="863640" cy="1146240"/>
          </a:xfrm>
        </p:grpSpPr>
        <p:sp>
          <p:nvSpPr>
            <p:cNvPr id="116" name=""/>
            <p:cNvSpPr/>
            <p:nvPr/>
          </p:nvSpPr>
          <p:spPr>
            <a:xfrm rot="16200000">
              <a:off x="2908080" y="25621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0095b8">
                    <a:alpha val="0"/>
                  </a:srgbClr>
                </a:gs>
                <a:gs pos="100000">
                  <a:srgbClr val="00b4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3019320" y="26877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249880" y="2421000"/>
            <a:ext cx="863640" cy="1146240"/>
            <a:chOff x="5249880" y="2421000"/>
            <a:chExt cx="863640" cy="1146240"/>
          </a:xfrm>
        </p:grpSpPr>
        <p:sp>
          <p:nvSpPr>
            <p:cNvPr id="119" name=""/>
            <p:cNvSpPr/>
            <p:nvPr/>
          </p:nvSpPr>
          <p:spPr>
            <a:xfrm rot="16200000">
              <a:off x="5108400" y="25621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0095b8">
                    <a:alpha val="0"/>
                  </a:srgbClr>
                </a:gs>
                <a:gs pos="100000">
                  <a:srgbClr val="00b4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219640" y="26877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454800"/>
            <a:ext cx="642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卡通ppt模板下载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谢谢欣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EE98-1EDA-4586-AE55-EDBB0491A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1:54Z</dcterms:created>
  <dc:creator/>
  <dc:description/>
  <dc:language>en-US</dc:language>
  <cp:lastModifiedBy/>
  <dcterms:modified xsi:type="dcterms:W3CDTF">2015-07-04T08:38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