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FF9-F4FB-4398-8BDA-D5398955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847-796B-4252-B593-438212C8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C09-1B6D-4EB8-BAA8-08B59DF0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7024-AAC2-4B8E-9072-4215D25A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C2EB-354B-4FFF-B272-45B050D6B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C69C-C9FB-4D52-8D5D-47CE3D43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45E2-5BE4-4378-9FC9-5A25EB5F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F78B-14E8-4966-A26E-D0172F30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0A80-367C-4312-BA06-2DFDEB19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6560" y="1123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F337-B95E-4C13-A5BF-6F6CB030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C336-66CF-46B6-8120-593F0CA8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D6C-3BAC-458E-ADEE-876C874F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E994-E536-48C2-8097-A412BE5C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26D1-F041-4EFC-AB9C-CECC4A9C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CECD-ADD7-4A80-BBC4-1DAF3A7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8A02-6116-4EAC-969B-C5E1A40F2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4936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323240"/>
            <a:ext cx="264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7811-7E6A-4F17-93AD-ED4CC1C4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F54-B7B9-4356-B297-74E0532D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641E-BDB0-411F-90D0-345869F7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02E-D613-46B6-BEE5-ACD23185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1123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8CD-781C-4569-96F9-D8DA324E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A67B-FAF7-41B4-9DCE-5277C28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2324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F2F-DD1B-41C5-8A50-E40CF9D4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49360"/>
            <a:ext cx="40158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23240"/>
            <a:ext cx="8229600" cy="18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229-930B-4189-AFC6-F4B6B345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00C-7477-4DEC-834C-805C98C01AB2}" type="datetime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C99E-5CC5-47B1-9B47-4601675833FF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221000"/>
            <a:ext cx="835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4920"/>
            <a:ext cx="3111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9633-5783-4C4E-9343-DDDB15C4DDA7}" type="slidenum"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  <a:p>
            <a:pPr lvl="1" marL="457200" indent="457200">
              <a:spcBef>
                <a:spcPts val="499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333333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333333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333333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4221000"/>
            <a:ext cx="835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0504d"/>
                </a:solidFill>
                <a:latin typeface="Calibri"/>
              </a:rPr>
              <a:t>涂鸦</a:t>
            </a:r>
            <a:r>
              <a:rPr b="1" lang="zh-CN" sz="5000" spc="-1" strike="noStrike">
                <a:solidFill>
                  <a:srgbClr val="c0504d"/>
                </a:solidFill>
                <a:latin typeface="Calibri"/>
              </a:rPr>
              <a:t>ppt</a:t>
            </a:r>
            <a:r>
              <a:rPr b="1" lang="zh-CN" sz="5000" spc="-1" strike="noStrike">
                <a:solidFill>
                  <a:srgbClr val="c0504d"/>
                </a:solidFill>
                <a:latin typeface="Calibri"/>
              </a:rPr>
              <a:t>模板</a:t>
            </a:r>
            <a:endParaRPr b="1" lang="en-US" sz="5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66560" y="5733720"/>
            <a:ext cx="6878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1" lang="en-US" sz="1400" spc="-1" strike="noStrike">
              <a:solidFill>
                <a:srgbClr val="cc99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使用规范说明</a:t>
            </a: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D420-777B-48D8-811B-567FF54B77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7:42:00Z</dcterms:created>
  <dc:creator>USER</dc:creator>
  <dc:description/>
  <dc:language>en-US</dc:language>
  <cp:lastModifiedBy>a</cp:lastModifiedBy>
  <dcterms:modified xsi:type="dcterms:W3CDTF">2015-07-04T08:36:53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