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gif" ContentType="image/gif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C8D-EFA2-4A35-96A8-F9B356CB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4CE-FFB5-4BB5-86AB-9A71DAAF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DF64-767B-4813-8C07-41D17304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29B-C26F-4702-90C8-FCD4DC3D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C482-2E02-4381-B722-606B2AD8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5EF8-0548-4D44-B986-4518095E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564F-7170-4CCB-AFDF-5F6013BC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73C4-20F8-44E3-87FB-6F001D57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4228-8078-4A53-8931-83F4DDE4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656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5FD9-C71A-4058-910A-20D552D5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2D6B-C826-47F9-A2A5-D96AA58D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3DB-F8F0-4D46-B0C5-36A97766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1BD8-B4C5-4F7E-A8F7-2A7C7D6D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F4DC-529E-4A0E-A910-350DC14F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91BC-EB81-44CC-800B-607B13C3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B4AF-3C98-4596-8D5A-4BBA1115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055B-857A-49F7-AE01-A1B77E74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B2068-61B8-48F9-9976-49DDAF11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57B86-0646-4548-A540-CF6B2FBE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F4B8C-9119-45D7-B147-60C2E9A1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9381C-A747-4620-966E-D8C62D46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CA0FB-A466-4D2B-9788-09A0F5A3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526-0B1C-4BFE-BA4C-787B0471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656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EE690-E042-4202-B74C-9DD9BE4E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3C180-22C2-4102-AF8B-C36F709E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789C0-B43B-4281-9BBD-E44D7DB6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326B-1123-45B2-ABCB-9E194468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66236-31FE-41EA-A0C8-A653B760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B0C27-1F1A-48A8-B04A-833F3DD6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44624-0D9C-40EB-BA84-D860C45D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EBE-108C-46B4-B6CA-4548B7CF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122-F786-48A0-B9C1-2FDCB126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656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6133-5F08-4D8A-B1C8-0D12A75F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969F-E27A-4D21-9A05-9F18A8C4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1F2-0228-463A-B8C4-985CBCEC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DF6-6FE7-4C82-83C5-6E3478A6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4C10-7549-4D4B-91F1-8DC2DF060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D8FE-2730-4762-9E5F-5B11DFE39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9478-4E1A-4716-81AE-F02509783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8720" y="1989000"/>
            <a:ext cx="48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3307-CFF0-4901-894D-8420CB520C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迷你简稚艺"/>
              </a:rPr>
              <a:t>还好我是个胖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2360" y="2204640"/>
            <a:ext cx="8217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还好我是个胖子，无聊的时候可以捏捏肚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还好我是个胖子，起床的时候可以捏捏肚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还好我是个胖子，寂寞的时候可以捏捏肚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还好我是个胖子，上课的时候可以捏捏肚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还好我是个胖子，难过的时候可以捏捏肚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114912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迷你简稚艺"/>
              </a:rPr>
              <a:t>每个人心中，都有一只妖孽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55640" y="2204640"/>
            <a:ext cx="59785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天晚上在家里上网，旺旺突然跳了出来窗口来对我说：“亲，我怀孕了”哥顿时一惊，心说自己没闯什么祸吧？ 正发愣，那人又说：“明天去医院检查。” 心想你丫到底是谁，难道还要我陪你去检查，想讹我不成？正琢磨着，那人又说：“只能后天给你发货了” 靠，原来下午在丫那里买过东西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1080" y="2565360"/>
            <a:ext cx="26636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迷你简毡笔黑"/>
              </a:rPr>
              <a:t>小明一岁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8280" y="1917360"/>
            <a:ext cx="8145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迷你简毡笔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小明一岁时，他第一次喊爷爷，于是爷爷死了。没多久他第一次喊妈妈，于是妈妈死了。再后来，他喊爸爸，于是隔壁的王木匠死了</a:t>
            </a:r>
            <a:r>
              <a:rPr b="0" lang="en-US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.</a:t>
            </a:r>
            <a:r>
              <a:rPr b="0" lang="zh-CN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一位清华博士指出，这个笑话有</a:t>
            </a:r>
            <a:r>
              <a:rPr b="0" lang="en-US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bug</a:t>
            </a:r>
            <a:r>
              <a:rPr b="0" lang="zh-CN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，喊爷爷时应该是隔壁王木匠的爹死掉</a:t>
            </a:r>
            <a:r>
              <a:rPr b="0" lang="en-US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.</a:t>
            </a:r>
            <a:r>
              <a:rPr b="0" lang="zh-CN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而一位交大的同学指出：隔壁木匠的母亲知道这不是个</a:t>
            </a:r>
            <a:r>
              <a:rPr b="0" lang="en-US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bug</a:t>
            </a:r>
            <a:r>
              <a:rPr b="0" lang="zh-CN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21440" y="3860640"/>
            <a:ext cx="1530360" cy="1424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9280" y="6526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191736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有多少人跟我一样，喜欢“挖鼻屎”这个表情？有的请转发！！！ </a:t>
            </a:r>
            <a:r>
              <a:rPr b="1" lang="en-US" sz="36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挖鼻屎</a:t>
            </a:r>
            <a:r>
              <a:rPr b="1" lang="en-US" sz="36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]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97440" y="3349800"/>
            <a:ext cx="114912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80</a:t>
            </a:r>
            <a:r>
              <a:rPr b="1" lang="zh-CN" sz="24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后的</a:t>
            </a:r>
            <a:r>
              <a:rPr b="1" lang="en-US" sz="24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个小悲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天凌晨才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觉不够睡钱不够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机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时开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起不来，周末睡不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狂想去远方旅游，却只能在近郊瞎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怀疑自己抑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觉自己亚健康，只能亚下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些不着边际的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知道自己是成熟还是世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前认为特鄙视的事变得能接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360" y="1412640"/>
            <a:ext cx="2521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把图向左旋转</a:t>
            </a:r>
            <a:r>
              <a:rPr b="1" lang="en-US" sz="24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度，有意外发生哦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272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05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7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20">
                                      <p:cBhvr>
                                        <p:cTn id="2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20">
                                      <p:cBhvr>
                                        <p:cTn id="2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76360" y="1773360"/>
            <a:ext cx="511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迷你简毡笔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偶像剧里的故事多么让人憧憬，但是，这年头，能在宿舍楼下默默等着你，给你送上温热的早饭午饭晚饭，不管严寒酷暑刮风下雨总会很耐心的男人，只会是——送外卖的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44720" y="1773360"/>
            <a:ext cx="213804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350"/>
                            </p:stCondLst>
                            <p:childTnLst>
                              <p:par>
                                <p:cTn id="2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708000" y="1844640"/>
            <a:ext cx="4969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方正少儿_GBK"/>
                <a:ea typeface="方正少儿_GBK"/>
              </a:rPr>
              <a:t> </a:t>
            </a:r>
            <a:r>
              <a:rPr b="0" lang="zh-CN" sz="2400" spc="-1" strike="noStrike">
                <a:solidFill>
                  <a:srgbClr val="336699"/>
                </a:solidFill>
                <a:latin typeface="方正少儿_GBK"/>
                <a:ea typeface="方正少儿_GBK"/>
              </a:rPr>
              <a:t>两头牛在一起吃草，青牛问黑牛：“喂你的草是什么味道？”黑牛道：“草莓味！”青牛靠过来吃了一口，愤怒地喊到“你骗我！”黑牛轻蔑地看他一眼，回道：“笨蛋，我说草没味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2720" y="2205000"/>
            <a:ext cx="3260880" cy="302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 rot="5400000">
            <a:off x="2363400" y="2325600"/>
            <a:ext cx="1729080" cy="334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草莓味儿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360"/>
                            </p:stCondLst>
                            <p:childTnLst>
                              <p:par>
                                <p:cTn id="2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3:42:04Z</dcterms:created>
  <dc:creator/>
  <dc:description/>
  <dc:language>en-US</dc:language>
  <cp:lastModifiedBy/>
  <dcterms:modified xsi:type="dcterms:W3CDTF">2015-07-04T08:10:2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