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CEC-F9CC-4A33-8A66-6A3178EA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8D9-E28E-49A7-81C6-2C4CA890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47C-FBEE-4075-AC88-7F6E63A3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61D-1666-4676-BC94-65A53B26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E793-2BA5-4A41-85D6-09555240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189D-08E4-4ADD-96CE-F6CDFB48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AA5-662C-4C26-9CF2-FF65FC70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BE06-883A-4092-8B21-37B9BE5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3BD3-3181-43A6-BAFA-DB81D02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BFFF-0A6F-4421-9B57-EE4C8362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7122-AF1C-423C-9CD5-4629855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728-FC66-4C06-8E27-BF0F725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0C34-EFEC-4A60-8592-9EB5156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9B32-9E56-4CF4-B884-AB10681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A7D0-434B-45D2-85B7-A87E407A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39D3-7F89-4463-92C9-8998B9B4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9B63-4742-4EAC-B3E2-BB13FCFD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ABD-BE2E-49D1-AD9D-489B89D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E28-9547-4BE0-B55F-4DFBF470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FC6-E44A-446F-ABFA-B47B8D9C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0A5-424E-4391-A4FE-20B76627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692-7C36-4E9C-A69C-3CC510D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AB6-A5AE-4F87-8DE1-32A620D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245-82CA-4E69-9590-105D57D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C4E2-D8F7-42AB-9942-211944F59EB6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CDB0-416F-4EAF-9641-68D5C9E6D4DB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 (9)\5.jpg"/>
          <p:cNvPicPr/>
          <p:nvPr/>
        </p:nvPicPr>
        <p:blipFill>
          <a:blip r:embed="rId3"/>
          <a:stretch/>
        </p:blipFill>
        <p:spPr>
          <a:xfrm>
            <a:off x="-468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F484-5B30-44C2-A202-908AD5A092F8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5E8E-5C70-4B7A-8493-18CC82219B76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五彩艺术</a:t>
            </a: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263664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F2A9-9739-440B-BBA3-A1886D9CD279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052-F83C-4F62-95E4-977A8506C6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willon</cp:lastModifiedBy>
  <dcterms:modified xsi:type="dcterms:W3CDTF">2015-07-04T08:00:18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