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B387-524A-4C2F-854A-60A13671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6A12-F826-46C5-A5FF-EC087EB8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427A-9257-4FE4-9C0B-C4DEB0511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CBD-1038-4D6F-A8B1-7C36E326F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35B-0C87-403E-AC36-26960F0D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62FD-CA39-4F03-A2BC-41A0B9F7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C99-53AD-4681-85C2-79088F7A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1760-E962-4639-9D5E-5919BA65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7A23-BAFD-490F-AA18-AFA7EB33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2162-F8BA-4FA1-AF37-5090D8D8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95A-7673-426A-AFBC-A3E2B2CC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F43-7461-431E-A47B-8D7B9F58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2EC1-E673-4EC5-8AC2-C4F8F1967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2360" y="3501000"/>
            <a:ext cx="88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彩缤纷简约不简单的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56000" y="4471920"/>
            <a:ext cx="44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57800" y="4363920"/>
            <a:ext cx="410364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643200" y="24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43200" y="3211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43200" y="3932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076720" y="3933720"/>
            <a:ext cx="331164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0252080" y="2492280"/>
            <a:ext cx="11123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41360" y="3212640"/>
            <a:ext cx="7191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773600" y="3890880"/>
            <a:ext cx="32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479664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51760" y="2419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4797360"/>
            <a:ext cx="597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简约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9023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63040" y="3572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75120" y="356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95760" y="364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8627-EDF2-4CD0-AB6B-1E96BE9626E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/>
  <dcterms:modified xsi:type="dcterms:W3CDTF">2015-07-04T08:01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