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4AA2E-E042-459A-A5EA-DE3106987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5F16F-1E8E-4BF6-AED3-1126DA49B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AEAA-C335-44C1-B488-5FFE5031D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240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9656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2824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240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9656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DAE3-CE8F-45A3-9FC4-113FD7257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B3B39-96A9-42F5-902F-A58D2D37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2F834-5C9A-4117-A58F-2DFBEDE3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D7FC1-3219-4F4A-AD8D-B5649264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71749-F3B4-4C0B-AA04-5F7E67C9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7CCEF-3DE6-4204-9CB0-7EE8583F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084040" y="177480"/>
            <a:ext cx="690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DB4EA-BA27-402A-9E1F-E84B4E61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BCA5B-BF19-4CA0-903E-8B3BAFA9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FA46B-9107-41BB-BA24-2DE9B2046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A1BAE-2D81-4036-9FB6-7633D4AE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6D3A4-4184-47DA-9C87-16C1F63D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E10E9-2D14-445C-9111-5C6045E3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2A635-C20E-4E4B-90D2-69948212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1240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49656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12824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81240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49656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A8004-32D0-4BE1-92B1-042643EC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DCF2-3D26-471E-8667-57CE35B87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F5C6-2435-487F-83B5-AB43AC2E9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64C70-EDA7-42EF-9879-5214C9D90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84040" y="177480"/>
            <a:ext cx="690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00845-C637-4B0E-85D5-2A6902D7B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00803-6685-43F8-A890-25D96B283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0D4D-9180-45F0-AB82-EB71DA763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D4C7E-0177-4320-988E-99F41093E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962520" y="0"/>
            <a:ext cx="5181480" cy="6858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90520" y="-144360"/>
            <a:ext cx="1766520" cy="1506240"/>
            <a:chOff x="290520" y="-144360"/>
            <a:chExt cx="1766520" cy="1506240"/>
          </a:xfrm>
        </p:grpSpPr>
        <p:sp>
          <p:nvSpPr>
            <p:cNvPr id="3" name="AutoShape 5"/>
            <p:cNvSpPr/>
            <p:nvPr/>
          </p:nvSpPr>
          <p:spPr>
            <a:xfrm>
              <a:off x="290520" y="-144360"/>
              <a:ext cx="1004760" cy="79812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290520" y="565200"/>
              <a:ext cx="1004760" cy="79668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>
              <a:off x="1052280" y="32400"/>
              <a:ext cx="1004760" cy="79848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ec8ce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7ec8ce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7ec8ce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1"/>
          </p:nvPr>
        </p:nvSpPr>
        <p:spPr>
          <a:xfrm>
            <a:off x="380520" y="63241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5d093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8534160" y="6477120"/>
            <a:ext cx="533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543d18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54A8-94BC-4516-B6EB-242D005B0FE2}" type="slidenum">
              <a:rPr b="1" lang="ko-KR" sz="1200" spc="-1" strike="noStrike">
                <a:solidFill>
                  <a:srgbClr val="543d18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43d1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145908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3a5d5f"/>
              </a:gs>
              <a:gs pos="50000">
                <a:srgbClr val="7ec8ce"/>
              </a:gs>
              <a:gs pos="100000">
                <a:srgbClr val="3a5d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87156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68580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cb374"/>
              </a:gs>
              <a:gs pos="50000">
                <a:srgbClr val="ffffcc"/>
              </a:gs>
              <a:gs pos="100000">
                <a:srgbClr val="ccb3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146640" y="3778200"/>
            <a:ext cx="2792160" cy="2689200"/>
            <a:chOff x="6146640" y="3778200"/>
            <a:chExt cx="2792160" cy="2689200"/>
          </a:xfrm>
        </p:grpSpPr>
        <p:sp>
          <p:nvSpPr>
            <p:cNvPr id="52" name="AutoShape 8"/>
            <p:cNvSpPr/>
            <p:nvPr/>
          </p:nvSpPr>
          <p:spPr>
            <a:xfrm>
              <a:off x="6146640" y="3778200"/>
              <a:ext cx="158796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9"/>
            <p:cNvSpPr/>
            <p:nvPr/>
          </p:nvSpPr>
          <p:spPr>
            <a:xfrm>
              <a:off x="6146640" y="4904280"/>
              <a:ext cx="158796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10"/>
            <p:cNvSpPr/>
            <p:nvPr/>
          </p:nvSpPr>
          <p:spPr>
            <a:xfrm>
              <a:off x="7351200" y="4059720"/>
              <a:ext cx="158760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AutoShape 11"/>
            <p:cNvSpPr/>
            <p:nvPr/>
          </p:nvSpPr>
          <p:spPr>
            <a:xfrm>
              <a:off x="7351200" y="5200200"/>
              <a:ext cx="158760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7446960" y="562284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3d18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533520" y="152388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18"/>
          <p:cNvSpPr/>
          <p:nvPr/>
        </p:nvSpPr>
        <p:spPr>
          <a:xfrm>
            <a:off x="58428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9"/>
          <p:cNvSpPr/>
          <p:nvPr/>
        </p:nvSpPr>
        <p:spPr>
          <a:xfrm>
            <a:off x="106992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0"/>
          <p:cNvSpPr/>
          <p:nvPr/>
        </p:nvSpPr>
        <p:spPr>
          <a:xfrm>
            <a:off x="153360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21"/>
          <p:cNvSpPr/>
          <p:nvPr/>
        </p:nvSpPr>
        <p:spPr>
          <a:xfrm>
            <a:off x="201924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2"/>
          <p:cNvSpPr/>
          <p:nvPr/>
        </p:nvSpPr>
        <p:spPr>
          <a:xfrm>
            <a:off x="249408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23"/>
          <p:cNvSpPr/>
          <p:nvPr/>
        </p:nvSpPr>
        <p:spPr>
          <a:xfrm>
            <a:off x="299088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4"/>
          <p:cNvSpPr/>
          <p:nvPr/>
        </p:nvSpPr>
        <p:spPr>
          <a:xfrm>
            <a:off x="346536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25"/>
          <p:cNvSpPr/>
          <p:nvPr/>
        </p:nvSpPr>
        <p:spPr>
          <a:xfrm>
            <a:off x="391464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26"/>
          <p:cNvSpPr/>
          <p:nvPr/>
        </p:nvSpPr>
        <p:spPr>
          <a:xfrm>
            <a:off x="431784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27"/>
          <p:cNvSpPr/>
          <p:nvPr/>
        </p:nvSpPr>
        <p:spPr>
          <a:xfrm>
            <a:off x="473220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8"/>
          <p:cNvSpPr/>
          <p:nvPr/>
        </p:nvSpPr>
        <p:spPr>
          <a:xfrm>
            <a:off x="518940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6a6044"/>
              </a:gs>
              <a:gs pos="100000">
                <a:srgbClr val="e5d0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ec8ce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7ec8ce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7ec8ce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C0D0-4B42-430A-BBEB-692CA761D674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guowai/" TargetMode="External"/><Relationship Id="rId3" Type="http://schemas.openxmlformats.org/officeDocument/2006/relationships/hyperlink" Target="http://www.eeppt.com/moban/guowai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43d1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184480"/>
            <a:ext cx="7931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543d18"/>
                </a:solidFill>
                <a:latin typeface="Verdana"/>
                <a:ea typeface="Gulim"/>
              </a:rPr>
              <a:t>外国经典雅致</a:t>
            </a:r>
            <a:r>
              <a:rPr b="1" lang="zh-CN" sz="5800" spc="-1" strike="noStrike">
                <a:solidFill>
                  <a:srgbClr val="543d18"/>
                </a:solidFill>
                <a:latin typeface="Verdana"/>
                <a:ea typeface="宋体"/>
              </a:rPr>
              <a:t>PPT</a:t>
            </a:r>
            <a:r>
              <a:rPr b="1" lang="en-US" sz="5800" spc="-1" strike="noStrike">
                <a:solidFill>
                  <a:srgbClr val="543d18"/>
                </a:solidFill>
                <a:latin typeface="Verdana"/>
                <a:ea typeface="Gulim"/>
              </a:rPr>
              <a:t>模板</a:t>
            </a:r>
            <a:endParaRPr b="1" lang="en-US" sz="58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932760" y="3286080"/>
            <a:ext cx="379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2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43d1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184120"/>
            <a:ext cx="747864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543d18"/>
                </a:solidFill>
                <a:latin typeface="Verdana"/>
                <a:ea typeface="Gulim"/>
              </a:rPr>
              <a:t>Thank you</a:t>
            </a:r>
            <a:endParaRPr b="1" lang="en-US" sz="5800" spc="-1" strike="noStrike">
              <a:solidFill>
                <a:srgbClr val="543d1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43d18"/>
                </a:solidFill>
                <a:latin typeface="Verdana"/>
              </a:rPr>
              <a:t>使用规范说明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e5d09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7F84A-795D-4557-9938-77080A497E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2362320" y="1660680"/>
            <a:ext cx="5410080" cy="533160"/>
          </a:xfrm>
          <a:prstGeom prst="rect">
            <a:avLst/>
          </a:prstGeom>
          <a:gradFill rotWithShape="0">
            <a:gsLst>
              <a:gs pos="0">
                <a:srgbClr val="ccb374"/>
              </a:gs>
              <a:gs pos="100000">
                <a:srgbClr val="e5d0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ontents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52480" y="1660680"/>
            <a:ext cx="609840" cy="53316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362320" y="2444760"/>
            <a:ext cx="5410080" cy="533520"/>
          </a:xfrm>
          <a:prstGeom prst="rect">
            <a:avLst/>
          </a:prstGeom>
          <a:gradFill rotWithShape="0">
            <a:gsLst>
              <a:gs pos="0">
                <a:srgbClr val="ccb374"/>
              </a:gs>
              <a:gs pos="100000">
                <a:srgbClr val="e5d0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752480" y="2444760"/>
            <a:ext cx="609840" cy="53352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362320" y="3240000"/>
            <a:ext cx="5410080" cy="533520"/>
          </a:xfrm>
          <a:prstGeom prst="rect">
            <a:avLst/>
          </a:prstGeom>
          <a:gradFill rotWithShape="0">
            <a:gsLst>
              <a:gs pos="0">
                <a:srgbClr val="ccb374"/>
              </a:gs>
              <a:gs pos="100000">
                <a:srgbClr val="e5d0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752480" y="3240000"/>
            <a:ext cx="609840" cy="53352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362320" y="4022640"/>
            <a:ext cx="5410080" cy="533520"/>
          </a:xfrm>
          <a:prstGeom prst="rect">
            <a:avLst/>
          </a:prstGeom>
          <a:gradFill rotWithShape="0">
            <a:gsLst>
              <a:gs pos="0">
                <a:srgbClr val="ccb374"/>
              </a:gs>
              <a:gs pos="100000">
                <a:srgbClr val="e5d0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752480" y="4022640"/>
            <a:ext cx="609840" cy="53352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2362320" y="4883040"/>
            <a:ext cx="5410080" cy="533520"/>
          </a:xfrm>
          <a:prstGeom prst="rect">
            <a:avLst/>
          </a:prstGeom>
          <a:gradFill rotWithShape="0">
            <a:gsLst>
              <a:gs pos="0">
                <a:srgbClr val="ccb374"/>
              </a:gs>
              <a:gs pos="100000">
                <a:srgbClr val="e5d0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1752480" y="4883040"/>
            <a:ext cx="609840" cy="533520"/>
          </a:xfrm>
          <a:prstGeom prst="rect">
            <a:avLst/>
          </a:prstGeom>
          <a:solidFill>
            <a:srgbClr val="e5d093"/>
          </a:solidFill>
          <a:ln w="0">
            <a:noFill/>
          </a:ln>
          <a:effectLst>
            <a:outerShdw dist="63504" dir="2216091" blurRad="0" rotWithShape="0">
              <a:srgbClr val="897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2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63360">
            <a:solidFill>
              <a:srgbClr val="543d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469440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ffffcc"/>
              </a:gs>
            </a:gsLst>
            <a:lin ang="8100000"/>
          </a:gradFill>
          <a:ln w="0">
            <a:noFill/>
          </a:ln>
          <a:effectLst>
            <a:outerShdw dist="99192" dir="2381944" blurRad="0" rotWithShape="0">
              <a:srgbClr val="543d1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Diagram 1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3657600" y="1905120"/>
            <a:ext cx="1447920" cy="1447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99192" dir="2381944" blurRad="0" rotWithShape="0">
              <a:srgbClr val="543d1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8044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66148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181480" y="196524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5720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17220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273780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895280" y="4148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3"/>
          <p:cNvSpPr/>
          <p:nvPr/>
        </p:nvSpPr>
        <p:spPr>
          <a:xfrm>
            <a:off x="259092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ffffcc"/>
              </a:gs>
            </a:gsLst>
            <a:lin ang="8100000"/>
          </a:gradFill>
          <a:ln w="0">
            <a:noFill/>
          </a:ln>
          <a:effectLst>
            <a:outerShdw dist="99192" dir="2381944" blurRad="0" rotWithShape="0">
              <a:srgbClr val="543d1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273780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Times New Roman"/>
                <a:hlinkClick r:id="rId2"/>
              </a:rPr>
              <a:t>国外ppt模板下载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e5d093"/>
                </a:solidFill>
                <a:uFillTx/>
                <a:latin typeface="Times New Roman"/>
                <a:hlinkClick r:id="rId3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"/>
          <p:cNvSpPr/>
          <p:nvPr/>
        </p:nvSpPr>
        <p:spPr>
          <a:xfrm>
            <a:off x="332568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e5d093"/>
              </a:gs>
              <a:gs pos="50000">
                <a:srgbClr val="e7f9f9"/>
              </a:gs>
              <a:gs pos="100000">
                <a:srgbClr val="e5d093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553068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e5d093"/>
              </a:gs>
              <a:gs pos="50000">
                <a:srgbClr val="e7f9f9"/>
              </a:gs>
              <a:gs pos="100000">
                <a:srgbClr val="e5d093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Diagram 2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1143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e5d093"/>
              </a:gs>
              <a:gs pos="50000">
                <a:srgbClr val="e7f9f9"/>
              </a:gs>
              <a:gs pos="100000">
                <a:srgbClr val="e5d093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99072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200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486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676520" y="22096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898800" y="2209680"/>
            <a:ext cx="189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32600" y="22096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3716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c8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3d18"/>
                </a:solidFill>
                <a:latin typeface="Verdana"/>
                <a:ea typeface="Gulim"/>
              </a:rPr>
              <a:t> </a:t>
            </a:r>
            <a:r>
              <a:rPr b="1" lang="en-US" sz="2800" spc="-1" strike="noStrike">
                <a:solidFill>
                  <a:srgbClr val="543d18"/>
                </a:solidFill>
                <a:latin typeface="Verdana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86080" y="1905120"/>
          <a:ext cx="7224480" cy="3886200"/>
        </p:xfrm>
        <a:graphic>
          <a:graphicData uri="http://schemas.openxmlformats.org/drawingml/2006/table">
            <a:tbl>
              <a:tblPr/>
              <a:tblGrid>
                <a:gridCol w="1204560"/>
                <a:gridCol w="1203480"/>
                <a:gridCol w="1204920"/>
                <a:gridCol w="1203120"/>
                <a:gridCol w="1204920"/>
                <a:gridCol w="12034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e5d093"/>
                        </a:gs>
                        <a:gs pos="50000">
                          <a:srgbClr val="ffffff"/>
                        </a:gs>
                        <a:gs pos="100000">
                          <a:srgbClr val="e5d093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543d18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543d1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gradFill rotWithShape="0">
                      <a:gsLst>
                        <a:gs pos="0">
                          <a:srgbClr val="7ec8ce"/>
                        </a:gs>
                        <a:gs pos="50000">
                          <a:srgbClr val="ffffff"/>
                        </a:gs>
                        <a:gs pos="100000">
                          <a:srgbClr val="7ec8c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543d1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73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Diagram 3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371600" y="1320840"/>
            <a:ext cx="642636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5d0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371600" y="3048120"/>
            <a:ext cx="642636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7ec8c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4222800" y="243828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222800" y="415296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523880" y="144792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523880" y="318456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1371600" y="4761000"/>
            <a:ext cx="642636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5d09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523880" y="492300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hart 2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pic>
        <p:nvPicPr>
          <p:cNvPr id="170" name="Object 3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3"/>
          <p:cNvSpPr/>
          <p:nvPr/>
        </p:nvSpPr>
        <p:spPr>
          <a:xfrm>
            <a:off x="380880" y="63244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  <a:ea typeface="Gulim"/>
              </a:rPr>
              <a:t>Chart 3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pic>
        <p:nvPicPr>
          <p:cNvPr id="173" name="Object 3" descr=""/>
          <p:cNvPicPr/>
          <p:nvPr/>
        </p:nvPicPr>
        <p:blipFill>
          <a:blip r:embed="rId1"/>
          <a:stretch/>
        </p:blipFill>
        <p:spPr>
          <a:xfrm>
            <a:off x="2058840" y="1600200"/>
            <a:ext cx="6437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7:51:10Z</dcterms:created>
  <dc:creator>yoojin</dc:creator>
  <dc:description/>
  <dc:language>en-US</dc:language>
  <cp:lastModifiedBy>king</cp:lastModifiedBy>
  <dcterms:modified xsi:type="dcterms:W3CDTF">2015-07-04T08:31:51Z</dcterms:modified>
  <cp:revision>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