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22D7-AEB4-45B8-9A0B-0D05AF05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156-1A44-45B8-B39D-E3804169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BD0-6D1F-49D1-926C-651F1E79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A90-B4FE-479B-B75B-3DCE4DD2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30A9-B753-497A-B5BC-5955CC12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2505-F82A-40D5-8EE4-9BA1E7F1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5C23-C587-4D33-A813-CF9D9153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DE35-AE51-4E1D-9EAF-07810BCE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A07E-F166-4A4B-AB24-81A8D3E3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8654-2DC6-4F5A-A70F-FD77508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C226-0C89-41A0-AFDA-A3F7A3E9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BD8-0EF5-41EA-B6C4-D4C27D51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531F-7331-4A7E-A4DF-3C0A226C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A22A-F549-4A70-B5EA-92CAD3F9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1327-2753-40FA-9292-1D1A0A23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CCEB-3667-4D9A-9B01-E04393A5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37B4-10AC-4351-B103-828E61BE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2DF-2233-4918-A23A-9E8C6A5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080-0DEF-4015-BFC7-E3410940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1BC-2174-48B0-AA8F-F87EA616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87F-8962-43B8-88B8-6140A1D0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B50-C8DA-44D0-B1FA-5181D777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CB4-5FCD-448F-8090-3A949F4E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B3C-4996-4647-9DEC-B7195323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1440" y="-1440"/>
            <a:ext cx="9148680" cy="686412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0" y="5500800"/>
            <a:ext cx="143676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38C1-2FCC-4E8A-942C-988EB9BFA2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未知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2960"/>
            <a:ext cx="2417760" cy="198756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未知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未知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未知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未知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未知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未知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2751-CD60-40D9-A891-D2ECFB8198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4" name="未知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hyperlink" Target="http://www.eeppt.com/moban/guowai/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外国精美工作汇报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3286080"/>
            <a:ext cx="48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7240" y="407988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760" y="220356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640" y="199908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未知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未知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 rot="18480600">
            <a:off x="1344960" y="3810240"/>
            <a:ext cx="3256200" cy="441360"/>
          </a:xfrm>
          <a:prstGeom prst="rect">
            <a:avLst/>
          </a:prstGeom>
          <a:ln w="0">
            <a:noFill/>
          </a:ln>
        </p:spPr>
      </p:pic>
      <p:sp>
        <p:nvSpPr>
          <p:cNvPr id="565" name="未知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未知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未知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7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8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076000">
                <a:off x="6942600" y="54964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3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429000">
                <a:off x="6706080" y="548496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2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3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076000">
                <a:off x="4470840" y="54964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8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429000">
                <a:off x="4234320" y="548496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7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8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076000">
                <a:off x="1838880" y="54964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3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429000">
                <a:off x="1602360" y="548496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8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9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1276200" y="4591080"/>
            <a:ext cx="1170000" cy="5126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6"/>
          <a:stretch/>
        </p:blipFill>
        <p:spPr>
          <a:xfrm>
            <a:off x="3895560" y="4591080"/>
            <a:ext cx="1170000" cy="5126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7"/>
          <a:stretch/>
        </p:blipFill>
        <p:spPr>
          <a:xfrm>
            <a:off x="6364440" y="4591080"/>
            <a:ext cx="1170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7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51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"/>
          <p:cNvCxnSpPr>
            <a:stCxn id="653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5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6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7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未知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319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319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552680" y="2855880"/>
            <a:ext cx="5832720" cy="2289960"/>
            <a:chOff x="1552680" y="2855880"/>
            <a:chExt cx="5832720" cy="2289960"/>
          </a:xfrm>
        </p:grpSpPr>
        <p:sp>
          <p:nvSpPr>
            <p:cNvPr id="680" name=""/>
            <p:cNvSpPr/>
            <p:nvPr/>
          </p:nvSpPr>
          <p:spPr>
            <a:xfrm rot="16200000">
              <a:off x="3323880" y="1084320"/>
              <a:ext cx="2289960" cy="583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6955200" y="3227400"/>
              <a:ext cx="27720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93" name="未知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6" name="未知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未知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"/>
          <p:cNvCxnSpPr>
            <a:endCxn id="714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endCxn id="707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7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9" name="未知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22" name="未知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5" name="未知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8" name="未知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0" name=""/>
          <p:cNvCxnSpPr>
            <a:stCxn id="726" idx="0"/>
            <a:endCxn id="706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729" idx="3"/>
            <a:endCxn id="717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2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6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7" name="未知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未知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50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4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61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5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7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8" name="未知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未知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3928400">
                  <a:off x="2213640" y="273060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81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5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6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92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6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800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801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13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6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7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4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3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c31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C17-92D8-475B-AAA9-E47A1E4015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31960" y="4867200"/>
            <a:ext cx="6324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914560" y="1547640"/>
            <a:ext cx="1159920" cy="1175400"/>
            <a:chOff x="2914560" y="1547640"/>
            <a:chExt cx="1159920" cy="1175400"/>
          </a:xfrm>
        </p:grpSpPr>
        <p:sp>
          <p:nvSpPr>
            <p:cNvPr id="208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2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640000">
                    <a:off x="3723840" y="2149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4" name=""/>
            <p:cNvGrpSpPr/>
            <p:nvPr/>
          </p:nvGrpSpPr>
          <p:grpSpPr>
            <a:xfrm>
              <a:off x="3396600" y="2041560"/>
              <a:ext cx="677880" cy="617400"/>
              <a:chOff x="3396600" y="2041560"/>
              <a:chExt cx="677880" cy="617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3553200" y="2041560"/>
                <a:ext cx="521280" cy="611280"/>
                <a:chOff x="3553200" y="2041560"/>
                <a:chExt cx="521280" cy="611280"/>
              </a:xfrm>
            </p:grpSpPr>
            <p:sp>
              <p:nvSpPr>
                <p:cNvPr id="226" name=""/>
                <p:cNvSpPr/>
                <p:nvPr/>
              </p:nvSpPr>
              <p:spPr>
                <a:xfrm flipH="1" flipV="1" rot="1528800">
                  <a:off x="3843000" y="20433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 rot="2344200">
                  <a:off x="3804120" y="2117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640000">
                  <a:off x="3771000" y="2154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3172200">
                  <a:off x="3730320" y="2196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396600" y="2209680"/>
                <a:ext cx="655200" cy="449280"/>
                <a:chOff x="3396600" y="2209680"/>
                <a:chExt cx="655200" cy="449280"/>
              </a:xfrm>
            </p:grpSpPr>
            <p:sp>
              <p:nvSpPr>
                <p:cNvPr id="231" name=""/>
                <p:cNvSpPr/>
                <p:nvPr/>
              </p:nvSpPr>
              <p:spPr>
                <a:xfrm flipH="1" flipV="1" rot="2881800">
                  <a:off x="3758040" y="21715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 rot="3697200">
                  <a:off x="3693240" y="22255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993000">
                  <a:off x="3650040" y="2246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4525200">
                  <a:off x="3595320" y="22705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830240" y="2830680"/>
            <a:ext cx="1159920" cy="1175400"/>
            <a:chOff x="1830240" y="2830680"/>
            <a:chExt cx="1159920" cy="1175400"/>
          </a:xfrm>
        </p:grpSpPr>
        <p:sp>
          <p:nvSpPr>
            <p:cNvPr id="237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2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640000">
                    <a:off x="2639520" y="3432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3" name=""/>
            <p:cNvGrpSpPr/>
            <p:nvPr/>
          </p:nvGrpSpPr>
          <p:grpSpPr>
            <a:xfrm>
              <a:off x="2312280" y="3324600"/>
              <a:ext cx="677880" cy="617400"/>
              <a:chOff x="2312280" y="3324600"/>
              <a:chExt cx="677880" cy="6174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2468880" y="3324600"/>
                <a:ext cx="521280" cy="611280"/>
                <a:chOff x="2468880" y="3324600"/>
                <a:chExt cx="521280" cy="611280"/>
              </a:xfrm>
            </p:grpSpPr>
            <p:sp>
              <p:nvSpPr>
                <p:cNvPr id="255" name=""/>
                <p:cNvSpPr/>
                <p:nvPr/>
              </p:nvSpPr>
              <p:spPr>
                <a:xfrm flipH="1" flipV="1" rot="1528800">
                  <a:off x="2758680" y="33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 rot="2344200">
                  <a:off x="2719800" y="34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640000">
                  <a:off x="2686680" y="34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3172200">
                  <a:off x="2646000" y="34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2312280" y="3492720"/>
                <a:ext cx="655200" cy="449280"/>
                <a:chOff x="2312280" y="3492720"/>
                <a:chExt cx="655200" cy="449280"/>
              </a:xfrm>
            </p:grpSpPr>
            <p:sp>
              <p:nvSpPr>
                <p:cNvPr id="260" name=""/>
                <p:cNvSpPr/>
                <p:nvPr/>
              </p:nvSpPr>
              <p:spPr>
                <a:xfrm flipH="1" flipV="1" rot="2881800">
                  <a:off x="2673720" y="34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 rot="3697200">
                  <a:off x="2608920" y="35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993000">
                  <a:off x="2565720" y="35294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4525200">
                  <a:off x="2511000" y="35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943360" y="5178600"/>
            <a:ext cx="1159200" cy="1175400"/>
            <a:chOff x="2943360" y="5178600"/>
            <a:chExt cx="1159200" cy="1175400"/>
          </a:xfrm>
        </p:grpSpPr>
        <p:sp>
          <p:nvSpPr>
            <p:cNvPr id="266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0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1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640000">
                    <a:off x="3752280" y="5780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2" name=""/>
            <p:cNvGrpSpPr/>
            <p:nvPr/>
          </p:nvGrpSpPr>
          <p:grpSpPr>
            <a:xfrm>
              <a:off x="3424320" y="5672160"/>
              <a:ext cx="678240" cy="617760"/>
              <a:chOff x="3424320" y="5672160"/>
              <a:chExt cx="678240" cy="61776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581280" y="5672160"/>
                <a:ext cx="521280" cy="611640"/>
                <a:chOff x="3581280" y="5672160"/>
                <a:chExt cx="521280" cy="611640"/>
              </a:xfrm>
            </p:grpSpPr>
            <p:sp>
              <p:nvSpPr>
                <p:cNvPr id="284" name=""/>
                <p:cNvSpPr/>
                <p:nvPr/>
              </p:nvSpPr>
              <p:spPr>
                <a:xfrm flipH="1" flipV="1" rot="1528800">
                  <a:off x="3870720" y="56739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 rot="2344200">
                  <a:off x="3832200" y="574848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640000">
                  <a:off x="3799800" y="57848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3172200">
                  <a:off x="3759120" y="58266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424320" y="5840640"/>
                <a:ext cx="655200" cy="449280"/>
                <a:chOff x="3424320" y="5840640"/>
                <a:chExt cx="655200" cy="449280"/>
              </a:xfrm>
            </p:grpSpPr>
            <p:sp>
              <p:nvSpPr>
                <p:cNvPr id="289" name=""/>
                <p:cNvSpPr/>
                <p:nvPr/>
              </p:nvSpPr>
              <p:spPr>
                <a:xfrm flipH="1" flipV="1" rot="2881800">
                  <a:off x="3786480" y="5802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3697200">
                  <a:off x="3721680" y="58568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993000">
                  <a:off x="3677760" y="58773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4525200">
                  <a:off x="3623040" y="59007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187960" y="3719520"/>
            <a:ext cx="1159920" cy="1175400"/>
            <a:chOff x="5187960" y="3719520"/>
            <a:chExt cx="1159920" cy="1175400"/>
          </a:xfrm>
        </p:grpSpPr>
        <p:sp>
          <p:nvSpPr>
            <p:cNvPr id="295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0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640000">
                    <a:off x="5997240" y="4321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1" name=""/>
            <p:cNvGrpSpPr/>
            <p:nvPr/>
          </p:nvGrpSpPr>
          <p:grpSpPr>
            <a:xfrm>
              <a:off x="5670000" y="4213440"/>
              <a:ext cx="677880" cy="617400"/>
              <a:chOff x="5670000" y="4213440"/>
              <a:chExt cx="677880" cy="6174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5826600" y="4213440"/>
                <a:ext cx="521280" cy="611280"/>
                <a:chOff x="5826600" y="4213440"/>
                <a:chExt cx="521280" cy="611280"/>
              </a:xfrm>
            </p:grpSpPr>
            <p:sp>
              <p:nvSpPr>
                <p:cNvPr id="313" name=""/>
                <p:cNvSpPr/>
                <p:nvPr/>
              </p:nvSpPr>
              <p:spPr>
                <a:xfrm flipH="1" flipV="1" rot="1528800">
                  <a:off x="6116400" y="4215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 rot="2344200">
                  <a:off x="6077520" y="4289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640000">
                  <a:off x="6044400" y="4326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3172200">
                  <a:off x="6003720" y="4367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670000" y="4381560"/>
                <a:ext cx="655200" cy="449280"/>
                <a:chOff x="5670000" y="4381560"/>
                <a:chExt cx="655200" cy="449280"/>
              </a:xfrm>
            </p:grpSpPr>
            <p:sp>
              <p:nvSpPr>
                <p:cNvPr id="318" name=""/>
                <p:cNvSpPr/>
                <p:nvPr/>
              </p:nvSpPr>
              <p:spPr>
                <a:xfrm flipH="1" flipV="1" rot="2881800">
                  <a:off x="6031440" y="4343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 rot="3697200">
                  <a:off x="5966640" y="4397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993000">
                  <a:off x="5923440" y="44182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4525200">
                  <a:off x="5868720" y="444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81480" y="1557360"/>
            <a:ext cx="1159920" cy="1175400"/>
            <a:chOff x="5181480" y="1557360"/>
            <a:chExt cx="1159920" cy="1175400"/>
          </a:xfrm>
        </p:grpSpPr>
        <p:sp>
          <p:nvSpPr>
            <p:cNvPr id="324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8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9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640000">
                    <a:off x="5990760" y="2159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0" name=""/>
            <p:cNvGrpSpPr/>
            <p:nvPr/>
          </p:nvGrpSpPr>
          <p:grpSpPr>
            <a:xfrm>
              <a:off x="5663520" y="2051280"/>
              <a:ext cx="677880" cy="617400"/>
              <a:chOff x="5663520" y="2051280"/>
              <a:chExt cx="677880" cy="61740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5820120" y="2051280"/>
                <a:ext cx="521280" cy="611280"/>
                <a:chOff x="5820120" y="2051280"/>
                <a:chExt cx="521280" cy="611280"/>
              </a:xfrm>
            </p:grpSpPr>
            <p:sp>
              <p:nvSpPr>
                <p:cNvPr id="342" name=""/>
                <p:cNvSpPr/>
                <p:nvPr/>
              </p:nvSpPr>
              <p:spPr>
                <a:xfrm flipH="1" flipV="1" rot="1528800">
                  <a:off x="6109920" y="20530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 rot="2344200">
                  <a:off x="6071040" y="2127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640000">
                  <a:off x="6037920" y="2163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3172200">
                  <a:off x="5997240" y="2205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663520" y="2219400"/>
                <a:ext cx="655200" cy="449280"/>
                <a:chOff x="5663520" y="2219400"/>
                <a:chExt cx="655200" cy="449280"/>
              </a:xfrm>
            </p:grpSpPr>
            <p:sp>
              <p:nvSpPr>
                <p:cNvPr id="347" name=""/>
                <p:cNvSpPr/>
                <p:nvPr/>
              </p:nvSpPr>
              <p:spPr>
                <a:xfrm flipH="1" flipV="1" rot="2881800">
                  <a:off x="6024960" y="21812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flipV="1" rot="3697200">
                  <a:off x="5960160" y="223524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993000">
                  <a:off x="5916960" y="22561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4525200">
                  <a:off x="5862240" y="22802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3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7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10053000">
                  <a:off x="4556160" y="35744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2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406000">
                  <a:off x="4550760" y="34848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8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319"/>
                </a:solidFill>
                <a:uFillTx/>
                <a:latin typeface="Arial"/>
                <a:hlinkClick r:id="rId6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8:42:25Z</dcterms:created>
  <dc:creator>微软用户</dc:creator>
  <dc:description/>
  <dc:language>en-US</dc:language>
  <cp:lastModifiedBy>微软用户</cp:lastModifiedBy>
  <dcterms:modified xsi:type="dcterms:W3CDTF">2015-07-04T08:29:56Z</dcterms:modified>
  <cp:revision>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