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E824-83D6-4736-A9A9-DDD96611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A9AA-21B8-4C6D-8132-A839F6CC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A23D-0BBD-473C-9853-459EE27D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D564-995F-4DC2-A9A1-33A26130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395A-416B-4DA8-AA8A-3A114807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1020-5DC3-4D11-AFA2-96FF5BCA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C943-4E93-4E10-8118-079FB293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CAA7-1364-4845-8202-6A807A68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E71F-3463-424F-B850-C0DB40B9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966D-BE15-46F5-98C0-E441E402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96FF-2622-42B0-A86E-ECAAD745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7244-FB4B-42C1-8A7F-D859FA65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965C-1B4D-4E4B-A53B-8763B9F5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F01B-AC29-4337-8AFE-F1568CDF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6E79-7226-40F0-8237-D4E7D326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8E9C-B7C1-4FC0-B495-C09C43A7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D27A-CCED-44C8-A613-A2AB53A6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707F-4099-4658-BE35-9E0E8B9A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76FE-15F1-4E30-B422-AEF72937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1080-1C09-4383-A96F-A7DA8458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2125-3000-4686-8BCE-A004B71A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9A0C-98E5-41ED-BC8E-2FA4AE33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CF49-450E-4990-943A-931299CA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7C23-F1FC-4C16-AE97-508B3C3A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9BBF1E62-8040-42BB-9A32-63DBA2C18BB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AE6B-B3C5-48BE-B94A-945EDCFF2F6A}" type="slidenum">
              <a:rPr b="0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53F030F4-CEED-439A-829E-82DCAA8EEB74}" type="slidenum"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37C0-B5ED-4E91-9795-C63BE62480B6}" type="slidenum">
              <a:rPr b="0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hyperlink" Target="http://www.eeppt.com/moban/guowai/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Grafik 3" descr="Abstract1.jpg"/>
          <p:cNvPicPr/>
          <p:nvPr/>
        </p:nvPicPr>
        <p:blipFill>
          <a:blip r:embed="rId1"/>
          <a:stretch/>
        </p:blipFill>
        <p:spPr>
          <a:xfrm>
            <a:off x="-144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51600" y="1593720"/>
            <a:ext cx="4086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Arial"/>
              </a:rPr>
              <a:t>外国简约商务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5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16720" y="267660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\\Diskstation\PresentationLoad\PRESENTATIONLOAD\4_PRODUKTION\0_BILDERBIBLIOTHEK\_Texturen -Hintergründe\Abstract1_grey.jpg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29520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  <a:ea typeface="宋体"/>
              </a:rPr>
              <a:t>Abstract Backgro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9520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Grafik 5" descr="Abstract1_gre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Grafik 2" descr="Abstrac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29520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  <a:ea typeface="宋体"/>
              </a:rPr>
              <a:t>Abstract Backgro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9520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20760" y="33480"/>
            <a:ext cx="8520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  <a:ea typeface="宋体"/>
              </a:rPr>
              <a:t>Head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20760" y="10126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Grafik 220" descr="Hintergrund button.png"/>
          <p:cNvPicPr/>
          <p:nvPr/>
        </p:nvPicPr>
        <p:blipFill>
          <a:blip r:embed="rId1"/>
          <a:stretch/>
        </p:blipFill>
        <p:spPr>
          <a:xfrm>
            <a:off x="6566040" y="3619440"/>
            <a:ext cx="1974600" cy="1960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63000"/>
              </a:srgbClr>
            </a:outerShdw>
          </a:effectLst>
        </p:spPr>
      </p:pic>
      <p:pic>
        <p:nvPicPr>
          <p:cNvPr id="97" name="Grafik 8" descr="Abstrac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0008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262626"/>
            </a:outerShdw>
          </a:effectLst>
        </p:spPr>
      </p:pic>
      <p:grpSp>
        <p:nvGrpSpPr>
          <p:cNvPr id="98" name=""/>
          <p:cNvGrpSpPr/>
          <p:nvPr/>
        </p:nvGrpSpPr>
        <p:grpSpPr>
          <a:xfrm>
            <a:off x="4645080" y="3495960"/>
            <a:ext cx="2111400" cy="2136960"/>
            <a:chOff x="4645080" y="3495960"/>
            <a:chExt cx="2111400" cy="2136960"/>
          </a:xfrm>
        </p:grpSpPr>
        <p:pic>
          <p:nvPicPr>
            <p:cNvPr id="99" name="Grafik 223" descr="Hintergrund button.png"/>
            <p:cNvPicPr/>
            <p:nvPr/>
          </p:nvPicPr>
          <p:blipFill>
            <a:blip r:embed="rId3"/>
            <a:stretch/>
          </p:blipFill>
          <p:spPr>
            <a:xfrm>
              <a:off x="4718160" y="3629160"/>
              <a:ext cx="1974600" cy="1960560"/>
            </a:xfrm>
            <a:prstGeom prst="rect">
              <a:avLst/>
            </a:prstGeom>
            <a:ln w="0">
              <a:noFill/>
            </a:ln>
            <a:effectLst>
              <a:outerShdw dist="0" dir="0" blurRad="0" rotWithShape="0">
                <a:srgbClr val="000000">
                  <a:alpha val="63000"/>
                </a:srgbClr>
              </a:outerShdw>
            </a:effectLst>
          </p:spPr>
        </p:pic>
        <p:sp>
          <p:nvSpPr>
            <p:cNvPr id="100" name="Freeform 165"/>
            <p:cNvSpPr/>
            <p:nvPr/>
          </p:nvSpPr>
          <p:spPr>
            <a:xfrm rot="20704200">
              <a:off x="4982760" y="4762440"/>
              <a:ext cx="1717560" cy="660240"/>
            </a:xfrm>
            <a:custGeom>
              <a:avLst/>
              <a:gdLst/>
              <a:ahLst/>
              <a:rect l="l" t="t" r="r" b="b"/>
              <a:pathLst>
                <a:path w="1685" h="653">
                  <a:moveTo>
                    <a:pt x="0" y="0"/>
                  </a:moveTo>
                  <a:cubicBezTo>
                    <a:pt x="1685" y="0"/>
                    <a:pt x="1685" y="0"/>
                    <a:pt x="1685" y="0"/>
                  </a:cubicBezTo>
                  <a:cubicBezTo>
                    <a:pt x="1685" y="2"/>
                    <a:pt x="1684" y="5"/>
                    <a:pt x="1683" y="7"/>
                  </a:cubicBezTo>
                  <a:cubicBezTo>
                    <a:pt x="1683" y="7"/>
                    <a:pt x="1683" y="8"/>
                    <a:pt x="1683" y="9"/>
                  </a:cubicBezTo>
                  <a:cubicBezTo>
                    <a:pt x="1682" y="12"/>
                    <a:pt x="1681" y="15"/>
                    <a:pt x="1681" y="17"/>
                  </a:cubicBezTo>
                  <a:cubicBezTo>
                    <a:pt x="1678" y="26"/>
                    <a:pt x="1675" y="35"/>
                    <a:pt x="1673" y="44"/>
                  </a:cubicBezTo>
                  <a:cubicBezTo>
                    <a:pt x="1671" y="50"/>
                    <a:pt x="1669" y="56"/>
                    <a:pt x="1667" y="62"/>
                  </a:cubicBezTo>
                  <a:cubicBezTo>
                    <a:pt x="1666" y="65"/>
                    <a:pt x="1665" y="69"/>
                    <a:pt x="1663" y="72"/>
                  </a:cubicBezTo>
                  <a:cubicBezTo>
                    <a:pt x="1662" y="75"/>
                    <a:pt x="1661" y="79"/>
                    <a:pt x="1660" y="82"/>
                  </a:cubicBezTo>
                  <a:cubicBezTo>
                    <a:pt x="1659" y="85"/>
                    <a:pt x="1658" y="87"/>
                    <a:pt x="1657" y="90"/>
                  </a:cubicBezTo>
                  <a:cubicBezTo>
                    <a:pt x="1651" y="104"/>
                    <a:pt x="1645" y="119"/>
                    <a:pt x="1639" y="133"/>
                  </a:cubicBezTo>
                  <a:cubicBezTo>
                    <a:pt x="1638" y="136"/>
                    <a:pt x="1637" y="138"/>
                    <a:pt x="1636" y="141"/>
                  </a:cubicBezTo>
                  <a:cubicBezTo>
                    <a:pt x="1634" y="145"/>
                    <a:pt x="1632" y="148"/>
                    <a:pt x="1630" y="152"/>
                  </a:cubicBezTo>
                  <a:cubicBezTo>
                    <a:pt x="1628" y="158"/>
                    <a:pt x="1625" y="163"/>
                    <a:pt x="1623" y="168"/>
                  </a:cubicBezTo>
                  <a:cubicBezTo>
                    <a:pt x="1620" y="174"/>
                    <a:pt x="1617" y="179"/>
                    <a:pt x="1615" y="184"/>
                  </a:cubicBezTo>
                  <a:cubicBezTo>
                    <a:pt x="1613" y="187"/>
                    <a:pt x="1612" y="189"/>
                    <a:pt x="1611" y="191"/>
                  </a:cubicBezTo>
                  <a:cubicBezTo>
                    <a:pt x="1609" y="194"/>
                    <a:pt x="1608" y="197"/>
                    <a:pt x="1606" y="200"/>
                  </a:cubicBezTo>
                  <a:cubicBezTo>
                    <a:pt x="1605" y="202"/>
                    <a:pt x="1603" y="205"/>
                    <a:pt x="1602" y="208"/>
                  </a:cubicBezTo>
                  <a:cubicBezTo>
                    <a:pt x="1576" y="253"/>
                    <a:pt x="1547" y="296"/>
                    <a:pt x="1514" y="336"/>
                  </a:cubicBezTo>
                  <a:cubicBezTo>
                    <a:pt x="1512" y="338"/>
                    <a:pt x="1511" y="340"/>
                    <a:pt x="1509" y="342"/>
                  </a:cubicBezTo>
                  <a:cubicBezTo>
                    <a:pt x="1504" y="348"/>
                    <a:pt x="1499" y="354"/>
                    <a:pt x="1494" y="360"/>
                  </a:cubicBezTo>
                  <a:cubicBezTo>
                    <a:pt x="1492" y="362"/>
                    <a:pt x="1490" y="365"/>
                    <a:pt x="1488" y="367"/>
                  </a:cubicBezTo>
                  <a:cubicBezTo>
                    <a:pt x="1485" y="370"/>
                    <a:pt x="1482" y="373"/>
                    <a:pt x="1479" y="376"/>
                  </a:cubicBezTo>
                  <a:cubicBezTo>
                    <a:pt x="1477" y="378"/>
                    <a:pt x="1475" y="381"/>
                    <a:pt x="1472" y="383"/>
                  </a:cubicBezTo>
                  <a:cubicBezTo>
                    <a:pt x="1467" y="388"/>
                    <a:pt x="1462" y="394"/>
                    <a:pt x="1457" y="399"/>
                  </a:cubicBezTo>
                  <a:cubicBezTo>
                    <a:pt x="1455" y="401"/>
                    <a:pt x="1453" y="403"/>
                    <a:pt x="1450" y="405"/>
                  </a:cubicBezTo>
                  <a:cubicBezTo>
                    <a:pt x="1449" y="407"/>
                    <a:pt x="1447" y="409"/>
                    <a:pt x="1445" y="411"/>
                  </a:cubicBezTo>
                  <a:cubicBezTo>
                    <a:pt x="1443" y="412"/>
                    <a:pt x="1441" y="414"/>
                    <a:pt x="1440" y="416"/>
                  </a:cubicBezTo>
                  <a:cubicBezTo>
                    <a:pt x="1438" y="418"/>
                    <a:pt x="1436" y="420"/>
                    <a:pt x="1433" y="422"/>
                  </a:cubicBezTo>
                  <a:cubicBezTo>
                    <a:pt x="1426" y="428"/>
                    <a:pt x="1419" y="434"/>
                    <a:pt x="1412" y="441"/>
                  </a:cubicBezTo>
                  <a:cubicBezTo>
                    <a:pt x="1407" y="445"/>
                    <a:pt x="1402" y="449"/>
                    <a:pt x="1397" y="454"/>
                  </a:cubicBezTo>
                  <a:cubicBezTo>
                    <a:pt x="1394" y="456"/>
                    <a:pt x="1391" y="458"/>
                    <a:pt x="1388" y="461"/>
                  </a:cubicBezTo>
                  <a:cubicBezTo>
                    <a:pt x="1385" y="463"/>
                    <a:pt x="1383" y="465"/>
                    <a:pt x="1380" y="467"/>
                  </a:cubicBezTo>
                  <a:cubicBezTo>
                    <a:pt x="1376" y="470"/>
                    <a:pt x="1373" y="473"/>
                    <a:pt x="1369" y="475"/>
                  </a:cubicBezTo>
                  <a:cubicBezTo>
                    <a:pt x="1367" y="477"/>
                    <a:pt x="1365" y="478"/>
                    <a:pt x="1363" y="480"/>
                  </a:cubicBezTo>
                  <a:cubicBezTo>
                    <a:pt x="1360" y="482"/>
                    <a:pt x="1358" y="484"/>
                    <a:pt x="1355" y="486"/>
                  </a:cubicBezTo>
                  <a:cubicBezTo>
                    <a:pt x="1352" y="488"/>
                    <a:pt x="1350" y="490"/>
                    <a:pt x="1348" y="491"/>
                  </a:cubicBezTo>
                  <a:cubicBezTo>
                    <a:pt x="1342" y="496"/>
                    <a:pt x="1335" y="500"/>
                    <a:pt x="1329" y="504"/>
                  </a:cubicBezTo>
                  <a:cubicBezTo>
                    <a:pt x="1323" y="508"/>
                    <a:pt x="1317" y="512"/>
                    <a:pt x="1312" y="516"/>
                  </a:cubicBezTo>
                  <a:cubicBezTo>
                    <a:pt x="1309" y="518"/>
                    <a:pt x="1306" y="520"/>
                    <a:pt x="1303" y="521"/>
                  </a:cubicBezTo>
                  <a:cubicBezTo>
                    <a:pt x="1301" y="523"/>
                    <a:pt x="1298" y="524"/>
                    <a:pt x="1296" y="525"/>
                  </a:cubicBezTo>
                  <a:cubicBezTo>
                    <a:pt x="1290" y="530"/>
                    <a:pt x="1283" y="534"/>
                    <a:pt x="1276" y="538"/>
                  </a:cubicBezTo>
                  <a:cubicBezTo>
                    <a:pt x="1273" y="539"/>
                    <a:pt x="1270" y="541"/>
                    <a:pt x="1267" y="543"/>
                  </a:cubicBezTo>
                  <a:cubicBezTo>
                    <a:pt x="1257" y="548"/>
                    <a:pt x="1248" y="553"/>
                    <a:pt x="1238" y="558"/>
                  </a:cubicBezTo>
                  <a:cubicBezTo>
                    <a:pt x="1235" y="559"/>
                    <a:pt x="1232" y="561"/>
                    <a:pt x="1229" y="562"/>
                  </a:cubicBezTo>
                  <a:cubicBezTo>
                    <a:pt x="1223" y="566"/>
                    <a:pt x="1217" y="569"/>
                    <a:pt x="1210" y="572"/>
                  </a:cubicBezTo>
                  <a:cubicBezTo>
                    <a:pt x="1204" y="575"/>
                    <a:pt x="1198" y="577"/>
                    <a:pt x="1191" y="580"/>
                  </a:cubicBezTo>
                  <a:cubicBezTo>
                    <a:pt x="1187" y="582"/>
                    <a:pt x="1182" y="584"/>
                    <a:pt x="1178" y="586"/>
                  </a:cubicBezTo>
                  <a:cubicBezTo>
                    <a:pt x="1176" y="587"/>
                    <a:pt x="1174" y="588"/>
                    <a:pt x="1172" y="589"/>
                  </a:cubicBezTo>
                  <a:cubicBezTo>
                    <a:pt x="1168" y="590"/>
                    <a:pt x="1165" y="591"/>
                    <a:pt x="1162" y="592"/>
                  </a:cubicBezTo>
                  <a:cubicBezTo>
                    <a:pt x="1158" y="594"/>
                    <a:pt x="1155" y="595"/>
                    <a:pt x="1152" y="596"/>
                  </a:cubicBezTo>
                  <a:cubicBezTo>
                    <a:pt x="1148" y="598"/>
                    <a:pt x="1145" y="599"/>
                    <a:pt x="1142" y="600"/>
                  </a:cubicBezTo>
                  <a:cubicBezTo>
                    <a:pt x="1139" y="601"/>
                    <a:pt x="1135" y="602"/>
                    <a:pt x="1132" y="604"/>
                  </a:cubicBezTo>
                  <a:cubicBezTo>
                    <a:pt x="1125" y="606"/>
                    <a:pt x="1118" y="608"/>
                    <a:pt x="1112" y="610"/>
                  </a:cubicBezTo>
                  <a:cubicBezTo>
                    <a:pt x="1108" y="612"/>
                    <a:pt x="1105" y="613"/>
                    <a:pt x="1101" y="614"/>
                  </a:cubicBezTo>
                  <a:cubicBezTo>
                    <a:pt x="1098" y="615"/>
                    <a:pt x="1095" y="616"/>
                    <a:pt x="1092" y="617"/>
                  </a:cubicBezTo>
                  <a:cubicBezTo>
                    <a:pt x="1081" y="620"/>
                    <a:pt x="1070" y="623"/>
                    <a:pt x="1059" y="626"/>
                  </a:cubicBezTo>
                  <a:cubicBezTo>
                    <a:pt x="1057" y="626"/>
                    <a:pt x="1054" y="627"/>
                    <a:pt x="1051" y="628"/>
                  </a:cubicBezTo>
                  <a:cubicBezTo>
                    <a:pt x="1036" y="631"/>
                    <a:pt x="1021" y="635"/>
                    <a:pt x="1005" y="638"/>
                  </a:cubicBezTo>
                  <a:cubicBezTo>
                    <a:pt x="1002" y="638"/>
                    <a:pt x="1000" y="639"/>
                    <a:pt x="997" y="639"/>
                  </a:cubicBezTo>
                  <a:cubicBezTo>
                    <a:pt x="993" y="640"/>
                    <a:pt x="990" y="641"/>
                    <a:pt x="986" y="641"/>
                  </a:cubicBezTo>
                  <a:cubicBezTo>
                    <a:pt x="982" y="642"/>
                    <a:pt x="979" y="642"/>
                    <a:pt x="975" y="643"/>
                  </a:cubicBezTo>
                  <a:cubicBezTo>
                    <a:pt x="973" y="643"/>
                    <a:pt x="970" y="644"/>
                    <a:pt x="967" y="644"/>
                  </a:cubicBezTo>
                  <a:cubicBezTo>
                    <a:pt x="938" y="648"/>
                    <a:pt x="907" y="651"/>
                    <a:pt x="876" y="652"/>
                  </a:cubicBezTo>
                  <a:cubicBezTo>
                    <a:pt x="873" y="652"/>
                    <a:pt x="870" y="652"/>
                    <a:pt x="866" y="653"/>
                  </a:cubicBezTo>
                  <a:cubicBezTo>
                    <a:pt x="862" y="653"/>
                    <a:pt x="858" y="653"/>
                    <a:pt x="854" y="653"/>
                  </a:cubicBezTo>
                  <a:cubicBezTo>
                    <a:pt x="850" y="653"/>
                    <a:pt x="847" y="653"/>
                    <a:pt x="843" y="653"/>
                  </a:cubicBezTo>
                  <a:cubicBezTo>
                    <a:pt x="839" y="653"/>
                    <a:pt x="835" y="653"/>
                    <a:pt x="832" y="653"/>
                  </a:cubicBezTo>
                  <a:cubicBezTo>
                    <a:pt x="827" y="653"/>
                    <a:pt x="823" y="653"/>
                    <a:pt x="819" y="653"/>
                  </a:cubicBezTo>
                  <a:cubicBezTo>
                    <a:pt x="816" y="652"/>
                    <a:pt x="812" y="652"/>
                    <a:pt x="809" y="652"/>
                  </a:cubicBezTo>
                  <a:cubicBezTo>
                    <a:pt x="778" y="651"/>
                    <a:pt x="748" y="648"/>
                    <a:pt x="718" y="644"/>
                  </a:cubicBezTo>
                  <a:cubicBezTo>
                    <a:pt x="716" y="644"/>
                    <a:pt x="713" y="643"/>
                    <a:pt x="710" y="643"/>
                  </a:cubicBezTo>
                  <a:cubicBezTo>
                    <a:pt x="707" y="642"/>
                    <a:pt x="703" y="642"/>
                    <a:pt x="700" y="641"/>
                  </a:cubicBezTo>
                  <a:cubicBezTo>
                    <a:pt x="696" y="641"/>
                    <a:pt x="692" y="640"/>
                    <a:pt x="689" y="639"/>
                  </a:cubicBezTo>
                  <a:cubicBezTo>
                    <a:pt x="686" y="639"/>
                    <a:pt x="683" y="638"/>
                    <a:pt x="681" y="638"/>
                  </a:cubicBezTo>
                  <a:cubicBezTo>
                    <a:pt x="665" y="635"/>
                    <a:pt x="649" y="631"/>
                    <a:pt x="634" y="628"/>
                  </a:cubicBezTo>
                  <a:cubicBezTo>
                    <a:pt x="632" y="627"/>
                    <a:pt x="629" y="626"/>
                    <a:pt x="626" y="626"/>
                  </a:cubicBezTo>
                  <a:cubicBezTo>
                    <a:pt x="616" y="623"/>
                    <a:pt x="605" y="620"/>
                    <a:pt x="594" y="617"/>
                  </a:cubicBezTo>
                  <a:cubicBezTo>
                    <a:pt x="591" y="616"/>
                    <a:pt x="587" y="615"/>
                    <a:pt x="584" y="614"/>
                  </a:cubicBezTo>
                  <a:cubicBezTo>
                    <a:pt x="581" y="613"/>
                    <a:pt x="577" y="612"/>
                    <a:pt x="574" y="610"/>
                  </a:cubicBezTo>
                  <a:cubicBezTo>
                    <a:pt x="567" y="608"/>
                    <a:pt x="560" y="606"/>
                    <a:pt x="554" y="604"/>
                  </a:cubicBezTo>
                  <a:cubicBezTo>
                    <a:pt x="550" y="602"/>
                    <a:pt x="547" y="601"/>
                    <a:pt x="544" y="600"/>
                  </a:cubicBezTo>
                  <a:cubicBezTo>
                    <a:pt x="540" y="599"/>
                    <a:pt x="537" y="598"/>
                    <a:pt x="534" y="596"/>
                  </a:cubicBezTo>
                  <a:cubicBezTo>
                    <a:pt x="530" y="595"/>
                    <a:pt x="527" y="594"/>
                    <a:pt x="524" y="592"/>
                  </a:cubicBezTo>
                  <a:cubicBezTo>
                    <a:pt x="521" y="591"/>
                    <a:pt x="517" y="590"/>
                    <a:pt x="514" y="589"/>
                  </a:cubicBezTo>
                  <a:cubicBezTo>
                    <a:pt x="512" y="588"/>
                    <a:pt x="510" y="587"/>
                    <a:pt x="507" y="586"/>
                  </a:cubicBezTo>
                  <a:cubicBezTo>
                    <a:pt x="503" y="584"/>
                    <a:pt x="499" y="582"/>
                    <a:pt x="495" y="580"/>
                  </a:cubicBezTo>
                  <a:cubicBezTo>
                    <a:pt x="488" y="577"/>
                    <a:pt x="482" y="575"/>
                    <a:pt x="475" y="572"/>
                  </a:cubicBezTo>
                  <a:cubicBezTo>
                    <a:pt x="469" y="569"/>
                    <a:pt x="463" y="566"/>
                    <a:pt x="456" y="562"/>
                  </a:cubicBezTo>
                  <a:cubicBezTo>
                    <a:pt x="453" y="561"/>
                    <a:pt x="450" y="559"/>
                    <a:pt x="447" y="558"/>
                  </a:cubicBezTo>
                  <a:cubicBezTo>
                    <a:pt x="438" y="553"/>
                    <a:pt x="428" y="548"/>
                    <a:pt x="419" y="543"/>
                  </a:cubicBezTo>
                  <a:cubicBezTo>
                    <a:pt x="416" y="541"/>
                    <a:pt x="413" y="539"/>
                    <a:pt x="410" y="538"/>
                  </a:cubicBezTo>
                  <a:cubicBezTo>
                    <a:pt x="403" y="534"/>
                    <a:pt x="396" y="530"/>
                    <a:pt x="389" y="525"/>
                  </a:cubicBezTo>
                  <a:cubicBezTo>
                    <a:pt x="387" y="524"/>
                    <a:pt x="385" y="523"/>
                    <a:pt x="383" y="521"/>
                  </a:cubicBezTo>
                  <a:cubicBezTo>
                    <a:pt x="380" y="520"/>
                    <a:pt x="377" y="518"/>
                    <a:pt x="374" y="516"/>
                  </a:cubicBezTo>
                  <a:cubicBezTo>
                    <a:pt x="368" y="512"/>
                    <a:pt x="362" y="508"/>
                    <a:pt x="357" y="504"/>
                  </a:cubicBezTo>
                  <a:cubicBezTo>
                    <a:pt x="350" y="500"/>
                    <a:pt x="344" y="496"/>
                    <a:pt x="338" y="491"/>
                  </a:cubicBezTo>
                  <a:cubicBezTo>
                    <a:pt x="335" y="490"/>
                    <a:pt x="333" y="488"/>
                    <a:pt x="331" y="486"/>
                  </a:cubicBezTo>
                  <a:cubicBezTo>
                    <a:pt x="328" y="484"/>
                    <a:pt x="325" y="482"/>
                    <a:pt x="322" y="480"/>
                  </a:cubicBezTo>
                  <a:cubicBezTo>
                    <a:pt x="320" y="478"/>
                    <a:pt x="318" y="477"/>
                    <a:pt x="316" y="475"/>
                  </a:cubicBezTo>
                  <a:cubicBezTo>
                    <a:pt x="313" y="473"/>
                    <a:pt x="309" y="470"/>
                    <a:pt x="306" y="467"/>
                  </a:cubicBezTo>
                  <a:cubicBezTo>
                    <a:pt x="303" y="465"/>
                    <a:pt x="300" y="463"/>
                    <a:pt x="298" y="461"/>
                  </a:cubicBezTo>
                  <a:cubicBezTo>
                    <a:pt x="295" y="458"/>
                    <a:pt x="292" y="456"/>
                    <a:pt x="289" y="454"/>
                  </a:cubicBezTo>
                  <a:cubicBezTo>
                    <a:pt x="284" y="449"/>
                    <a:pt x="279" y="445"/>
                    <a:pt x="274" y="441"/>
                  </a:cubicBezTo>
                  <a:cubicBezTo>
                    <a:pt x="266" y="434"/>
                    <a:pt x="259" y="428"/>
                    <a:pt x="252" y="422"/>
                  </a:cubicBezTo>
                  <a:cubicBezTo>
                    <a:pt x="250" y="420"/>
                    <a:pt x="248" y="418"/>
                    <a:pt x="246" y="416"/>
                  </a:cubicBezTo>
                  <a:cubicBezTo>
                    <a:pt x="244" y="414"/>
                    <a:pt x="242" y="412"/>
                    <a:pt x="241" y="411"/>
                  </a:cubicBezTo>
                  <a:cubicBezTo>
                    <a:pt x="239" y="409"/>
                    <a:pt x="237" y="407"/>
                    <a:pt x="235" y="405"/>
                  </a:cubicBezTo>
                  <a:cubicBezTo>
                    <a:pt x="233" y="403"/>
                    <a:pt x="231" y="401"/>
                    <a:pt x="228" y="399"/>
                  </a:cubicBezTo>
                  <a:cubicBezTo>
                    <a:pt x="223" y="394"/>
                    <a:pt x="218" y="388"/>
                    <a:pt x="213" y="383"/>
                  </a:cubicBezTo>
                  <a:cubicBezTo>
                    <a:pt x="211" y="381"/>
                    <a:pt x="209" y="378"/>
                    <a:pt x="207" y="376"/>
                  </a:cubicBezTo>
                  <a:cubicBezTo>
                    <a:pt x="204" y="373"/>
                    <a:pt x="201" y="370"/>
                    <a:pt x="198" y="367"/>
                  </a:cubicBezTo>
                  <a:cubicBezTo>
                    <a:pt x="196" y="365"/>
                    <a:pt x="194" y="362"/>
                    <a:pt x="192" y="360"/>
                  </a:cubicBezTo>
                  <a:cubicBezTo>
                    <a:pt x="187" y="354"/>
                    <a:pt x="181" y="348"/>
                    <a:pt x="176" y="342"/>
                  </a:cubicBezTo>
                  <a:cubicBezTo>
                    <a:pt x="175" y="340"/>
                    <a:pt x="173" y="338"/>
                    <a:pt x="172" y="336"/>
                  </a:cubicBezTo>
                  <a:cubicBezTo>
                    <a:pt x="139" y="296"/>
                    <a:pt x="109" y="253"/>
                    <a:pt x="84" y="208"/>
                  </a:cubicBezTo>
                  <a:cubicBezTo>
                    <a:pt x="82" y="205"/>
                    <a:pt x="81" y="202"/>
                    <a:pt x="79" y="200"/>
                  </a:cubicBezTo>
                  <a:cubicBezTo>
                    <a:pt x="78" y="197"/>
                    <a:pt x="76" y="194"/>
                    <a:pt x="75" y="191"/>
                  </a:cubicBezTo>
                  <a:cubicBezTo>
                    <a:pt x="73" y="189"/>
                    <a:pt x="72" y="187"/>
                    <a:pt x="71" y="184"/>
                  </a:cubicBezTo>
                  <a:cubicBezTo>
                    <a:pt x="68" y="179"/>
                    <a:pt x="66" y="174"/>
                    <a:pt x="63" y="168"/>
                  </a:cubicBezTo>
                  <a:cubicBezTo>
                    <a:pt x="60" y="163"/>
                    <a:pt x="58" y="158"/>
                    <a:pt x="55" y="152"/>
                  </a:cubicBezTo>
                  <a:cubicBezTo>
                    <a:pt x="53" y="148"/>
                    <a:pt x="52" y="145"/>
                    <a:pt x="50" y="141"/>
                  </a:cubicBezTo>
                  <a:cubicBezTo>
                    <a:pt x="49" y="138"/>
                    <a:pt x="48" y="136"/>
                    <a:pt x="46" y="133"/>
                  </a:cubicBezTo>
                  <a:cubicBezTo>
                    <a:pt x="40" y="119"/>
                    <a:pt x="34" y="104"/>
                    <a:pt x="29" y="90"/>
                  </a:cubicBezTo>
                  <a:cubicBezTo>
                    <a:pt x="28" y="87"/>
                    <a:pt x="27" y="85"/>
                    <a:pt x="26" y="82"/>
                  </a:cubicBezTo>
                  <a:cubicBezTo>
                    <a:pt x="25" y="79"/>
                    <a:pt x="23" y="75"/>
                    <a:pt x="22" y="72"/>
                  </a:cubicBezTo>
                  <a:cubicBezTo>
                    <a:pt x="21" y="69"/>
                    <a:pt x="20" y="65"/>
                    <a:pt x="19" y="62"/>
                  </a:cubicBezTo>
                  <a:cubicBezTo>
                    <a:pt x="17" y="56"/>
                    <a:pt x="15" y="50"/>
                    <a:pt x="13" y="44"/>
                  </a:cubicBezTo>
                  <a:cubicBezTo>
                    <a:pt x="10" y="35"/>
                    <a:pt x="8" y="26"/>
                    <a:pt x="5" y="17"/>
                  </a:cubicBezTo>
                  <a:cubicBezTo>
                    <a:pt x="4" y="15"/>
                    <a:pt x="3" y="12"/>
                    <a:pt x="3" y="9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2" y="5"/>
                    <a:pt x="1" y="2"/>
                    <a:pt x="0" y="0"/>
                  </a:cubicBezTo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  <a:effectLst>
              <a:outerShdw dist="50760" dir="5400000" blurRad="0" rotWithShape="0">
                <a:srgbClr val="26262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66"/>
            <p:cNvSpPr/>
            <p:nvPr/>
          </p:nvSpPr>
          <p:spPr>
            <a:xfrm rot="20704200">
              <a:off x="4702320" y="3706560"/>
              <a:ext cx="1724040" cy="671400"/>
            </a:xfrm>
            <a:custGeom>
              <a:avLst/>
              <a:gdLst/>
              <a:ahLst/>
              <a:rect l="l" t="t" r="r" b="b"/>
              <a:pathLst>
                <a:path w="1691" h="665">
                  <a:moveTo>
                    <a:pt x="1691" y="665"/>
                  </a:moveTo>
                  <a:cubicBezTo>
                    <a:pt x="0" y="665"/>
                    <a:pt x="0" y="665"/>
                    <a:pt x="0" y="665"/>
                  </a:cubicBezTo>
                  <a:cubicBezTo>
                    <a:pt x="2" y="659"/>
                    <a:pt x="3" y="653"/>
                    <a:pt x="5" y="647"/>
                  </a:cubicBezTo>
                  <a:cubicBezTo>
                    <a:pt x="12" y="621"/>
                    <a:pt x="20" y="595"/>
                    <a:pt x="29" y="569"/>
                  </a:cubicBezTo>
                  <a:cubicBezTo>
                    <a:pt x="46" y="524"/>
                    <a:pt x="67" y="480"/>
                    <a:pt x="90" y="438"/>
                  </a:cubicBezTo>
                  <a:cubicBezTo>
                    <a:pt x="93" y="433"/>
                    <a:pt x="96" y="428"/>
                    <a:pt x="99" y="423"/>
                  </a:cubicBezTo>
                  <a:cubicBezTo>
                    <a:pt x="107" y="410"/>
                    <a:pt x="115" y="398"/>
                    <a:pt x="123" y="385"/>
                  </a:cubicBezTo>
                  <a:cubicBezTo>
                    <a:pt x="125" y="383"/>
                    <a:pt x="127" y="380"/>
                    <a:pt x="128" y="378"/>
                  </a:cubicBezTo>
                  <a:cubicBezTo>
                    <a:pt x="130" y="375"/>
                    <a:pt x="132" y="373"/>
                    <a:pt x="133" y="370"/>
                  </a:cubicBezTo>
                  <a:cubicBezTo>
                    <a:pt x="135" y="368"/>
                    <a:pt x="137" y="366"/>
                    <a:pt x="139" y="363"/>
                  </a:cubicBezTo>
                  <a:cubicBezTo>
                    <a:pt x="140" y="361"/>
                    <a:pt x="142" y="358"/>
                    <a:pt x="144" y="356"/>
                  </a:cubicBezTo>
                  <a:cubicBezTo>
                    <a:pt x="147" y="351"/>
                    <a:pt x="151" y="346"/>
                    <a:pt x="155" y="342"/>
                  </a:cubicBezTo>
                  <a:cubicBezTo>
                    <a:pt x="156" y="339"/>
                    <a:pt x="158" y="337"/>
                    <a:pt x="160" y="335"/>
                  </a:cubicBezTo>
                  <a:cubicBezTo>
                    <a:pt x="162" y="332"/>
                    <a:pt x="164" y="330"/>
                    <a:pt x="166" y="328"/>
                  </a:cubicBezTo>
                  <a:cubicBezTo>
                    <a:pt x="167" y="325"/>
                    <a:pt x="169" y="323"/>
                    <a:pt x="171" y="321"/>
                  </a:cubicBezTo>
                  <a:cubicBezTo>
                    <a:pt x="186" y="303"/>
                    <a:pt x="201" y="286"/>
                    <a:pt x="216" y="269"/>
                  </a:cubicBezTo>
                  <a:cubicBezTo>
                    <a:pt x="221" y="264"/>
                    <a:pt x="226" y="259"/>
                    <a:pt x="231" y="255"/>
                  </a:cubicBezTo>
                  <a:cubicBezTo>
                    <a:pt x="235" y="250"/>
                    <a:pt x="239" y="246"/>
                    <a:pt x="244" y="242"/>
                  </a:cubicBezTo>
                  <a:cubicBezTo>
                    <a:pt x="246" y="240"/>
                    <a:pt x="248" y="238"/>
                    <a:pt x="250" y="236"/>
                  </a:cubicBezTo>
                  <a:cubicBezTo>
                    <a:pt x="254" y="232"/>
                    <a:pt x="259" y="228"/>
                    <a:pt x="263" y="224"/>
                  </a:cubicBezTo>
                  <a:cubicBezTo>
                    <a:pt x="267" y="220"/>
                    <a:pt x="271" y="217"/>
                    <a:pt x="275" y="213"/>
                  </a:cubicBezTo>
                  <a:cubicBezTo>
                    <a:pt x="280" y="209"/>
                    <a:pt x="285" y="205"/>
                    <a:pt x="290" y="201"/>
                  </a:cubicBezTo>
                  <a:cubicBezTo>
                    <a:pt x="292" y="199"/>
                    <a:pt x="294" y="197"/>
                    <a:pt x="296" y="195"/>
                  </a:cubicBezTo>
                  <a:cubicBezTo>
                    <a:pt x="314" y="181"/>
                    <a:pt x="332" y="167"/>
                    <a:pt x="351" y="154"/>
                  </a:cubicBezTo>
                  <a:cubicBezTo>
                    <a:pt x="354" y="152"/>
                    <a:pt x="356" y="150"/>
                    <a:pt x="359" y="149"/>
                  </a:cubicBezTo>
                  <a:cubicBezTo>
                    <a:pt x="362" y="146"/>
                    <a:pt x="365" y="144"/>
                    <a:pt x="368" y="142"/>
                  </a:cubicBezTo>
                  <a:cubicBezTo>
                    <a:pt x="374" y="139"/>
                    <a:pt x="380" y="135"/>
                    <a:pt x="386" y="131"/>
                  </a:cubicBezTo>
                  <a:cubicBezTo>
                    <a:pt x="389" y="129"/>
                    <a:pt x="391" y="128"/>
                    <a:pt x="394" y="126"/>
                  </a:cubicBezTo>
                  <a:cubicBezTo>
                    <a:pt x="407" y="118"/>
                    <a:pt x="420" y="111"/>
                    <a:pt x="433" y="104"/>
                  </a:cubicBezTo>
                  <a:cubicBezTo>
                    <a:pt x="436" y="102"/>
                    <a:pt x="438" y="101"/>
                    <a:pt x="441" y="100"/>
                  </a:cubicBezTo>
                  <a:cubicBezTo>
                    <a:pt x="444" y="98"/>
                    <a:pt x="447" y="97"/>
                    <a:pt x="450" y="95"/>
                  </a:cubicBezTo>
                  <a:cubicBezTo>
                    <a:pt x="459" y="90"/>
                    <a:pt x="469" y="85"/>
                    <a:pt x="478" y="81"/>
                  </a:cubicBezTo>
                  <a:cubicBezTo>
                    <a:pt x="485" y="78"/>
                    <a:pt x="491" y="75"/>
                    <a:pt x="498" y="72"/>
                  </a:cubicBezTo>
                  <a:cubicBezTo>
                    <a:pt x="514" y="65"/>
                    <a:pt x="531" y="58"/>
                    <a:pt x="549" y="52"/>
                  </a:cubicBezTo>
                  <a:cubicBezTo>
                    <a:pt x="551" y="51"/>
                    <a:pt x="554" y="50"/>
                    <a:pt x="557" y="49"/>
                  </a:cubicBezTo>
                  <a:cubicBezTo>
                    <a:pt x="560" y="48"/>
                    <a:pt x="563" y="47"/>
                    <a:pt x="566" y="46"/>
                  </a:cubicBezTo>
                  <a:cubicBezTo>
                    <a:pt x="580" y="41"/>
                    <a:pt x="595" y="36"/>
                    <a:pt x="609" y="32"/>
                  </a:cubicBezTo>
                  <a:cubicBezTo>
                    <a:pt x="612" y="31"/>
                    <a:pt x="615" y="31"/>
                    <a:pt x="618" y="30"/>
                  </a:cubicBezTo>
                  <a:cubicBezTo>
                    <a:pt x="622" y="29"/>
                    <a:pt x="625" y="28"/>
                    <a:pt x="628" y="27"/>
                  </a:cubicBezTo>
                  <a:cubicBezTo>
                    <a:pt x="646" y="22"/>
                    <a:pt x="664" y="18"/>
                    <a:pt x="683" y="15"/>
                  </a:cubicBezTo>
                  <a:cubicBezTo>
                    <a:pt x="686" y="14"/>
                    <a:pt x="689" y="14"/>
                    <a:pt x="692" y="13"/>
                  </a:cubicBezTo>
                  <a:cubicBezTo>
                    <a:pt x="695" y="13"/>
                    <a:pt x="699" y="12"/>
                    <a:pt x="703" y="11"/>
                  </a:cubicBezTo>
                  <a:cubicBezTo>
                    <a:pt x="703" y="11"/>
                    <a:pt x="704" y="11"/>
                    <a:pt x="705" y="11"/>
                  </a:cubicBezTo>
                  <a:cubicBezTo>
                    <a:pt x="710" y="10"/>
                    <a:pt x="716" y="9"/>
                    <a:pt x="721" y="9"/>
                  </a:cubicBezTo>
                  <a:cubicBezTo>
                    <a:pt x="723" y="8"/>
                    <a:pt x="725" y="8"/>
                    <a:pt x="728" y="8"/>
                  </a:cubicBezTo>
                  <a:cubicBezTo>
                    <a:pt x="730" y="7"/>
                    <a:pt x="733" y="7"/>
                    <a:pt x="735" y="7"/>
                  </a:cubicBezTo>
                  <a:cubicBezTo>
                    <a:pt x="738" y="6"/>
                    <a:pt x="742" y="6"/>
                    <a:pt x="745" y="6"/>
                  </a:cubicBezTo>
                  <a:cubicBezTo>
                    <a:pt x="747" y="5"/>
                    <a:pt x="749" y="5"/>
                    <a:pt x="751" y="5"/>
                  </a:cubicBezTo>
                  <a:cubicBezTo>
                    <a:pt x="754" y="4"/>
                    <a:pt x="757" y="4"/>
                    <a:pt x="760" y="4"/>
                  </a:cubicBezTo>
                  <a:cubicBezTo>
                    <a:pt x="764" y="3"/>
                    <a:pt x="767" y="3"/>
                    <a:pt x="771" y="3"/>
                  </a:cubicBezTo>
                  <a:cubicBezTo>
                    <a:pt x="774" y="3"/>
                    <a:pt x="776" y="2"/>
                    <a:pt x="779" y="2"/>
                  </a:cubicBezTo>
                  <a:cubicBezTo>
                    <a:pt x="786" y="2"/>
                    <a:pt x="792" y="1"/>
                    <a:pt x="799" y="1"/>
                  </a:cubicBezTo>
                  <a:cubicBezTo>
                    <a:pt x="802" y="1"/>
                    <a:pt x="805" y="1"/>
                    <a:pt x="808" y="1"/>
                  </a:cubicBezTo>
                  <a:cubicBezTo>
                    <a:pt x="811" y="0"/>
                    <a:pt x="814" y="0"/>
                    <a:pt x="817" y="0"/>
                  </a:cubicBezTo>
                  <a:cubicBezTo>
                    <a:pt x="819" y="0"/>
                    <a:pt x="822" y="0"/>
                    <a:pt x="825" y="0"/>
                  </a:cubicBezTo>
                  <a:cubicBezTo>
                    <a:pt x="828" y="0"/>
                    <a:pt x="831" y="0"/>
                    <a:pt x="835" y="0"/>
                  </a:cubicBezTo>
                  <a:cubicBezTo>
                    <a:pt x="838" y="0"/>
                    <a:pt x="842" y="0"/>
                    <a:pt x="846" y="0"/>
                  </a:cubicBezTo>
                  <a:cubicBezTo>
                    <a:pt x="850" y="0"/>
                    <a:pt x="853" y="0"/>
                    <a:pt x="857" y="0"/>
                  </a:cubicBezTo>
                  <a:cubicBezTo>
                    <a:pt x="860" y="0"/>
                    <a:pt x="864" y="0"/>
                    <a:pt x="867" y="0"/>
                  </a:cubicBezTo>
                  <a:cubicBezTo>
                    <a:pt x="870" y="0"/>
                    <a:pt x="872" y="0"/>
                    <a:pt x="875" y="0"/>
                  </a:cubicBezTo>
                  <a:cubicBezTo>
                    <a:pt x="878" y="0"/>
                    <a:pt x="881" y="0"/>
                    <a:pt x="884" y="1"/>
                  </a:cubicBezTo>
                  <a:cubicBezTo>
                    <a:pt x="887" y="1"/>
                    <a:pt x="890" y="1"/>
                    <a:pt x="893" y="1"/>
                  </a:cubicBezTo>
                  <a:cubicBezTo>
                    <a:pt x="899" y="1"/>
                    <a:pt x="906" y="2"/>
                    <a:pt x="912" y="2"/>
                  </a:cubicBezTo>
                  <a:cubicBezTo>
                    <a:pt x="915" y="2"/>
                    <a:pt x="918" y="3"/>
                    <a:pt x="921" y="3"/>
                  </a:cubicBezTo>
                  <a:cubicBezTo>
                    <a:pt x="924" y="3"/>
                    <a:pt x="928" y="3"/>
                    <a:pt x="931" y="4"/>
                  </a:cubicBezTo>
                  <a:cubicBezTo>
                    <a:pt x="934" y="4"/>
                    <a:pt x="937" y="4"/>
                    <a:pt x="941" y="5"/>
                  </a:cubicBezTo>
                  <a:cubicBezTo>
                    <a:pt x="943" y="5"/>
                    <a:pt x="945" y="5"/>
                    <a:pt x="947" y="6"/>
                  </a:cubicBezTo>
                  <a:cubicBezTo>
                    <a:pt x="950" y="6"/>
                    <a:pt x="953" y="6"/>
                    <a:pt x="957" y="7"/>
                  </a:cubicBezTo>
                  <a:cubicBezTo>
                    <a:pt x="959" y="7"/>
                    <a:pt x="961" y="7"/>
                    <a:pt x="964" y="8"/>
                  </a:cubicBezTo>
                  <a:cubicBezTo>
                    <a:pt x="966" y="8"/>
                    <a:pt x="968" y="8"/>
                    <a:pt x="971" y="9"/>
                  </a:cubicBezTo>
                  <a:cubicBezTo>
                    <a:pt x="976" y="9"/>
                    <a:pt x="981" y="10"/>
                    <a:pt x="987" y="11"/>
                  </a:cubicBezTo>
                  <a:cubicBezTo>
                    <a:pt x="988" y="11"/>
                    <a:pt x="988" y="11"/>
                    <a:pt x="989" y="11"/>
                  </a:cubicBezTo>
                  <a:cubicBezTo>
                    <a:pt x="993" y="12"/>
                    <a:pt x="996" y="13"/>
                    <a:pt x="1000" y="13"/>
                  </a:cubicBezTo>
                  <a:cubicBezTo>
                    <a:pt x="1003" y="14"/>
                    <a:pt x="1006" y="14"/>
                    <a:pt x="1009" y="15"/>
                  </a:cubicBezTo>
                  <a:cubicBezTo>
                    <a:pt x="1027" y="18"/>
                    <a:pt x="1045" y="22"/>
                    <a:pt x="1063" y="27"/>
                  </a:cubicBezTo>
                  <a:cubicBezTo>
                    <a:pt x="1067" y="28"/>
                    <a:pt x="1070" y="29"/>
                    <a:pt x="1074" y="30"/>
                  </a:cubicBezTo>
                  <a:cubicBezTo>
                    <a:pt x="1077" y="31"/>
                    <a:pt x="1080" y="31"/>
                    <a:pt x="1083" y="32"/>
                  </a:cubicBezTo>
                  <a:cubicBezTo>
                    <a:pt x="1097" y="36"/>
                    <a:pt x="1111" y="41"/>
                    <a:pt x="1125" y="46"/>
                  </a:cubicBezTo>
                  <a:cubicBezTo>
                    <a:pt x="1129" y="47"/>
                    <a:pt x="1132" y="48"/>
                    <a:pt x="1135" y="49"/>
                  </a:cubicBezTo>
                  <a:cubicBezTo>
                    <a:pt x="1138" y="50"/>
                    <a:pt x="1140" y="51"/>
                    <a:pt x="1143" y="52"/>
                  </a:cubicBezTo>
                  <a:cubicBezTo>
                    <a:pt x="1160" y="58"/>
                    <a:pt x="1177" y="65"/>
                    <a:pt x="1194" y="72"/>
                  </a:cubicBezTo>
                  <a:cubicBezTo>
                    <a:pt x="1200" y="75"/>
                    <a:pt x="1207" y="78"/>
                    <a:pt x="1213" y="81"/>
                  </a:cubicBezTo>
                  <a:cubicBezTo>
                    <a:pt x="1223" y="85"/>
                    <a:pt x="1232" y="90"/>
                    <a:pt x="1242" y="95"/>
                  </a:cubicBezTo>
                  <a:cubicBezTo>
                    <a:pt x="1245" y="97"/>
                    <a:pt x="1248" y="98"/>
                    <a:pt x="1251" y="100"/>
                  </a:cubicBezTo>
                  <a:cubicBezTo>
                    <a:pt x="1254" y="101"/>
                    <a:pt x="1256" y="102"/>
                    <a:pt x="1258" y="104"/>
                  </a:cubicBezTo>
                  <a:cubicBezTo>
                    <a:pt x="1272" y="111"/>
                    <a:pt x="1285" y="118"/>
                    <a:pt x="1297" y="126"/>
                  </a:cubicBezTo>
                  <a:cubicBezTo>
                    <a:pt x="1300" y="128"/>
                    <a:pt x="1303" y="129"/>
                    <a:pt x="1306" y="131"/>
                  </a:cubicBezTo>
                  <a:cubicBezTo>
                    <a:pt x="1312" y="135"/>
                    <a:pt x="1318" y="139"/>
                    <a:pt x="1323" y="142"/>
                  </a:cubicBezTo>
                  <a:cubicBezTo>
                    <a:pt x="1326" y="144"/>
                    <a:pt x="1329" y="146"/>
                    <a:pt x="1332" y="149"/>
                  </a:cubicBezTo>
                  <a:cubicBezTo>
                    <a:pt x="1335" y="150"/>
                    <a:pt x="1338" y="152"/>
                    <a:pt x="1341" y="154"/>
                  </a:cubicBezTo>
                  <a:cubicBezTo>
                    <a:pt x="1359" y="167"/>
                    <a:pt x="1378" y="181"/>
                    <a:pt x="1395" y="195"/>
                  </a:cubicBezTo>
                  <a:cubicBezTo>
                    <a:pt x="1397" y="197"/>
                    <a:pt x="1400" y="199"/>
                    <a:pt x="1402" y="201"/>
                  </a:cubicBezTo>
                  <a:cubicBezTo>
                    <a:pt x="1407" y="205"/>
                    <a:pt x="1412" y="209"/>
                    <a:pt x="1417" y="213"/>
                  </a:cubicBezTo>
                  <a:cubicBezTo>
                    <a:pt x="1420" y="217"/>
                    <a:pt x="1424" y="220"/>
                    <a:pt x="1428" y="224"/>
                  </a:cubicBezTo>
                  <a:cubicBezTo>
                    <a:pt x="1433" y="228"/>
                    <a:pt x="1437" y="232"/>
                    <a:pt x="1442" y="236"/>
                  </a:cubicBezTo>
                  <a:cubicBezTo>
                    <a:pt x="1444" y="238"/>
                    <a:pt x="1446" y="240"/>
                    <a:pt x="1448" y="242"/>
                  </a:cubicBezTo>
                  <a:cubicBezTo>
                    <a:pt x="1452" y="246"/>
                    <a:pt x="1457" y="250"/>
                    <a:pt x="1461" y="255"/>
                  </a:cubicBezTo>
                  <a:cubicBezTo>
                    <a:pt x="1466" y="259"/>
                    <a:pt x="1471" y="264"/>
                    <a:pt x="1475" y="269"/>
                  </a:cubicBezTo>
                  <a:cubicBezTo>
                    <a:pt x="1491" y="286"/>
                    <a:pt x="1506" y="303"/>
                    <a:pt x="1520" y="321"/>
                  </a:cubicBezTo>
                  <a:cubicBezTo>
                    <a:pt x="1522" y="323"/>
                    <a:pt x="1524" y="325"/>
                    <a:pt x="1526" y="328"/>
                  </a:cubicBezTo>
                  <a:cubicBezTo>
                    <a:pt x="1528" y="330"/>
                    <a:pt x="1530" y="332"/>
                    <a:pt x="1532" y="335"/>
                  </a:cubicBezTo>
                  <a:cubicBezTo>
                    <a:pt x="1533" y="337"/>
                    <a:pt x="1535" y="339"/>
                    <a:pt x="1537" y="342"/>
                  </a:cubicBezTo>
                  <a:cubicBezTo>
                    <a:pt x="1541" y="346"/>
                    <a:pt x="1544" y="351"/>
                    <a:pt x="1548" y="356"/>
                  </a:cubicBezTo>
                  <a:cubicBezTo>
                    <a:pt x="1549" y="358"/>
                    <a:pt x="1551" y="361"/>
                    <a:pt x="1553" y="363"/>
                  </a:cubicBezTo>
                  <a:cubicBezTo>
                    <a:pt x="1555" y="366"/>
                    <a:pt x="1556" y="368"/>
                    <a:pt x="1558" y="370"/>
                  </a:cubicBezTo>
                  <a:cubicBezTo>
                    <a:pt x="1560" y="373"/>
                    <a:pt x="1562" y="375"/>
                    <a:pt x="1563" y="378"/>
                  </a:cubicBezTo>
                  <a:cubicBezTo>
                    <a:pt x="1565" y="380"/>
                    <a:pt x="1567" y="383"/>
                    <a:pt x="1568" y="385"/>
                  </a:cubicBezTo>
                  <a:cubicBezTo>
                    <a:pt x="1577" y="398"/>
                    <a:pt x="1585" y="410"/>
                    <a:pt x="1592" y="423"/>
                  </a:cubicBezTo>
                  <a:cubicBezTo>
                    <a:pt x="1595" y="428"/>
                    <a:pt x="1598" y="433"/>
                    <a:pt x="1601" y="438"/>
                  </a:cubicBezTo>
                  <a:cubicBezTo>
                    <a:pt x="1625" y="480"/>
                    <a:pt x="1645" y="524"/>
                    <a:pt x="1662" y="569"/>
                  </a:cubicBezTo>
                  <a:cubicBezTo>
                    <a:pt x="1672" y="595"/>
                    <a:pt x="1680" y="621"/>
                    <a:pt x="1687" y="647"/>
                  </a:cubicBezTo>
                  <a:cubicBezTo>
                    <a:pt x="1688" y="653"/>
                    <a:pt x="1690" y="659"/>
                    <a:pt x="1691" y="665"/>
                  </a:cubicBezTo>
                  <a:close/>
                </a:path>
              </a:pathLst>
            </a:custGeom>
            <a:solidFill>
              <a:srgbClr val="17375e"/>
            </a:solidFill>
            <a:ln w="38160">
              <a:solidFill>
                <a:srgbClr val="558ed5">
                  <a:alpha val="15000"/>
                </a:srgbClr>
              </a:solidFill>
              <a:round/>
            </a:ln>
            <a:effectLst>
              <a:outerShdw dist="50760" dir="54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feld 207"/>
          <p:cNvSpPr/>
          <p:nvPr/>
        </p:nvSpPr>
        <p:spPr>
          <a:xfrm rot="20700000">
            <a:off x="4914720" y="435240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444760" y="3476880"/>
            <a:ext cx="2111760" cy="2137320"/>
            <a:chOff x="2444760" y="3476880"/>
            <a:chExt cx="2111760" cy="2137320"/>
          </a:xfrm>
        </p:grpSpPr>
        <p:pic>
          <p:nvPicPr>
            <p:cNvPr id="104" name="Grafik 212" descr="Hintergrund button.png"/>
            <p:cNvPicPr/>
            <p:nvPr/>
          </p:nvPicPr>
          <p:blipFill>
            <a:blip r:embed="rId4"/>
            <a:stretch/>
          </p:blipFill>
          <p:spPr>
            <a:xfrm>
              <a:off x="2517840" y="3610080"/>
              <a:ext cx="1974960" cy="1960560"/>
            </a:xfrm>
            <a:prstGeom prst="rect">
              <a:avLst/>
            </a:prstGeom>
            <a:ln w="0">
              <a:noFill/>
            </a:ln>
            <a:effectLst>
              <a:outerShdw dist="0" dir="0" blurRad="0" rotWithShape="0">
                <a:srgbClr val="000000">
                  <a:alpha val="63000"/>
                </a:srgbClr>
              </a:outerShdw>
            </a:effectLst>
          </p:spPr>
        </p:pic>
        <p:sp>
          <p:nvSpPr>
            <p:cNvPr id="105" name="Freeform 165"/>
            <p:cNvSpPr/>
            <p:nvPr/>
          </p:nvSpPr>
          <p:spPr>
            <a:xfrm rot="20704200">
              <a:off x="2782440" y="4743720"/>
              <a:ext cx="1717920" cy="660240"/>
            </a:xfrm>
            <a:custGeom>
              <a:avLst/>
              <a:gdLst/>
              <a:ahLst/>
              <a:rect l="l" t="t" r="r" b="b"/>
              <a:pathLst>
                <a:path w="1685" h="653">
                  <a:moveTo>
                    <a:pt x="0" y="0"/>
                  </a:moveTo>
                  <a:cubicBezTo>
                    <a:pt x="1685" y="0"/>
                    <a:pt x="1685" y="0"/>
                    <a:pt x="1685" y="0"/>
                  </a:cubicBezTo>
                  <a:cubicBezTo>
                    <a:pt x="1685" y="2"/>
                    <a:pt x="1684" y="5"/>
                    <a:pt x="1683" y="7"/>
                  </a:cubicBezTo>
                  <a:cubicBezTo>
                    <a:pt x="1683" y="7"/>
                    <a:pt x="1683" y="8"/>
                    <a:pt x="1683" y="9"/>
                  </a:cubicBezTo>
                  <a:cubicBezTo>
                    <a:pt x="1682" y="12"/>
                    <a:pt x="1681" y="15"/>
                    <a:pt x="1681" y="17"/>
                  </a:cubicBezTo>
                  <a:cubicBezTo>
                    <a:pt x="1678" y="26"/>
                    <a:pt x="1675" y="35"/>
                    <a:pt x="1673" y="44"/>
                  </a:cubicBezTo>
                  <a:cubicBezTo>
                    <a:pt x="1671" y="50"/>
                    <a:pt x="1669" y="56"/>
                    <a:pt x="1667" y="62"/>
                  </a:cubicBezTo>
                  <a:cubicBezTo>
                    <a:pt x="1666" y="65"/>
                    <a:pt x="1665" y="69"/>
                    <a:pt x="1663" y="72"/>
                  </a:cubicBezTo>
                  <a:cubicBezTo>
                    <a:pt x="1662" y="75"/>
                    <a:pt x="1661" y="79"/>
                    <a:pt x="1660" y="82"/>
                  </a:cubicBezTo>
                  <a:cubicBezTo>
                    <a:pt x="1659" y="85"/>
                    <a:pt x="1658" y="87"/>
                    <a:pt x="1657" y="90"/>
                  </a:cubicBezTo>
                  <a:cubicBezTo>
                    <a:pt x="1651" y="104"/>
                    <a:pt x="1645" y="119"/>
                    <a:pt x="1639" y="133"/>
                  </a:cubicBezTo>
                  <a:cubicBezTo>
                    <a:pt x="1638" y="136"/>
                    <a:pt x="1637" y="138"/>
                    <a:pt x="1636" y="141"/>
                  </a:cubicBezTo>
                  <a:cubicBezTo>
                    <a:pt x="1634" y="145"/>
                    <a:pt x="1632" y="148"/>
                    <a:pt x="1630" y="152"/>
                  </a:cubicBezTo>
                  <a:cubicBezTo>
                    <a:pt x="1628" y="158"/>
                    <a:pt x="1625" y="163"/>
                    <a:pt x="1623" y="168"/>
                  </a:cubicBezTo>
                  <a:cubicBezTo>
                    <a:pt x="1620" y="174"/>
                    <a:pt x="1617" y="179"/>
                    <a:pt x="1615" y="184"/>
                  </a:cubicBezTo>
                  <a:cubicBezTo>
                    <a:pt x="1613" y="187"/>
                    <a:pt x="1612" y="189"/>
                    <a:pt x="1611" y="191"/>
                  </a:cubicBezTo>
                  <a:cubicBezTo>
                    <a:pt x="1609" y="194"/>
                    <a:pt x="1608" y="197"/>
                    <a:pt x="1606" y="200"/>
                  </a:cubicBezTo>
                  <a:cubicBezTo>
                    <a:pt x="1605" y="202"/>
                    <a:pt x="1603" y="205"/>
                    <a:pt x="1602" y="208"/>
                  </a:cubicBezTo>
                  <a:cubicBezTo>
                    <a:pt x="1576" y="253"/>
                    <a:pt x="1547" y="296"/>
                    <a:pt x="1514" y="336"/>
                  </a:cubicBezTo>
                  <a:cubicBezTo>
                    <a:pt x="1512" y="338"/>
                    <a:pt x="1511" y="340"/>
                    <a:pt x="1509" y="342"/>
                  </a:cubicBezTo>
                  <a:cubicBezTo>
                    <a:pt x="1504" y="348"/>
                    <a:pt x="1499" y="354"/>
                    <a:pt x="1494" y="360"/>
                  </a:cubicBezTo>
                  <a:cubicBezTo>
                    <a:pt x="1492" y="362"/>
                    <a:pt x="1490" y="365"/>
                    <a:pt x="1488" y="367"/>
                  </a:cubicBezTo>
                  <a:cubicBezTo>
                    <a:pt x="1485" y="370"/>
                    <a:pt x="1482" y="373"/>
                    <a:pt x="1479" y="376"/>
                  </a:cubicBezTo>
                  <a:cubicBezTo>
                    <a:pt x="1477" y="378"/>
                    <a:pt x="1475" y="381"/>
                    <a:pt x="1472" y="383"/>
                  </a:cubicBezTo>
                  <a:cubicBezTo>
                    <a:pt x="1467" y="388"/>
                    <a:pt x="1462" y="394"/>
                    <a:pt x="1457" y="399"/>
                  </a:cubicBezTo>
                  <a:cubicBezTo>
                    <a:pt x="1455" y="401"/>
                    <a:pt x="1453" y="403"/>
                    <a:pt x="1450" y="405"/>
                  </a:cubicBezTo>
                  <a:cubicBezTo>
                    <a:pt x="1449" y="407"/>
                    <a:pt x="1447" y="409"/>
                    <a:pt x="1445" y="411"/>
                  </a:cubicBezTo>
                  <a:cubicBezTo>
                    <a:pt x="1443" y="412"/>
                    <a:pt x="1441" y="414"/>
                    <a:pt x="1440" y="416"/>
                  </a:cubicBezTo>
                  <a:cubicBezTo>
                    <a:pt x="1438" y="418"/>
                    <a:pt x="1436" y="420"/>
                    <a:pt x="1433" y="422"/>
                  </a:cubicBezTo>
                  <a:cubicBezTo>
                    <a:pt x="1426" y="428"/>
                    <a:pt x="1419" y="434"/>
                    <a:pt x="1412" y="441"/>
                  </a:cubicBezTo>
                  <a:cubicBezTo>
                    <a:pt x="1407" y="445"/>
                    <a:pt x="1402" y="449"/>
                    <a:pt x="1397" y="454"/>
                  </a:cubicBezTo>
                  <a:cubicBezTo>
                    <a:pt x="1394" y="456"/>
                    <a:pt x="1391" y="458"/>
                    <a:pt x="1388" y="461"/>
                  </a:cubicBezTo>
                  <a:cubicBezTo>
                    <a:pt x="1385" y="463"/>
                    <a:pt x="1383" y="465"/>
                    <a:pt x="1380" y="467"/>
                  </a:cubicBezTo>
                  <a:cubicBezTo>
                    <a:pt x="1376" y="470"/>
                    <a:pt x="1373" y="473"/>
                    <a:pt x="1369" y="475"/>
                  </a:cubicBezTo>
                  <a:cubicBezTo>
                    <a:pt x="1367" y="477"/>
                    <a:pt x="1365" y="478"/>
                    <a:pt x="1363" y="480"/>
                  </a:cubicBezTo>
                  <a:cubicBezTo>
                    <a:pt x="1360" y="482"/>
                    <a:pt x="1358" y="484"/>
                    <a:pt x="1355" y="486"/>
                  </a:cubicBezTo>
                  <a:cubicBezTo>
                    <a:pt x="1352" y="488"/>
                    <a:pt x="1350" y="490"/>
                    <a:pt x="1348" y="491"/>
                  </a:cubicBezTo>
                  <a:cubicBezTo>
                    <a:pt x="1342" y="496"/>
                    <a:pt x="1335" y="500"/>
                    <a:pt x="1329" y="504"/>
                  </a:cubicBezTo>
                  <a:cubicBezTo>
                    <a:pt x="1323" y="508"/>
                    <a:pt x="1317" y="512"/>
                    <a:pt x="1312" y="516"/>
                  </a:cubicBezTo>
                  <a:cubicBezTo>
                    <a:pt x="1309" y="518"/>
                    <a:pt x="1306" y="520"/>
                    <a:pt x="1303" y="521"/>
                  </a:cubicBezTo>
                  <a:cubicBezTo>
                    <a:pt x="1301" y="523"/>
                    <a:pt x="1298" y="524"/>
                    <a:pt x="1296" y="525"/>
                  </a:cubicBezTo>
                  <a:cubicBezTo>
                    <a:pt x="1290" y="530"/>
                    <a:pt x="1283" y="534"/>
                    <a:pt x="1276" y="538"/>
                  </a:cubicBezTo>
                  <a:cubicBezTo>
                    <a:pt x="1273" y="539"/>
                    <a:pt x="1270" y="541"/>
                    <a:pt x="1267" y="543"/>
                  </a:cubicBezTo>
                  <a:cubicBezTo>
                    <a:pt x="1257" y="548"/>
                    <a:pt x="1248" y="553"/>
                    <a:pt x="1238" y="558"/>
                  </a:cubicBezTo>
                  <a:cubicBezTo>
                    <a:pt x="1235" y="559"/>
                    <a:pt x="1232" y="561"/>
                    <a:pt x="1229" y="562"/>
                  </a:cubicBezTo>
                  <a:cubicBezTo>
                    <a:pt x="1223" y="566"/>
                    <a:pt x="1217" y="569"/>
                    <a:pt x="1210" y="572"/>
                  </a:cubicBezTo>
                  <a:cubicBezTo>
                    <a:pt x="1204" y="575"/>
                    <a:pt x="1198" y="577"/>
                    <a:pt x="1191" y="580"/>
                  </a:cubicBezTo>
                  <a:cubicBezTo>
                    <a:pt x="1187" y="582"/>
                    <a:pt x="1182" y="584"/>
                    <a:pt x="1178" y="586"/>
                  </a:cubicBezTo>
                  <a:cubicBezTo>
                    <a:pt x="1176" y="587"/>
                    <a:pt x="1174" y="588"/>
                    <a:pt x="1172" y="589"/>
                  </a:cubicBezTo>
                  <a:cubicBezTo>
                    <a:pt x="1168" y="590"/>
                    <a:pt x="1165" y="591"/>
                    <a:pt x="1162" y="592"/>
                  </a:cubicBezTo>
                  <a:cubicBezTo>
                    <a:pt x="1158" y="594"/>
                    <a:pt x="1155" y="595"/>
                    <a:pt x="1152" y="596"/>
                  </a:cubicBezTo>
                  <a:cubicBezTo>
                    <a:pt x="1148" y="598"/>
                    <a:pt x="1145" y="599"/>
                    <a:pt x="1142" y="600"/>
                  </a:cubicBezTo>
                  <a:cubicBezTo>
                    <a:pt x="1139" y="601"/>
                    <a:pt x="1135" y="602"/>
                    <a:pt x="1132" y="604"/>
                  </a:cubicBezTo>
                  <a:cubicBezTo>
                    <a:pt x="1125" y="606"/>
                    <a:pt x="1118" y="608"/>
                    <a:pt x="1112" y="610"/>
                  </a:cubicBezTo>
                  <a:cubicBezTo>
                    <a:pt x="1108" y="612"/>
                    <a:pt x="1105" y="613"/>
                    <a:pt x="1101" y="614"/>
                  </a:cubicBezTo>
                  <a:cubicBezTo>
                    <a:pt x="1098" y="615"/>
                    <a:pt x="1095" y="616"/>
                    <a:pt x="1092" y="617"/>
                  </a:cubicBezTo>
                  <a:cubicBezTo>
                    <a:pt x="1081" y="620"/>
                    <a:pt x="1070" y="623"/>
                    <a:pt x="1059" y="626"/>
                  </a:cubicBezTo>
                  <a:cubicBezTo>
                    <a:pt x="1057" y="626"/>
                    <a:pt x="1054" y="627"/>
                    <a:pt x="1051" y="628"/>
                  </a:cubicBezTo>
                  <a:cubicBezTo>
                    <a:pt x="1036" y="631"/>
                    <a:pt x="1021" y="635"/>
                    <a:pt x="1005" y="638"/>
                  </a:cubicBezTo>
                  <a:cubicBezTo>
                    <a:pt x="1002" y="638"/>
                    <a:pt x="1000" y="639"/>
                    <a:pt x="997" y="639"/>
                  </a:cubicBezTo>
                  <a:cubicBezTo>
                    <a:pt x="993" y="640"/>
                    <a:pt x="990" y="641"/>
                    <a:pt x="986" y="641"/>
                  </a:cubicBezTo>
                  <a:cubicBezTo>
                    <a:pt x="982" y="642"/>
                    <a:pt x="979" y="642"/>
                    <a:pt x="975" y="643"/>
                  </a:cubicBezTo>
                  <a:cubicBezTo>
                    <a:pt x="973" y="643"/>
                    <a:pt x="970" y="644"/>
                    <a:pt x="967" y="644"/>
                  </a:cubicBezTo>
                  <a:cubicBezTo>
                    <a:pt x="938" y="648"/>
                    <a:pt x="907" y="651"/>
                    <a:pt x="876" y="652"/>
                  </a:cubicBezTo>
                  <a:cubicBezTo>
                    <a:pt x="873" y="652"/>
                    <a:pt x="870" y="652"/>
                    <a:pt x="866" y="653"/>
                  </a:cubicBezTo>
                  <a:cubicBezTo>
                    <a:pt x="862" y="653"/>
                    <a:pt x="858" y="653"/>
                    <a:pt x="854" y="653"/>
                  </a:cubicBezTo>
                  <a:cubicBezTo>
                    <a:pt x="850" y="653"/>
                    <a:pt x="847" y="653"/>
                    <a:pt x="843" y="653"/>
                  </a:cubicBezTo>
                  <a:cubicBezTo>
                    <a:pt x="839" y="653"/>
                    <a:pt x="835" y="653"/>
                    <a:pt x="832" y="653"/>
                  </a:cubicBezTo>
                  <a:cubicBezTo>
                    <a:pt x="827" y="653"/>
                    <a:pt x="823" y="653"/>
                    <a:pt x="819" y="653"/>
                  </a:cubicBezTo>
                  <a:cubicBezTo>
                    <a:pt x="816" y="652"/>
                    <a:pt x="812" y="652"/>
                    <a:pt x="809" y="652"/>
                  </a:cubicBezTo>
                  <a:cubicBezTo>
                    <a:pt x="778" y="651"/>
                    <a:pt x="748" y="648"/>
                    <a:pt x="718" y="644"/>
                  </a:cubicBezTo>
                  <a:cubicBezTo>
                    <a:pt x="716" y="644"/>
                    <a:pt x="713" y="643"/>
                    <a:pt x="710" y="643"/>
                  </a:cubicBezTo>
                  <a:cubicBezTo>
                    <a:pt x="707" y="642"/>
                    <a:pt x="703" y="642"/>
                    <a:pt x="700" y="641"/>
                  </a:cubicBezTo>
                  <a:cubicBezTo>
                    <a:pt x="696" y="641"/>
                    <a:pt x="692" y="640"/>
                    <a:pt x="689" y="639"/>
                  </a:cubicBezTo>
                  <a:cubicBezTo>
                    <a:pt x="686" y="639"/>
                    <a:pt x="683" y="638"/>
                    <a:pt x="681" y="638"/>
                  </a:cubicBezTo>
                  <a:cubicBezTo>
                    <a:pt x="665" y="635"/>
                    <a:pt x="649" y="631"/>
                    <a:pt x="634" y="628"/>
                  </a:cubicBezTo>
                  <a:cubicBezTo>
                    <a:pt x="632" y="627"/>
                    <a:pt x="629" y="626"/>
                    <a:pt x="626" y="626"/>
                  </a:cubicBezTo>
                  <a:cubicBezTo>
                    <a:pt x="616" y="623"/>
                    <a:pt x="605" y="620"/>
                    <a:pt x="594" y="617"/>
                  </a:cubicBezTo>
                  <a:cubicBezTo>
                    <a:pt x="591" y="616"/>
                    <a:pt x="587" y="615"/>
                    <a:pt x="584" y="614"/>
                  </a:cubicBezTo>
                  <a:cubicBezTo>
                    <a:pt x="581" y="613"/>
                    <a:pt x="577" y="612"/>
                    <a:pt x="574" y="610"/>
                  </a:cubicBezTo>
                  <a:cubicBezTo>
                    <a:pt x="567" y="608"/>
                    <a:pt x="560" y="606"/>
                    <a:pt x="554" y="604"/>
                  </a:cubicBezTo>
                  <a:cubicBezTo>
                    <a:pt x="550" y="602"/>
                    <a:pt x="547" y="601"/>
                    <a:pt x="544" y="600"/>
                  </a:cubicBezTo>
                  <a:cubicBezTo>
                    <a:pt x="540" y="599"/>
                    <a:pt x="537" y="598"/>
                    <a:pt x="534" y="596"/>
                  </a:cubicBezTo>
                  <a:cubicBezTo>
                    <a:pt x="530" y="595"/>
                    <a:pt x="527" y="594"/>
                    <a:pt x="524" y="592"/>
                  </a:cubicBezTo>
                  <a:cubicBezTo>
                    <a:pt x="521" y="591"/>
                    <a:pt x="517" y="590"/>
                    <a:pt x="514" y="589"/>
                  </a:cubicBezTo>
                  <a:cubicBezTo>
                    <a:pt x="512" y="588"/>
                    <a:pt x="510" y="587"/>
                    <a:pt x="507" y="586"/>
                  </a:cubicBezTo>
                  <a:cubicBezTo>
                    <a:pt x="503" y="584"/>
                    <a:pt x="499" y="582"/>
                    <a:pt x="495" y="580"/>
                  </a:cubicBezTo>
                  <a:cubicBezTo>
                    <a:pt x="488" y="577"/>
                    <a:pt x="482" y="575"/>
                    <a:pt x="475" y="572"/>
                  </a:cubicBezTo>
                  <a:cubicBezTo>
                    <a:pt x="469" y="569"/>
                    <a:pt x="463" y="566"/>
                    <a:pt x="456" y="562"/>
                  </a:cubicBezTo>
                  <a:cubicBezTo>
                    <a:pt x="453" y="561"/>
                    <a:pt x="450" y="559"/>
                    <a:pt x="447" y="558"/>
                  </a:cubicBezTo>
                  <a:cubicBezTo>
                    <a:pt x="438" y="553"/>
                    <a:pt x="428" y="548"/>
                    <a:pt x="419" y="543"/>
                  </a:cubicBezTo>
                  <a:cubicBezTo>
                    <a:pt x="416" y="541"/>
                    <a:pt x="413" y="539"/>
                    <a:pt x="410" y="538"/>
                  </a:cubicBezTo>
                  <a:cubicBezTo>
                    <a:pt x="403" y="534"/>
                    <a:pt x="396" y="530"/>
                    <a:pt x="389" y="525"/>
                  </a:cubicBezTo>
                  <a:cubicBezTo>
                    <a:pt x="387" y="524"/>
                    <a:pt x="385" y="523"/>
                    <a:pt x="383" y="521"/>
                  </a:cubicBezTo>
                  <a:cubicBezTo>
                    <a:pt x="380" y="520"/>
                    <a:pt x="377" y="518"/>
                    <a:pt x="374" y="516"/>
                  </a:cubicBezTo>
                  <a:cubicBezTo>
                    <a:pt x="368" y="512"/>
                    <a:pt x="362" y="508"/>
                    <a:pt x="357" y="504"/>
                  </a:cubicBezTo>
                  <a:cubicBezTo>
                    <a:pt x="350" y="500"/>
                    <a:pt x="344" y="496"/>
                    <a:pt x="338" y="491"/>
                  </a:cubicBezTo>
                  <a:cubicBezTo>
                    <a:pt x="335" y="490"/>
                    <a:pt x="333" y="488"/>
                    <a:pt x="331" y="486"/>
                  </a:cubicBezTo>
                  <a:cubicBezTo>
                    <a:pt x="328" y="484"/>
                    <a:pt x="325" y="482"/>
                    <a:pt x="322" y="480"/>
                  </a:cubicBezTo>
                  <a:cubicBezTo>
                    <a:pt x="320" y="478"/>
                    <a:pt x="318" y="477"/>
                    <a:pt x="316" y="475"/>
                  </a:cubicBezTo>
                  <a:cubicBezTo>
                    <a:pt x="313" y="473"/>
                    <a:pt x="309" y="470"/>
                    <a:pt x="306" y="467"/>
                  </a:cubicBezTo>
                  <a:cubicBezTo>
                    <a:pt x="303" y="465"/>
                    <a:pt x="300" y="463"/>
                    <a:pt x="298" y="461"/>
                  </a:cubicBezTo>
                  <a:cubicBezTo>
                    <a:pt x="295" y="458"/>
                    <a:pt x="292" y="456"/>
                    <a:pt x="289" y="454"/>
                  </a:cubicBezTo>
                  <a:cubicBezTo>
                    <a:pt x="284" y="449"/>
                    <a:pt x="279" y="445"/>
                    <a:pt x="274" y="441"/>
                  </a:cubicBezTo>
                  <a:cubicBezTo>
                    <a:pt x="266" y="434"/>
                    <a:pt x="259" y="428"/>
                    <a:pt x="252" y="422"/>
                  </a:cubicBezTo>
                  <a:cubicBezTo>
                    <a:pt x="250" y="420"/>
                    <a:pt x="248" y="418"/>
                    <a:pt x="246" y="416"/>
                  </a:cubicBezTo>
                  <a:cubicBezTo>
                    <a:pt x="244" y="414"/>
                    <a:pt x="242" y="412"/>
                    <a:pt x="241" y="411"/>
                  </a:cubicBezTo>
                  <a:cubicBezTo>
                    <a:pt x="239" y="409"/>
                    <a:pt x="237" y="407"/>
                    <a:pt x="235" y="405"/>
                  </a:cubicBezTo>
                  <a:cubicBezTo>
                    <a:pt x="233" y="403"/>
                    <a:pt x="231" y="401"/>
                    <a:pt x="228" y="399"/>
                  </a:cubicBezTo>
                  <a:cubicBezTo>
                    <a:pt x="223" y="394"/>
                    <a:pt x="218" y="388"/>
                    <a:pt x="213" y="383"/>
                  </a:cubicBezTo>
                  <a:cubicBezTo>
                    <a:pt x="211" y="381"/>
                    <a:pt x="209" y="378"/>
                    <a:pt x="207" y="376"/>
                  </a:cubicBezTo>
                  <a:cubicBezTo>
                    <a:pt x="204" y="373"/>
                    <a:pt x="201" y="370"/>
                    <a:pt x="198" y="367"/>
                  </a:cubicBezTo>
                  <a:cubicBezTo>
                    <a:pt x="196" y="365"/>
                    <a:pt x="194" y="362"/>
                    <a:pt x="192" y="360"/>
                  </a:cubicBezTo>
                  <a:cubicBezTo>
                    <a:pt x="187" y="354"/>
                    <a:pt x="181" y="348"/>
                    <a:pt x="176" y="342"/>
                  </a:cubicBezTo>
                  <a:cubicBezTo>
                    <a:pt x="175" y="340"/>
                    <a:pt x="173" y="338"/>
                    <a:pt x="172" y="336"/>
                  </a:cubicBezTo>
                  <a:cubicBezTo>
                    <a:pt x="139" y="296"/>
                    <a:pt x="109" y="253"/>
                    <a:pt x="84" y="208"/>
                  </a:cubicBezTo>
                  <a:cubicBezTo>
                    <a:pt x="82" y="205"/>
                    <a:pt x="81" y="202"/>
                    <a:pt x="79" y="200"/>
                  </a:cubicBezTo>
                  <a:cubicBezTo>
                    <a:pt x="78" y="197"/>
                    <a:pt x="76" y="194"/>
                    <a:pt x="75" y="191"/>
                  </a:cubicBezTo>
                  <a:cubicBezTo>
                    <a:pt x="73" y="189"/>
                    <a:pt x="72" y="187"/>
                    <a:pt x="71" y="184"/>
                  </a:cubicBezTo>
                  <a:cubicBezTo>
                    <a:pt x="68" y="179"/>
                    <a:pt x="66" y="174"/>
                    <a:pt x="63" y="168"/>
                  </a:cubicBezTo>
                  <a:cubicBezTo>
                    <a:pt x="60" y="163"/>
                    <a:pt x="58" y="158"/>
                    <a:pt x="55" y="152"/>
                  </a:cubicBezTo>
                  <a:cubicBezTo>
                    <a:pt x="53" y="148"/>
                    <a:pt x="52" y="145"/>
                    <a:pt x="50" y="141"/>
                  </a:cubicBezTo>
                  <a:cubicBezTo>
                    <a:pt x="49" y="138"/>
                    <a:pt x="48" y="136"/>
                    <a:pt x="46" y="133"/>
                  </a:cubicBezTo>
                  <a:cubicBezTo>
                    <a:pt x="40" y="119"/>
                    <a:pt x="34" y="104"/>
                    <a:pt x="29" y="90"/>
                  </a:cubicBezTo>
                  <a:cubicBezTo>
                    <a:pt x="28" y="87"/>
                    <a:pt x="27" y="85"/>
                    <a:pt x="26" y="82"/>
                  </a:cubicBezTo>
                  <a:cubicBezTo>
                    <a:pt x="25" y="79"/>
                    <a:pt x="23" y="75"/>
                    <a:pt x="22" y="72"/>
                  </a:cubicBezTo>
                  <a:cubicBezTo>
                    <a:pt x="21" y="69"/>
                    <a:pt x="20" y="65"/>
                    <a:pt x="19" y="62"/>
                  </a:cubicBezTo>
                  <a:cubicBezTo>
                    <a:pt x="17" y="56"/>
                    <a:pt x="15" y="50"/>
                    <a:pt x="13" y="44"/>
                  </a:cubicBezTo>
                  <a:cubicBezTo>
                    <a:pt x="10" y="35"/>
                    <a:pt x="8" y="26"/>
                    <a:pt x="5" y="17"/>
                  </a:cubicBezTo>
                  <a:cubicBezTo>
                    <a:pt x="4" y="15"/>
                    <a:pt x="3" y="12"/>
                    <a:pt x="3" y="9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2" y="5"/>
                    <a:pt x="1" y="2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6294000"/>
            </a:gradFill>
            <a:ln w="0">
              <a:noFill/>
            </a:ln>
            <a:effectLst>
              <a:outerShdw dist="50760" dir="5400000" blurRad="0" rotWithShape="0">
                <a:srgbClr val="26262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66"/>
            <p:cNvSpPr/>
            <p:nvPr/>
          </p:nvSpPr>
          <p:spPr>
            <a:xfrm rot="20704200">
              <a:off x="2502000" y="3687480"/>
              <a:ext cx="1724040" cy="671400"/>
            </a:xfrm>
            <a:custGeom>
              <a:avLst/>
              <a:gdLst/>
              <a:ahLst/>
              <a:rect l="l" t="t" r="r" b="b"/>
              <a:pathLst>
                <a:path w="1691" h="665">
                  <a:moveTo>
                    <a:pt x="1691" y="665"/>
                  </a:moveTo>
                  <a:cubicBezTo>
                    <a:pt x="0" y="665"/>
                    <a:pt x="0" y="665"/>
                    <a:pt x="0" y="665"/>
                  </a:cubicBezTo>
                  <a:cubicBezTo>
                    <a:pt x="2" y="659"/>
                    <a:pt x="3" y="653"/>
                    <a:pt x="5" y="647"/>
                  </a:cubicBezTo>
                  <a:cubicBezTo>
                    <a:pt x="12" y="621"/>
                    <a:pt x="20" y="595"/>
                    <a:pt x="29" y="569"/>
                  </a:cubicBezTo>
                  <a:cubicBezTo>
                    <a:pt x="46" y="524"/>
                    <a:pt x="67" y="480"/>
                    <a:pt x="90" y="438"/>
                  </a:cubicBezTo>
                  <a:cubicBezTo>
                    <a:pt x="93" y="433"/>
                    <a:pt x="96" y="428"/>
                    <a:pt x="99" y="423"/>
                  </a:cubicBezTo>
                  <a:cubicBezTo>
                    <a:pt x="107" y="410"/>
                    <a:pt x="115" y="398"/>
                    <a:pt x="123" y="385"/>
                  </a:cubicBezTo>
                  <a:cubicBezTo>
                    <a:pt x="125" y="383"/>
                    <a:pt x="127" y="380"/>
                    <a:pt x="128" y="378"/>
                  </a:cubicBezTo>
                  <a:cubicBezTo>
                    <a:pt x="130" y="375"/>
                    <a:pt x="132" y="373"/>
                    <a:pt x="133" y="370"/>
                  </a:cubicBezTo>
                  <a:cubicBezTo>
                    <a:pt x="135" y="368"/>
                    <a:pt x="137" y="366"/>
                    <a:pt x="139" y="363"/>
                  </a:cubicBezTo>
                  <a:cubicBezTo>
                    <a:pt x="140" y="361"/>
                    <a:pt x="142" y="358"/>
                    <a:pt x="144" y="356"/>
                  </a:cubicBezTo>
                  <a:cubicBezTo>
                    <a:pt x="147" y="351"/>
                    <a:pt x="151" y="346"/>
                    <a:pt x="155" y="342"/>
                  </a:cubicBezTo>
                  <a:cubicBezTo>
                    <a:pt x="156" y="339"/>
                    <a:pt x="158" y="337"/>
                    <a:pt x="160" y="335"/>
                  </a:cubicBezTo>
                  <a:cubicBezTo>
                    <a:pt x="162" y="332"/>
                    <a:pt x="164" y="330"/>
                    <a:pt x="166" y="328"/>
                  </a:cubicBezTo>
                  <a:cubicBezTo>
                    <a:pt x="167" y="325"/>
                    <a:pt x="169" y="323"/>
                    <a:pt x="171" y="321"/>
                  </a:cubicBezTo>
                  <a:cubicBezTo>
                    <a:pt x="186" y="303"/>
                    <a:pt x="201" y="286"/>
                    <a:pt x="216" y="269"/>
                  </a:cubicBezTo>
                  <a:cubicBezTo>
                    <a:pt x="221" y="264"/>
                    <a:pt x="226" y="259"/>
                    <a:pt x="231" y="255"/>
                  </a:cubicBezTo>
                  <a:cubicBezTo>
                    <a:pt x="235" y="250"/>
                    <a:pt x="239" y="246"/>
                    <a:pt x="244" y="242"/>
                  </a:cubicBezTo>
                  <a:cubicBezTo>
                    <a:pt x="246" y="240"/>
                    <a:pt x="248" y="238"/>
                    <a:pt x="250" y="236"/>
                  </a:cubicBezTo>
                  <a:cubicBezTo>
                    <a:pt x="254" y="232"/>
                    <a:pt x="259" y="228"/>
                    <a:pt x="263" y="224"/>
                  </a:cubicBezTo>
                  <a:cubicBezTo>
                    <a:pt x="267" y="220"/>
                    <a:pt x="271" y="217"/>
                    <a:pt x="275" y="213"/>
                  </a:cubicBezTo>
                  <a:cubicBezTo>
                    <a:pt x="280" y="209"/>
                    <a:pt x="285" y="205"/>
                    <a:pt x="290" y="201"/>
                  </a:cubicBezTo>
                  <a:cubicBezTo>
                    <a:pt x="292" y="199"/>
                    <a:pt x="294" y="197"/>
                    <a:pt x="296" y="195"/>
                  </a:cubicBezTo>
                  <a:cubicBezTo>
                    <a:pt x="314" y="181"/>
                    <a:pt x="332" y="167"/>
                    <a:pt x="351" y="154"/>
                  </a:cubicBezTo>
                  <a:cubicBezTo>
                    <a:pt x="354" y="152"/>
                    <a:pt x="356" y="150"/>
                    <a:pt x="359" y="149"/>
                  </a:cubicBezTo>
                  <a:cubicBezTo>
                    <a:pt x="362" y="146"/>
                    <a:pt x="365" y="144"/>
                    <a:pt x="368" y="142"/>
                  </a:cubicBezTo>
                  <a:cubicBezTo>
                    <a:pt x="374" y="139"/>
                    <a:pt x="380" y="135"/>
                    <a:pt x="386" y="131"/>
                  </a:cubicBezTo>
                  <a:cubicBezTo>
                    <a:pt x="389" y="129"/>
                    <a:pt x="391" y="128"/>
                    <a:pt x="394" y="126"/>
                  </a:cubicBezTo>
                  <a:cubicBezTo>
                    <a:pt x="407" y="118"/>
                    <a:pt x="420" y="111"/>
                    <a:pt x="433" y="104"/>
                  </a:cubicBezTo>
                  <a:cubicBezTo>
                    <a:pt x="436" y="102"/>
                    <a:pt x="438" y="101"/>
                    <a:pt x="441" y="100"/>
                  </a:cubicBezTo>
                  <a:cubicBezTo>
                    <a:pt x="444" y="98"/>
                    <a:pt x="447" y="97"/>
                    <a:pt x="450" y="95"/>
                  </a:cubicBezTo>
                  <a:cubicBezTo>
                    <a:pt x="459" y="90"/>
                    <a:pt x="469" y="85"/>
                    <a:pt x="478" y="81"/>
                  </a:cubicBezTo>
                  <a:cubicBezTo>
                    <a:pt x="485" y="78"/>
                    <a:pt x="491" y="75"/>
                    <a:pt x="498" y="72"/>
                  </a:cubicBezTo>
                  <a:cubicBezTo>
                    <a:pt x="514" y="65"/>
                    <a:pt x="531" y="58"/>
                    <a:pt x="549" y="52"/>
                  </a:cubicBezTo>
                  <a:cubicBezTo>
                    <a:pt x="551" y="51"/>
                    <a:pt x="554" y="50"/>
                    <a:pt x="557" y="49"/>
                  </a:cubicBezTo>
                  <a:cubicBezTo>
                    <a:pt x="560" y="48"/>
                    <a:pt x="563" y="47"/>
                    <a:pt x="566" y="46"/>
                  </a:cubicBezTo>
                  <a:cubicBezTo>
                    <a:pt x="580" y="41"/>
                    <a:pt x="595" y="36"/>
                    <a:pt x="609" y="32"/>
                  </a:cubicBezTo>
                  <a:cubicBezTo>
                    <a:pt x="612" y="31"/>
                    <a:pt x="615" y="31"/>
                    <a:pt x="618" y="30"/>
                  </a:cubicBezTo>
                  <a:cubicBezTo>
                    <a:pt x="622" y="29"/>
                    <a:pt x="625" y="28"/>
                    <a:pt x="628" y="27"/>
                  </a:cubicBezTo>
                  <a:cubicBezTo>
                    <a:pt x="646" y="22"/>
                    <a:pt x="664" y="18"/>
                    <a:pt x="683" y="15"/>
                  </a:cubicBezTo>
                  <a:cubicBezTo>
                    <a:pt x="686" y="14"/>
                    <a:pt x="689" y="14"/>
                    <a:pt x="692" y="13"/>
                  </a:cubicBezTo>
                  <a:cubicBezTo>
                    <a:pt x="695" y="13"/>
                    <a:pt x="699" y="12"/>
                    <a:pt x="703" y="11"/>
                  </a:cubicBezTo>
                  <a:cubicBezTo>
                    <a:pt x="703" y="11"/>
                    <a:pt x="704" y="11"/>
                    <a:pt x="705" y="11"/>
                  </a:cubicBezTo>
                  <a:cubicBezTo>
                    <a:pt x="710" y="10"/>
                    <a:pt x="716" y="9"/>
                    <a:pt x="721" y="9"/>
                  </a:cubicBezTo>
                  <a:cubicBezTo>
                    <a:pt x="723" y="8"/>
                    <a:pt x="725" y="8"/>
                    <a:pt x="728" y="8"/>
                  </a:cubicBezTo>
                  <a:cubicBezTo>
                    <a:pt x="730" y="7"/>
                    <a:pt x="733" y="7"/>
                    <a:pt x="735" y="7"/>
                  </a:cubicBezTo>
                  <a:cubicBezTo>
                    <a:pt x="738" y="6"/>
                    <a:pt x="742" y="6"/>
                    <a:pt x="745" y="6"/>
                  </a:cubicBezTo>
                  <a:cubicBezTo>
                    <a:pt x="747" y="5"/>
                    <a:pt x="749" y="5"/>
                    <a:pt x="751" y="5"/>
                  </a:cubicBezTo>
                  <a:cubicBezTo>
                    <a:pt x="754" y="4"/>
                    <a:pt x="757" y="4"/>
                    <a:pt x="760" y="4"/>
                  </a:cubicBezTo>
                  <a:cubicBezTo>
                    <a:pt x="764" y="3"/>
                    <a:pt x="767" y="3"/>
                    <a:pt x="771" y="3"/>
                  </a:cubicBezTo>
                  <a:cubicBezTo>
                    <a:pt x="774" y="3"/>
                    <a:pt x="776" y="2"/>
                    <a:pt x="779" y="2"/>
                  </a:cubicBezTo>
                  <a:cubicBezTo>
                    <a:pt x="786" y="2"/>
                    <a:pt x="792" y="1"/>
                    <a:pt x="799" y="1"/>
                  </a:cubicBezTo>
                  <a:cubicBezTo>
                    <a:pt x="802" y="1"/>
                    <a:pt x="805" y="1"/>
                    <a:pt x="808" y="1"/>
                  </a:cubicBezTo>
                  <a:cubicBezTo>
                    <a:pt x="811" y="0"/>
                    <a:pt x="814" y="0"/>
                    <a:pt x="817" y="0"/>
                  </a:cubicBezTo>
                  <a:cubicBezTo>
                    <a:pt x="819" y="0"/>
                    <a:pt x="822" y="0"/>
                    <a:pt x="825" y="0"/>
                  </a:cubicBezTo>
                  <a:cubicBezTo>
                    <a:pt x="828" y="0"/>
                    <a:pt x="831" y="0"/>
                    <a:pt x="835" y="0"/>
                  </a:cubicBezTo>
                  <a:cubicBezTo>
                    <a:pt x="838" y="0"/>
                    <a:pt x="842" y="0"/>
                    <a:pt x="846" y="0"/>
                  </a:cubicBezTo>
                  <a:cubicBezTo>
                    <a:pt x="850" y="0"/>
                    <a:pt x="853" y="0"/>
                    <a:pt x="857" y="0"/>
                  </a:cubicBezTo>
                  <a:cubicBezTo>
                    <a:pt x="860" y="0"/>
                    <a:pt x="864" y="0"/>
                    <a:pt x="867" y="0"/>
                  </a:cubicBezTo>
                  <a:cubicBezTo>
                    <a:pt x="870" y="0"/>
                    <a:pt x="872" y="0"/>
                    <a:pt x="875" y="0"/>
                  </a:cubicBezTo>
                  <a:cubicBezTo>
                    <a:pt x="878" y="0"/>
                    <a:pt x="881" y="0"/>
                    <a:pt x="884" y="1"/>
                  </a:cubicBezTo>
                  <a:cubicBezTo>
                    <a:pt x="887" y="1"/>
                    <a:pt x="890" y="1"/>
                    <a:pt x="893" y="1"/>
                  </a:cubicBezTo>
                  <a:cubicBezTo>
                    <a:pt x="899" y="1"/>
                    <a:pt x="906" y="2"/>
                    <a:pt x="912" y="2"/>
                  </a:cubicBezTo>
                  <a:cubicBezTo>
                    <a:pt x="915" y="2"/>
                    <a:pt x="918" y="3"/>
                    <a:pt x="921" y="3"/>
                  </a:cubicBezTo>
                  <a:cubicBezTo>
                    <a:pt x="924" y="3"/>
                    <a:pt x="928" y="3"/>
                    <a:pt x="931" y="4"/>
                  </a:cubicBezTo>
                  <a:cubicBezTo>
                    <a:pt x="934" y="4"/>
                    <a:pt x="937" y="4"/>
                    <a:pt x="941" y="5"/>
                  </a:cubicBezTo>
                  <a:cubicBezTo>
                    <a:pt x="943" y="5"/>
                    <a:pt x="945" y="5"/>
                    <a:pt x="947" y="6"/>
                  </a:cubicBezTo>
                  <a:cubicBezTo>
                    <a:pt x="950" y="6"/>
                    <a:pt x="953" y="6"/>
                    <a:pt x="957" y="7"/>
                  </a:cubicBezTo>
                  <a:cubicBezTo>
                    <a:pt x="959" y="7"/>
                    <a:pt x="961" y="7"/>
                    <a:pt x="964" y="8"/>
                  </a:cubicBezTo>
                  <a:cubicBezTo>
                    <a:pt x="966" y="8"/>
                    <a:pt x="968" y="8"/>
                    <a:pt x="971" y="9"/>
                  </a:cubicBezTo>
                  <a:cubicBezTo>
                    <a:pt x="976" y="9"/>
                    <a:pt x="981" y="10"/>
                    <a:pt x="987" y="11"/>
                  </a:cubicBezTo>
                  <a:cubicBezTo>
                    <a:pt x="988" y="11"/>
                    <a:pt x="988" y="11"/>
                    <a:pt x="989" y="11"/>
                  </a:cubicBezTo>
                  <a:cubicBezTo>
                    <a:pt x="993" y="12"/>
                    <a:pt x="996" y="13"/>
                    <a:pt x="1000" y="13"/>
                  </a:cubicBezTo>
                  <a:cubicBezTo>
                    <a:pt x="1003" y="14"/>
                    <a:pt x="1006" y="14"/>
                    <a:pt x="1009" y="15"/>
                  </a:cubicBezTo>
                  <a:cubicBezTo>
                    <a:pt x="1027" y="18"/>
                    <a:pt x="1045" y="22"/>
                    <a:pt x="1063" y="27"/>
                  </a:cubicBezTo>
                  <a:cubicBezTo>
                    <a:pt x="1067" y="28"/>
                    <a:pt x="1070" y="29"/>
                    <a:pt x="1074" y="30"/>
                  </a:cubicBezTo>
                  <a:cubicBezTo>
                    <a:pt x="1077" y="31"/>
                    <a:pt x="1080" y="31"/>
                    <a:pt x="1083" y="32"/>
                  </a:cubicBezTo>
                  <a:cubicBezTo>
                    <a:pt x="1097" y="36"/>
                    <a:pt x="1111" y="41"/>
                    <a:pt x="1125" y="46"/>
                  </a:cubicBezTo>
                  <a:cubicBezTo>
                    <a:pt x="1129" y="47"/>
                    <a:pt x="1132" y="48"/>
                    <a:pt x="1135" y="49"/>
                  </a:cubicBezTo>
                  <a:cubicBezTo>
                    <a:pt x="1138" y="50"/>
                    <a:pt x="1140" y="51"/>
                    <a:pt x="1143" y="52"/>
                  </a:cubicBezTo>
                  <a:cubicBezTo>
                    <a:pt x="1160" y="58"/>
                    <a:pt x="1177" y="65"/>
                    <a:pt x="1194" y="72"/>
                  </a:cubicBezTo>
                  <a:cubicBezTo>
                    <a:pt x="1200" y="75"/>
                    <a:pt x="1207" y="78"/>
                    <a:pt x="1213" y="81"/>
                  </a:cubicBezTo>
                  <a:cubicBezTo>
                    <a:pt x="1223" y="85"/>
                    <a:pt x="1232" y="90"/>
                    <a:pt x="1242" y="95"/>
                  </a:cubicBezTo>
                  <a:cubicBezTo>
                    <a:pt x="1245" y="97"/>
                    <a:pt x="1248" y="98"/>
                    <a:pt x="1251" y="100"/>
                  </a:cubicBezTo>
                  <a:cubicBezTo>
                    <a:pt x="1254" y="101"/>
                    <a:pt x="1256" y="102"/>
                    <a:pt x="1258" y="104"/>
                  </a:cubicBezTo>
                  <a:cubicBezTo>
                    <a:pt x="1272" y="111"/>
                    <a:pt x="1285" y="118"/>
                    <a:pt x="1297" y="126"/>
                  </a:cubicBezTo>
                  <a:cubicBezTo>
                    <a:pt x="1300" y="128"/>
                    <a:pt x="1303" y="129"/>
                    <a:pt x="1306" y="131"/>
                  </a:cubicBezTo>
                  <a:cubicBezTo>
                    <a:pt x="1312" y="135"/>
                    <a:pt x="1318" y="139"/>
                    <a:pt x="1323" y="142"/>
                  </a:cubicBezTo>
                  <a:cubicBezTo>
                    <a:pt x="1326" y="144"/>
                    <a:pt x="1329" y="146"/>
                    <a:pt x="1332" y="149"/>
                  </a:cubicBezTo>
                  <a:cubicBezTo>
                    <a:pt x="1335" y="150"/>
                    <a:pt x="1338" y="152"/>
                    <a:pt x="1341" y="154"/>
                  </a:cubicBezTo>
                  <a:cubicBezTo>
                    <a:pt x="1359" y="167"/>
                    <a:pt x="1378" y="181"/>
                    <a:pt x="1395" y="195"/>
                  </a:cubicBezTo>
                  <a:cubicBezTo>
                    <a:pt x="1397" y="197"/>
                    <a:pt x="1400" y="199"/>
                    <a:pt x="1402" y="201"/>
                  </a:cubicBezTo>
                  <a:cubicBezTo>
                    <a:pt x="1407" y="205"/>
                    <a:pt x="1412" y="209"/>
                    <a:pt x="1417" y="213"/>
                  </a:cubicBezTo>
                  <a:cubicBezTo>
                    <a:pt x="1420" y="217"/>
                    <a:pt x="1424" y="220"/>
                    <a:pt x="1428" y="224"/>
                  </a:cubicBezTo>
                  <a:cubicBezTo>
                    <a:pt x="1433" y="228"/>
                    <a:pt x="1437" y="232"/>
                    <a:pt x="1442" y="236"/>
                  </a:cubicBezTo>
                  <a:cubicBezTo>
                    <a:pt x="1444" y="238"/>
                    <a:pt x="1446" y="240"/>
                    <a:pt x="1448" y="242"/>
                  </a:cubicBezTo>
                  <a:cubicBezTo>
                    <a:pt x="1452" y="246"/>
                    <a:pt x="1457" y="250"/>
                    <a:pt x="1461" y="255"/>
                  </a:cubicBezTo>
                  <a:cubicBezTo>
                    <a:pt x="1466" y="259"/>
                    <a:pt x="1471" y="264"/>
                    <a:pt x="1475" y="269"/>
                  </a:cubicBezTo>
                  <a:cubicBezTo>
                    <a:pt x="1491" y="286"/>
                    <a:pt x="1506" y="303"/>
                    <a:pt x="1520" y="321"/>
                  </a:cubicBezTo>
                  <a:cubicBezTo>
                    <a:pt x="1522" y="323"/>
                    <a:pt x="1524" y="325"/>
                    <a:pt x="1526" y="328"/>
                  </a:cubicBezTo>
                  <a:cubicBezTo>
                    <a:pt x="1528" y="330"/>
                    <a:pt x="1530" y="332"/>
                    <a:pt x="1532" y="335"/>
                  </a:cubicBezTo>
                  <a:cubicBezTo>
                    <a:pt x="1533" y="337"/>
                    <a:pt x="1535" y="339"/>
                    <a:pt x="1537" y="342"/>
                  </a:cubicBezTo>
                  <a:cubicBezTo>
                    <a:pt x="1541" y="346"/>
                    <a:pt x="1544" y="351"/>
                    <a:pt x="1548" y="356"/>
                  </a:cubicBezTo>
                  <a:cubicBezTo>
                    <a:pt x="1549" y="358"/>
                    <a:pt x="1551" y="361"/>
                    <a:pt x="1553" y="363"/>
                  </a:cubicBezTo>
                  <a:cubicBezTo>
                    <a:pt x="1555" y="366"/>
                    <a:pt x="1556" y="368"/>
                    <a:pt x="1558" y="370"/>
                  </a:cubicBezTo>
                  <a:cubicBezTo>
                    <a:pt x="1560" y="373"/>
                    <a:pt x="1562" y="375"/>
                    <a:pt x="1563" y="378"/>
                  </a:cubicBezTo>
                  <a:cubicBezTo>
                    <a:pt x="1565" y="380"/>
                    <a:pt x="1567" y="383"/>
                    <a:pt x="1568" y="385"/>
                  </a:cubicBezTo>
                  <a:cubicBezTo>
                    <a:pt x="1577" y="398"/>
                    <a:pt x="1585" y="410"/>
                    <a:pt x="1592" y="423"/>
                  </a:cubicBezTo>
                  <a:cubicBezTo>
                    <a:pt x="1595" y="428"/>
                    <a:pt x="1598" y="433"/>
                    <a:pt x="1601" y="438"/>
                  </a:cubicBezTo>
                  <a:cubicBezTo>
                    <a:pt x="1625" y="480"/>
                    <a:pt x="1645" y="524"/>
                    <a:pt x="1662" y="569"/>
                  </a:cubicBezTo>
                  <a:cubicBezTo>
                    <a:pt x="1672" y="595"/>
                    <a:pt x="1680" y="621"/>
                    <a:pt x="1687" y="647"/>
                  </a:cubicBezTo>
                  <a:cubicBezTo>
                    <a:pt x="1688" y="653"/>
                    <a:pt x="1690" y="659"/>
                    <a:pt x="1691" y="665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6294000"/>
            </a:gradFill>
            <a:ln w="38160">
              <a:solidFill>
                <a:srgbClr val="558ed5">
                  <a:alpha val="15000"/>
                </a:srgbClr>
              </a:solidFill>
              <a:round/>
            </a:ln>
            <a:effectLst>
              <a:outerShdw dist="50760" dir="54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feld 215"/>
          <p:cNvSpPr/>
          <p:nvPr/>
        </p:nvSpPr>
        <p:spPr>
          <a:xfrm rot="20700000">
            <a:off x="2743200" y="43621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Gruppieren 227" descr=""/>
          <p:cNvPicPr/>
          <p:nvPr/>
        </p:nvPicPr>
        <p:blipFill>
          <a:blip r:embed="rId5"/>
          <a:stretch/>
        </p:blipFill>
        <p:spPr>
          <a:xfrm>
            <a:off x="6504120" y="3376440"/>
            <a:ext cx="2719080" cy="2408400"/>
          </a:xfrm>
          <a:prstGeom prst="rect">
            <a:avLst/>
          </a:prstGeom>
          <a:ln w="0">
            <a:noFill/>
          </a:ln>
        </p:spPr>
      </p:pic>
      <p:sp>
        <p:nvSpPr>
          <p:cNvPr id="109" name="Textfeld 222"/>
          <p:cNvSpPr/>
          <p:nvPr/>
        </p:nvSpPr>
        <p:spPr>
          <a:xfrm rot="20700000">
            <a:off x="7058160" y="42764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29520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  <a:ea typeface="宋体"/>
              </a:rPr>
              <a:t>Button - 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9520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2920" y="3056040"/>
            <a:ext cx="1911240" cy="1847880"/>
            <a:chOff x="412920" y="3056040"/>
            <a:chExt cx="1911240" cy="1847880"/>
          </a:xfrm>
        </p:grpSpPr>
        <p:pic>
          <p:nvPicPr>
            <p:cNvPr id="113" name="Grafik 23" descr="Hintergrund button.png"/>
            <p:cNvPicPr/>
            <p:nvPr/>
          </p:nvPicPr>
          <p:blipFill>
            <a:blip r:embed="rId6"/>
            <a:stretch/>
          </p:blipFill>
          <p:spPr>
            <a:xfrm>
              <a:off x="412920" y="3056040"/>
              <a:ext cx="191124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Freeform 165"/>
            <p:cNvSpPr/>
            <p:nvPr/>
          </p:nvSpPr>
          <p:spPr>
            <a:xfrm rot="20704200">
              <a:off x="759600" y="4114440"/>
              <a:ext cx="1461960" cy="546120"/>
            </a:xfrm>
            <a:custGeom>
              <a:avLst/>
              <a:gdLst/>
              <a:ahLst/>
              <a:rect l="l" t="t" r="r" b="b"/>
              <a:pathLst>
                <a:path w="1685" h="653">
                  <a:moveTo>
                    <a:pt x="0" y="0"/>
                  </a:moveTo>
                  <a:cubicBezTo>
                    <a:pt x="1685" y="0"/>
                    <a:pt x="1685" y="0"/>
                    <a:pt x="1685" y="0"/>
                  </a:cubicBezTo>
                  <a:cubicBezTo>
                    <a:pt x="1685" y="2"/>
                    <a:pt x="1684" y="5"/>
                    <a:pt x="1683" y="7"/>
                  </a:cubicBezTo>
                  <a:cubicBezTo>
                    <a:pt x="1683" y="7"/>
                    <a:pt x="1683" y="8"/>
                    <a:pt x="1683" y="9"/>
                  </a:cubicBezTo>
                  <a:cubicBezTo>
                    <a:pt x="1682" y="12"/>
                    <a:pt x="1681" y="15"/>
                    <a:pt x="1681" y="17"/>
                  </a:cubicBezTo>
                  <a:cubicBezTo>
                    <a:pt x="1678" y="26"/>
                    <a:pt x="1675" y="35"/>
                    <a:pt x="1673" y="44"/>
                  </a:cubicBezTo>
                  <a:cubicBezTo>
                    <a:pt x="1671" y="50"/>
                    <a:pt x="1669" y="56"/>
                    <a:pt x="1667" y="62"/>
                  </a:cubicBezTo>
                  <a:cubicBezTo>
                    <a:pt x="1666" y="65"/>
                    <a:pt x="1665" y="69"/>
                    <a:pt x="1663" y="72"/>
                  </a:cubicBezTo>
                  <a:cubicBezTo>
                    <a:pt x="1662" y="75"/>
                    <a:pt x="1661" y="79"/>
                    <a:pt x="1660" y="82"/>
                  </a:cubicBezTo>
                  <a:cubicBezTo>
                    <a:pt x="1659" y="85"/>
                    <a:pt x="1658" y="87"/>
                    <a:pt x="1657" y="90"/>
                  </a:cubicBezTo>
                  <a:cubicBezTo>
                    <a:pt x="1651" y="104"/>
                    <a:pt x="1645" y="119"/>
                    <a:pt x="1639" y="133"/>
                  </a:cubicBezTo>
                  <a:cubicBezTo>
                    <a:pt x="1638" y="136"/>
                    <a:pt x="1637" y="138"/>
                    <a:pt x="1636" y="141"/>
                  </a:cubicBezTo>
                  <a:cubicBezTo>
                    <a:pt x="1634" y="145"/>
                    <a:pt x="1632" y="148"/>
                    <a:pt x="1630" y="152"/>
                  </a:cubicBezTo>
                  <a:cubicBezTo>
                    <a:pt x="1628" y="158"/>
                    <a:pt x="1625" y="163"/>
                    <a:pt x="1623" y="168"/>
                  </a:cubicBezTo>
                  <a:cubicBezTo>
                    <a:pt x="1620" y="174"/>
                    <a:pt x="1617" y="179"/>
                    <a:pt x="1615" y="184"/>
                  </a:cubicBezTo>
                  <a:cubicBezTo>
                    <a:pt x="1613" y="187"/>
                    <a:pt x="1612" y="189"/>
                    <a:pt x="1611" y="191"/>
                  </a:cubicBezTo>
                  <a:cubicBezTo>
                    <a:pt x="1609" y="194"/>
                    <a:pt x="1608" y="197"/>
                    <a:pt x="1606" y="200"/>
                  </a:cubicBezTo>
                  <a:cubicBezTo>
                    <a:pt x="1605" y="202"/>
                    <a:pt x="1603" y="205"/>
                    <a:pt x="1602" y="208"/>
                  </a:cubicBezTo>
                  <a:cubicBezTo>
                    <a:pt x="1576" y="253"/>
                    <a:pt x="1547" y="296"/>
                    <a:pt x="1514" y="336"/>
                  </a:cubicBezTo>
                  <a:cubicBezTo>
                    <a:pt x="1512" y="338"/>
                    <a:pt x="1511" y="340"/>
                    <a:pt x="1509" y="342"/>
                  </a:cubicBezTo>
                  <a:cubicBezTo>
                    <a:pt x="1504" y="348"/>
                    <a:pt x="1499" y="354"/>
                    <a:pt x="1494" y="360"/>
                  </a:cubicBezTo>
                  <a:cubicBezTo>
                    <a:pt x="1492" y="362"/>
                    <a:pt x="1490" y="365"/>
                    <a:pt x="1488" y="367"/>
                  </a:cubicBezTo>
                  <a:cubicBezTo>
                    <a:pt x="1485" y="370"/>
                    <a:pt x="1482" y="373"/>
                    <a:pt x="1479" y="376"/>
                  </a:cubicBezTo>
                  <a:cubicBezTo>
                    <a:pt x="1477" y="378"/>
                    <a:pt x="1475" y="381"/>
                    <a:pt x="1472" y="383"/>
                  </a:cubicBezTo>
                  <a:cubicBezTo>
                    <a:pt x="1467" y="388"/>
                    <a:pt x="1462" y="394"/>
                    <a:pt x="1457" y="399"/>
                  </a:cubicBezTo>
                  <a:cubicBezTo>
                    <a:pt x="1455" y="401"/>
                    <a:pt x="1453" y="403"/>
                    <a:pt x="1450" y="405"/>
                  </a:cubicBezTo>
                  <a:cubicBezTo>
                    <a:pt x="1449" y="407"/>
                    <a:pt x="1447" y="409"/>
                    <a:pt x="1445" y="411"/>
                  </a:cubicBezTo>
                  <a:cubicBezTo>
                    <a:pt x="1443" y="412"/>
                    <a:pt x="1441" y="414"/>
                    <a:pt x="1440" y="416"/>
                  </a:cubicBezTo>
                  <a:cubicBezTo>
                    <a:pt x="1438" y="418"/>
                    <a:pt x="1436" y="420"/>
                    <a:pt x="1433" y="422"/>
                  </a:cubicBezTo>
                  <a:cubicBezTo>
                    <a:pt x="1426" y="428"/>
                    <a:pt x="1419" y="434"/>
                    <a:pt x="1412" y="441"/>
                  </a:cubicBezTo>
                  <a:cubicBezTo>
                    <a:pt x="1407" y="445"/>
                    <a:pt x="1402" y="449"/>
                    <a:pt x="1397" y="454"/>
                  </a:cubicBezTo>
                  <a:cubicBezTo>
                    <a:pt x="1394" y="456"/>
                    <a:pt x="1391" y="458"/>
                    <a:pt x="1388" y="461"/>
                  </a:cubicBezTo>
                  <a:cubicBezTo>
                    <a:pt x="1385" y="463"/>
                    <a:pt x="1383" y="465"/>
                    <a:pt x="1380" y="467"/>
                  </a:cubicBezTo>
                  <a:cubicBezTo>
                    <a:pt x="1376" y="470"/>
                    <a:pt x="1373" y="473"/>
                    <a:pt x="1369" y="475"/>
                  </a:cubicBezTo>
                  <a:cubicBezTo>
                    <a:pt x="1367" y="477"/>
                    <a:pt x="1365" y="478"/>
                    <a:pt x="1363" y="480"/>
                  </a:cubicBezTo>
                  <a:cubicBezTo>
                    <a:pt x="1360" y="482"/>
                    <a:pt x="1358" y="484"/>
                    <a:pt x="1355" y="486"/>
                  </a:cubicBezTo>
                  <a:cubicBezTo>
                    <a:pt x="1352" y="488"/>
                    <a:pt x="1350" y="490"/>
                    <a:pt x="1348" y="491"/>
                  </a:cubicBezTo>
                  <a:cubicBezTo>
                    <a:pt x="1342" y="496"/>
                    <a:pt x="1335" y="500"/>
                    <a:pt x="1329" y="504"/>
                  </a:cubicBezTo>
                  <a:cubicBezTo>
                    <a:pt x="1323" y="508"/>
                    <a:pt x="1317" y="512"/>
                    <a:pt x="1312" y="516"/>
                  </a:cubicBezTo>
                  <a:cubicBezTo>
                    <a:pt x="1309" y="518"/>
                    <a:pt x="1306" y="520"/>
                    <a:pt x="1303" y="521"/>
                  </a:cubicBezTo>
                  <a:cubicBezTo>
                    <a:pt x="1301" y="523"/>
                    <a:pt x="1298" y="524"/>
                    <a:pt x="1296" y="525"/>
                  </a:cubicBezTo>
                  <a:cubicBezTo>
                    <a:pt x="1290" y="530"/>
                    <a:pt x="1283" y="534"/>
                    <a:pt x="1276" y="538"/>
                  </a:cubicBezTo>
                  <a:cubicBezTo>
                    <a:pt x="1273" y="539"/>
                    <a:pt x="1270" y="541"/>
                    <a:pt x="1267" y="543"/>
                  </a:cubicBezTo>
                  <a:cubicBezTo>
                    <a:pt x="1257" y="548"/>
                    <a:pt x="1248" y="553"/>
                    <a:pt x="1238" y="558"/>
                  </a:cubicBezTo>
                  <a:cubicBezTo>
                    <a:pt x="1235" y="559"/>
                    <a:pt x="1232" y="561"/>
                    <a:pt x="1229" y="562"/>
                  </a:cubicBezTo>
                  <a:cubicBezTo>
                    <a:pt x="1223" y="566"/>
                    <a:pt x="1217" y="569"/>
                    <a:pt x="1210" y="572"/>
                  </a:cubicBezTo>
                  <a:cubicBezTo>
                    <a:pt x="1204" y="575"/>
                    <a:pt x="1198" y="577"/>
                    <a:pt x="1191" y="580"/>
                  </a:cubicBezTo>
                  <a:cubicBezTo>
                    <a:pt x="1187" y="582"/>
                    <a:pt x="1182" y="584"/>
                    <a:pt x="1178" y="586"/>
                  </a:cubicBezTo>
                  <a:cubicBezTo>
                    <a:pt x="1176" y="587"/>
                    <a:pt x="1174" y="588"/>
                    <a:pt x="1172" y="589"/>
                  </a:cubicBezTo>
                  <a:cubicBezTo>
                    <a:pt x="1168" y="590"/>
                    <a:pt x="1165" y="591"/>
                    <a:pt x="1162" y="592"/>
                  </a:cubicBezTo>
                  <a:cubicBezTo>
                    <a:pt x="1158" y="594"/>
                    <a:pt x="1155" y="595"/>
                    <a:pt x="1152" y="596"/>
                  </a:cubicBezTo>
                  <a:cubicBezTo>
                    <a:pt x="1148" y="598"/>
                    <a:pt x="1145" y="599"/>
                    <a:pt x="1142" y="600"/>
                  </a:cubicBezTo>
                  <a:cubicBezTo>
                    <a:pt x="1139" y="601"/>
                    <a:pt x="1135" y="602"/>
                    <a:pt x="1132" y="604"/>
                  </a:cubicBezTo>
                  <a:cubicBezTo>
                    <a:pt x="1125" y="606"/>
                    <a:pt x="1118" y="608"/>
                    <a:pt x="1112" y="610"/>
                  </a:cubicBezTo>
                  <a:cubicBezTo>
                    <a:pt x="1108" y="612"/>
                    <a:pt x="1105" y="613"/>
                    <a:pt x="1101" y="614"/>
                  </a:cubicBezTo>
                  <a:cubicBezTo>
                    <a:pt x="1098" y="615"/>
                    <a:pt x="1095" y="616"/>
                    <a:pt x="1092" y="617"/>
                  </a:cubicBezTo>
                  <a:cubicBezTo>
                    <a:pt x="1081" y="620"/>
                    <a:pt x="1070" y="623"/>
                    <a:pt x="1059" y="626"/>
                  </a:cubicBezTo>
                  <a:cubicBezTo>
                    <a:pt x="1057" y="626"/>
                    <a:pt x="1054" y="627"/>
                    <a:pt x="1051" y="628"/>
                  </a:cubicBezTo>
                  <a:cubicBezTo>
                    <a:pt x="1036" y="631"/>
                    <a:pt x="1021" y="635"/>
                    <a:pt x="1005" y="638"/>
                  </a:cubicBezTo>
                  <a:cubicBezTo>
                    <a:pt x="1002" y="638"/>
                    <a:pt x="1000" y="639"/>
                    <a:pt x="997" y="639"/>
                  </a:cubicBezTo>
                  <a:cubicBezTo>
                    <a:pt x="993" y="640"/>
                    <a:pt x="990" y="641"/>
                    <a:pt x="986" y="641"/>
                  </a:cubicBezTo>
                  <a:cubicBezTo>
                    <a:pt x="982" y="642"/>
                    <a:pt x="979" y="642"/>
                    <a:pt x="975" y="643"/>
                  </a:cubicBezTo>
                  <a:cubicBezTo>
                    <a:pt x="973" y="643"/>
                    <a:pt x="970" y="644"/>
                    <a:pt x="967" y="644"/>
                  </a:cubicBezTo>
                  <a:cubicBezTo>
                    <a:pt x="938" y="648"/>
                    <a:pt x="907" y="651"/>
                    <a:pt x="876" y="652"/>
                  </a:cubicBezTo>
                  <a:cubicBezTo>
                    <a:pt x="873" y="652"/>
                    <a:pt x="870" y="652"/>
                    <a:pt x="866" y="653"/>
                  </a:cubicBezTo>
                  <a:cubicBezTo>
                    <a:pt x="862" y="653"/>
                    <a:pt x="858" y="653"/>
                    <a:pt x="854" y="653"/>
                  </a:cubicBezTo>
                  <a:cubicBezTo>
                    <a:pt x="850" y="653"/>
                    <a:pt x="847" y="653"/>
                    <a:pt x="843" y="653"/>
                  </a:cubicBezTo>
                  <a:cubicBezTo>
                    <a:pt x="839" y="653"/>
                    <a:pt x="835" y="653"/>
                    <a:pt x="832" y="653"/>
                  </a:cubicBezTo>
                  <a:cubicBezTo>
                    <a:pt x="827" y="653"/>
                    <a:pt x="823" y="653"/>
                    <a:pt x="819" y="653"/>
                  </a:cubicBezTo>
                  <a:cubicBezTo>
                    <a:pt x="816" y="652"/>
                    <a:pt x="812" y="652"/>
                    <a:pt x="809" y="652"/>
                  </a:cubicBezTo>
                  <a:cubicBezTo>
                    <a:pt x="778" y="651"/>
                    <a:pt x="748" y="648"/>
                    <a:pt x="718" y="644"/>
                  </a:cubicBezTo>
                  <a:cubicBezTo>
                    <a:pt x="716" y="644"/>
                    <a:pt x="713" y="643"/>
                    <a:pt x="710" y="643"/>
                  </a:cubicBezTo>
                  <a:cubicBezTo>
                    <a:pt x="707" y="642"/>
                    <a:pt x="703" y="642"/>
                    <a:pt x="700" y="641"/>
                  </a:cubicBezTo>
                  <a:cubicBezTo>
                    <a:pt x="696" y="641"/>
                    <a:pt x="692" y="640"/>
                    <a:pt x="689" y="639"/>
                  </a:cubicBezTo>
                  <a:cubicBezTo>
                    <a:pt x="686" y="639"/>
                    <a:pt x="683" y="638"/>
                    <a:pt x="681" y="638"/>
                  </a:cubicBezTo>
                  <a:cubicBezTo>
                    <a:pt x="665" y="635"/>
                    <a:pt x="649" y="631"/>
                    <a:pt x="634" y="628"/>
                  </a:cubicBezTo>
                  <a:cubicBezTo>
                    <a:pt x="632" y="627"/>
                    <a:pt x="629" y="626"/>
                    <a:pt x="626" y="626"/>
                  </a:cubicBezTo>
                  <a:cubicBezTo>
                    <a:pt x="616" y="623"/>
                    <a:pt x="605" y="620"/>
                    <a:pt x="594" y="617"/>
                  </a:cubicBezTo>
                  <a:cubicBezTo>
                    <a:pt x="591" y="616"/>
                    <a:pt x="587" y="615"/>
                    <a:pt x="584" y="614"/>
                  </a:cubicBezTo>
                  <a:cubicBezTo>
                    <a:pt x="581" y="613"/>
                    <a:pt x="577" y="612"/>
                    <a:pt x="574" y="610"/>
                  </a:cubicBezTo>
                  <a:cubicBezTo>
                    <a:pt x="567" y="608"/>
                    <a:pt x="560" y="606"/>
                    <a:pt x="554" y="604"/>
                  </a:cubicBezTo>
                  <a:cubicBezTo>
                    <a:pt x="550" y="602"/>
                    <a:pt x="547" y="601"/>
                    <a:pt x="544" y="600"/>
                  </a:cubicBezTo>
                  <a:cubicBezTo>
                    <a:pt x="540" y="599"/>
                    <a:pt x="537" y="598"/>
                    <a:pt x="534" y="596"/>
                  </a:cubicBezTo>
                  <a:cubicBezTo>
                    <a:pt x="530" y="595"/>
                    <a:pt x="527" y="594"/>
                    <a:pt x="524" y="592"/>
                  </a:cubicBezTo>
                  <a:cubicBezTo>
                    <a:pt x="521" y="591"/>
                    <a:pt x="517" y="590"/>
                    <a:pt x="514" y="589"/>
                  </a:cubicBezTo>
                  <a:cubicBezTo>
                    <a:pt x="512" y="588"/>
                    <a:pt x="510" y="587"/>
                    <a:pt x="507" y="586"/>
                  </a:cubicBezTo>
                  <a:cubicBezTo>
                    <a:pt x="503" y="584"/>
                    <a:pt x="499" y="582"/>
                    <a:pt x="495" y="580"/>
                  </a:cubicBezTo>
                  <a:cubicBezTo>
                    <a:pt x="488" y="577"/>
                    <a:pt x="482" y="575"/>
                    <a:pt x="475" y="572"/>
                  </a:cubicBezTo>
                  <a:cubicBezTo>
                    <a:pt x="469" y="569"/>
                    <a:pt x="463" y="566"/>
                    <a:pt x="456" y="562"/>
                  </a:cubicBezTo>
                  <a:cubicBezTo>
                    <a:pt x="453" y="561"/>
                    <a:pt x="450" y="559"/>
                    <a:pt x="447" y="558"/>
                  </a:cubicBezTo>
                  <a:cubicBezTo>
                    <a:pt x="438" y="553"/>
                    <a:pt x="428" y="548"/>
                    <a:pt x="419" y="543"/>
                  </a:cubicBezTo>
                  <a:cubicBezTo>
                    <a:pt x="416" y="541"/>
                    <a:pt x="413" y="539"/>
                    <a:pt x="410" y="538"/>
                  </a:cubicBezTo>
                  <a:cubicBezTo>
                    <a:pt x="403" y="534"/>
                    <a:pt x="396" y="530"/>
                    <a:pt x="389" y="525"/>
                  </a:cubicBezTo>
                  <a:cubicBezTo>
                    <a:pt x="387" y="524"/>
                    <a:pt x="385" y="523"/>
                    <a:pt x="383" y="521"/>
                  </a:cubicBezTo>
                  <a:cubicBezTo>
                    <a:pt x="380" y="520"/>
                    <a:pt x="377" y="518"/>
                    <a:pt x="374" y="516"/>
                  </a:cubicBezTo>
                  <a:cubicBezTo>
                    <a:pt x="368" y="512"/>
                    <a:pt x="362" y="508"/>
                    <a:pt x="357" y="504"/>
                  </a:cubicBezTo>
                  <a:cubicBezTo>
                    <a:pt x="350" y="500"/>
                    <a:pt x="344" y="496"/>
                    <a:pt x="338" y="491"/>
                  </a:cubicBezTo>
                  <a:cubicBezTo>
                    <a:pt x="335" y="490"/>
                    <a:pt x="333" y="488"/>
                    <a:pt x="331" y="486"/>
                  </a:cubicBezTo>
                  <a:cubicBezTo>
                    <a:pt x="328" y="484"/>
                    <a:pt x="325" y="482"/>
                    <a:pt x="322" y="480"/>
                  </a:cubicBezTo>
                  <a:cubicBezTo>
                    <a:pt x="320" y="478"/>
                    <a:pt x="318" y="477"/>
                    <a:pt x="316" y="475"/>
                  </a:cubicBezTo>
                  <a:cubicBezTo>
                    <a:pt x="313" y="473"/>
                    <a:pt x="309" y="470"/>
                    <a:pt x="306" y="467"/>
                  </a:cubicBezTo>
                  <a:cubicBezTo>
                    <a:pt x="303" y="465"/>
                    <a:pt x="300" y="463"/>
                    <a:pt x="298" y="461"/>
                  </a:cubicBezTo>
                  <a:cubicBezTo>
                    <a:pt x="295" y="458"/>
                    <a:pt x="292" y="456"/>
                    <a:pt x="289" y="454"/>
                  </a:cubicBezTo>
                  <a:cubicBezTo>
                    <a:pt x="284" y="449"/>
                    <a:pt x="279" y="445"/>
                    <a:pt x="274" y="441"/>
                  </a:cubicBezTo>
                  <a:cubicBezTo>
                    <a:pt x="266" y="434"/>
                    <a:pt x="259" y="428"/>
                    <a:pt x="252" y="422"/>
                  </a:cubicBezTo>
                  <a:cubicBezTo>
                    <a:pt x="250" y="420"/>
                    <a:pt x="248" y="418"/>
                    <a:pt x="246" y="416"/>
                  </a:cubicBezTo>
                  <a:cubicBezTo>
                    <a:pt x="244" y="414"/>
                    <a:pt x="242" y="412"/>
                    <a:pt x="241" y="411"/>
                  </a:cubicBezTo>
                  <a:cubicBezTo>
                    <a:pt x="239" y="409"/>
                    <a:pt x="237" y="407"/>
                    <a:pt x="235" y="405"/>
                  </a:cubicBezTo>
                  <a:cubicBezTo>
                    <a:pt x="233" y="403"/>
                    <a:pt x="231" y="401"/>
                    <a:pt x="228" y="399"/>
                  </a:cubicBezTo>
                  <a:cubicBezTo>
                    <a:pt x="223" y="394"/>
                    <a:pt x="218" y="388"/>
                    <a:pt x="213" y="383"/>
                  </a:cubicBezTo>
                  <a:cubicBezTo>
                    <a:pt x="211" y="381"/>
                    <a:pt x="209" y="378"/>
                    <a:pt x="207" y="376"/>
                  </a:cubicBezTo>
                  <a:cubicBezTo>
                    <a:pt x="204" y="373"/>
                    <a:pt x="201" y="370"/>
                    <a:pt x="198" y="367"/>
                  </a:cubicBezTo>
                  <a:cubicBezTo>
                    <a:pt x="196" y="365"/>
                    <a:pt x="194" y="362"/>
                    <a:pt x="192" y="360"/>
                  </a:cubicBezTo>
                  <a:cubicBezTo>
                    <a:pt x="187" y="354"/>
                    <a:pt x="181" y="348"/>
                    <a:pt x="176" y="342"/>
                  </a:cubicBezTo>
                  <a:cubicBezTo>
                    <a:pt x="175" y="340"/>
                    <a:pt x="173" y="338"/>
                    <a:pt x="172" y="336"/>
                  </a:cubicBezTo>
                  <a:cubicBezTo>
                    <a:pt x="139" y="296"/>
                    <a:pt x="109" y="253"/>
                    <a:pt x="84" y="208"/>
                  </a:cubicBezTo>
                  <a:cubicBezTo>
                    <a:pt x="82" y="205"/>
                    <a:pt x="81" y="202"/>
                    <a:pt x="79" y="200"/>
                  </a:cubicBezTo>
                  <a:cubicBezTo>
                    <a:pt x="78" y="197"/>
                    <a:pt x="76" y="194"/>
                    <a:pt x="75" y="191"/>
                  </a:cubicBezTo>
                  <a:cubicBezTo>
                    <a:pt x="73" y="189"/>
                    <a:pt x="72" y="187"/>
                    <a:pt x="71" y="184"/>
                  </a:cubicBezTo>
                  <a:cubicBezTo>
                    <a:pt x="68" y="179"/>
                    <a:pt x="66" y="174"/>
                    <a:pt x="63" y="168"/>
                  </a:cubicBezTo>
                  <a:cubicBezTo>
                    <a:pt x="60" y="163"/>
                    <a:pt x="58" y="158"/>
                    <a:pt x="55" y="152"/>
                  </a:cubicBezTo>
                  <a:cubicBezTo>
                    <a:pt x="53" y="148"/>
                    <a:pt x="52" y="145"/>
                    <a:pt x="50" y="141"/>
                  </a:cubicBezTo>
                  <a:cubicBezTo>
                    <a:pt x="49" y="138"/>
                    <a:pt x="48" y="136"/>
                    <a:pt x="46" y="133"/>
                  </a:cubicBezTo>
                  <a:cubicBezTo>
                    <a:pt x="40" y="119"/>
                    <a:pt x="34" y="104"/>
                    <a:pt x="29" y="90"/>
                  </a:cubicBezTo>
                  <a:cubicBezTo>
                    <a:pt x="28" y="87"/>
                    <a:pt x="27" y="85"/>
                    <a:pt x="26" y="82"/>
                  </a:cubicBezTo>
                  <a:cubicBezTo>
                    <a:pt x="25" y="79"/>
                    <a:pt x="23" y="75"/>
                    <a:pt x="22" y="72"/>
                  </a:cubicBezTo>
                  <a:cubicBezTo>
                    <a:pt x="21" y="69"/>
                    <a:pt x="20" y="65"/>
                    <a:pt x="19" y="62"/>
                  </a:cubicBezTo>
                  <a:cubicBezTo>
                    <a:pt x="17" y="56"/>
                    <a:pt x="15" y="50"/>
                    <a:pt x="13" y="44"/>
                  </a:cubicBezTo>
                  <a:cubicBezTo>
                    <a:pt x="10" y="35"/>
                    <a:pt x="8" y="26"/>
                    <a:pt x="5" y="17"/>
                  </a:cubicBezTo>
                  <a:cubicBezTo>
                    <a:pt x="4" y="15"/>
                    <a:pt x="3" y="12"/>
                    <a:pt x="3" y="9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2" y="5"/>
                    <a:pt x="1" y="2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20000"/>
                </a:gs>
                <a:gs pos="100000">
                  <a:srgbClr val="d2201c"/>
                </a:gs>
              </a:gsLst>
              <a:lin ang="6294000"/>
            </a:gradFill>
            <a:ln w="0">
              <a:noFill/>
            </a:ln>
            <a:effectLst>
              <a:outerShdw dist="50760" dir="5400000" blurRad="0" rotWithShape="0">
                <a:srgbClr val="26262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6"/>
            <p:cNvSpPr/>
            <p:nvPr/>
          </p:nvSpPr>
          <p:spPr>
            <a:xfrm rot="20704200">
              <a:off x="514440" y="3252240"/>
              <a:ext cx="1467720" cy="557280"/>
            </a:xfrm>
            <a:custGeom>
              <a:avLst/>
              <a:gdLst/>
              <a:ahLst/>
              <a:rect l="l" t="t" r="r" b="b"/>
              <a:pathLst>
                <a:path w="1691" h="665">
                  <a:moveTo>
                    <a:pt x="1691" y="665"/>
                  </a:moveTo>
                  <a:cubicBezTo>
                    <a:pt x="0" y="665"/>
                    <a:pt x="0" y="665"/>
                    <a:pt x="0" y="665"/>
                  </a:cubicBezTo>
                  <a:cubicBezTo>
                    <a:pt x="2" y="659"/>
                    <a:pt x="3" y="653"/>
                    <a:pt x="5" y="647"/>
                  </a:cubicBezTo>
                  <a:cubicBezTo>
                    <a:pt x="12" y="621"/>
                    <a:pt x="20" y="595"/>
                    <a:pt x="29" y="569"/>
                  </a:cubicBezTo>
                  <a:cubicBezTo>
                    <a:pt x="46" y="524"/>
                    <a:pt x="67" y="480"/>
                    <a:pt x="90" y="438"/>
                  </a:cubicBezTo>
                  <a:cubicBezTo>
                    <a:pt x="93" y="433"/>
                    <a:pt x="96" y="428"/>
                    <a:pt x="99" y="423"/>
                  </a:cubicBezTo>
                  <a:cubicBezTo>
                    <a:pt x="107" y="410"/>
                    <a:pt x="115" y="398"/>
                    <a:pt x="123" y="385"/>
                  </a:cubicBezTo>
                  <a:cubicBezTo>
                    <a:pt x="125" y="383"/>
                    <a:pt x="127" y="380"/>
                    <a:pt x="128" y="378"/>
                  </a:cubicBezTo>
                  <a:cubicBezTo>
                    <a:pt x="130" y="375"/>
                    <a:pt x="132" y="373"/>
                    <a:pt x="133" y="370"/>
                  </a:cubicBezTo>
                  <a:cubicBezTo>
                    <a:pt x="135" y="368"/>
                    <a:pt x="137" y="366"/>
                    <a:pt x="139" y="363"/>
                  </a:cubicBezTo>
                  <a:cubicBezTo>
                    <a:pt x="140" y="361"/>
                    <a:pt x="142" y="358"/>
                    <a:pt x="144" y="356"/>
                  </a:cubicBezTo>
                  <a:cubicBezTo>
                    <a:pt x="147" y="351"/>
                    <a:pt x="151" y="346"/>
                    <a:pt x="155" y="342"/>
                  </a:cubicBezTo>
                  <a:cubicBezTo>
                    <a:pt x="156" y="339"/>
                    <a:pt x="158" y="337"/>
                    <a:pt x="160" y="335"/>
                  </a:cubicBezTo>
                  <a:cubicBezTo>
                    <a:pt x="162" y="332"/>
                    <a:pt x="164" y="330"/>
                    <a:pt x="166" y="328"/>
                  </a:cubicBezTo>
                  <a:cubicBezTo>
                    <a:pt x="167" y="325"/>
                    <a:pt x="169" y="323"/>
                    <a:pt x="171" y="321"/>
                  </a:cubicBezTo>
                  <a:cubicBezTo>
                    <a:pt x="186" y="303"/>
                    <a:pt x="201" y="286"/>
                    <a:pt x="216" y="269"/>
                  </a:cubicBezTo>
                  <a:cubicBezTo>
                    <a:pt x="221" y="264"/>
                    <a:pt x="226" y="259"/>
                    <a:pt x="231" y="255"/>
                  </a:cubicBezTo>
                  <a:cubicBezTo>
                    <a:pt x="235" y="250"/>
                    <a:pt x="239" y="246"/>
                    <a:pt x="244" y="242"/>
                  </a:cubicBezTo>
                  <a:cubicBezTo>
                    <a:pt x="246" y="240"/>
                    <a:pt x="248" y="238"/>
                    <a:pt x="250" y="236"/>
                  </a:cubicBezTo>
                  <a:cubicBezTo>
                    <a:pt x="254" y="232"/>
                    <a:pt x="259" y="228"/>
                    <a:pt x="263" y="224"/>
                  </a:cubicBezTo>
                  <a:cubicBezTo>
                    <a:pt x="267" y="220"/>
                    <a:pt x="271" y="217"/>
                    <a:pt x="275" y="213"/>
                  </a:cubicBezTo>
                  <a:cubicBezTo>
                    <a:pt x="280" y="209"/>
                    <a:pt x="285" y="205"/>
                    <a:pt x="290" y="201"/>
                  </a:cubicBezTo>
                  <a:cubicBezTo>
                    <a:pt x="292" y="199"/>
                    <a:pt x="294" y="197"/>
                    <a:pt x="296" y="195"/>
                  </a:cubicBezTo>
                  <a:cubicBezTo>
                    <a:pt x="314" y="181"/>
                    <a:pt x="332" y="167"/>
                    <a:pt x="351" y="154"/>
                  </a:cubicBezTo>
                  <a:cubicBezTo>
                    <a:pt x="354" y="152"/>
                    <a:pt x="356" y="150"/>
                    <a:pt x="359" y="149"/>
                  </a:cubicBezTo>
                  <a:cubicBezTo>
                    <a:pt x="362" y="146"/>
                    <a:pt x="365" y="144"/>
                    <a:pt x="368" y="142"/>
                  </a:cubicBezTo>
                  <a:cubicBezTo>
                    <a:pt x="374" y="139"/>
                    <a:pt x="380" y="135"/>
                    <a:pt x="386" y="131"/>
                  </a:cubicBezTo>
                  <a:cubicBezTo>
                    <a:pt x="389" y="129"/>
                    <a:pt x="391" y="128"/>
                    <a:pt x="394" y="126"/>
                  </a:cubicBezTo>
                  <a:cubicBezTo>
                    <a:pt x="407" y="118"/>
                    <a:pt x="420" y="111"/>
                    <a:pt x="433" y="104"/>
                  </a:cubicBezTo>
                  <a:cubicBezTo>
                    <a:pt x="436" y="102"/>
                    <a:pt x="438" y="101"/>
                    <a:pt x="441" y="100"/>
                  </a:cubicBezTo>
                  <a:cubicBezTo>
                    <a:pt x="444" y="98"/>
                    <a:pt x="447" y="97"/>
                    <a:pt x="450" y="95"/>
                  </a:cubicBezTo>
                  <a:cubicBezTo>
                    <a:pt x="459" y="90"/>
                    <a:pt x="469" y="85"/>
                    <a:pt x="478" y="81"/>
                  </a:cubicBezTo>
                  <a:cubicBezTo>
                    <a:pt x="485" y="78"/>
                    <a:pt x="491" y="75"/>
                    <a:pt x="498" y="72"/>
                  </a:cubicBezTo>
                  <a:cubicBezTo>
                    <a:pt x="514" y="65"/>
                    <a:pt x="531" y="58"/>
                    <a:pt x="549" y="52"/>
                  </a:cubicBezTo>
                  <a:cubicBezTo>
                    <a:pt x="551" y="51"/>
                    <a:pt x="554" y="50"/>
                    <a:pt x="557" y="49"/>
                  </a:cubicBezTo>
                  <a:cubicBezTo>
                    <a:pt x="560" y="48"/>
                    <a:pt x="563" y="47"/>
                    <a:pt x="566" y="46"/>
                  </a:cubicBezTo>
                  <a:cubicBezTo>
                    <a:pt x="580" y="41"/>
                    <a:pt x="595" y="36"/>
                    <a:pt x="609" y="32"/>
                  </a:cubicBezTo>
                  <a:cubicBezTo>
                    <a:pt x="612" y="31"/>
                    <a:pt x="615" y="31"/>
                    <a:pt x="618" y="30"/>
                  </a:cubicBezTo>
                  <a:cubicBezTo>
                    <a:pt x="622" y="29"/>
                    <a:pt x="625" y="28"/>
                    <a:pt x="628" y="27"/>
                  </a:cubicBezTo>
                  <a:cubicBezTo>
                    <a:pt x="646" y="22"/>
                    <a:pt x="664" y="18"/>
                    <a:pt x="683" y="15"/>
                  </a:cubicBezTo>
                  <a:cubicBezTo>
                    <a:pt x="686" y="14"/>
                    <a:pt x="689" y="14"/>
                    <a:pt x="692" y="13"/>
                  </a:cubicBezTo>
                  <a:cubicBezTo>
                    <a:pt x="695" y="13"/>
                    <a:pt x="699" y="12"/>
                    <a:pt x="703" y="11"/>
                  </a:cubicBezTo>
                  <a:cubicBezTo>
                    <a:pt x="703" y="11"/>
                    <a:pt x="704" y="11"/>
                    <a:pt x="705" y="11"/>
                  </a:cubicBezTo>
                  <a:cubicBezTo>
                    <a:pt x="710" y="10"/>
                    <a:pt x="716" y="9"/>
                    <a:pt x="721" y="9"/>
                  </a:cubicBezTo>
                  <a:cubicBezTo>
                    <a:pt x="723" y="8"/>
                    <a:pt x="725" y="8"/>
                    <a:pt x="728" y="8"/>
                  </a:cubicBezTo>
                  <a:cubicBezTo>
                    <a:pt x="730" y="7"/>
                    <a:pt x="733" y="7"/>
                    <a:pt x="735" y="7"/>
                  </a:cubicBezTo>
                  <a:cubicBezTo>
                    <a:pt x="738" y="6"/>
                    <a:pt x="742" y="6"/>
                    <a:pt x="745" y="6"/>
                  </a:cubicBezTo>
                  <a:cubicBezTo>
                    <a:pt x="747" y="5"/>
                    <a:pt x="749" y="5"/>
                    <a:pt x="751" y="5"/>
                  </a:cubicBezTo>
                  <a:cubicBezTo>
                    <a:pt x="754" y="4"/>
                    <a:pt x="757" y="4"/>
                    <a:pt x="760" y="4"/>
                  </a:cubicBezTo>
                  <a:cubicBezTo>
                    <a:pt x="764" y="3"/>
                    <a:pt x="767" y="3"/>
                    <a:pt x="771" y="3"/>
                  </a:cubicBezTo>
                  <a:cubicBezTo>
                    <a:pt x="774" y="3"/>
                    <a:pt x="776" y="2"/>
                    <a:pt x="779" y="2"/>
                  </a:cubicBezTo>
                  <a:cubicBezTo>
                    <a:pt x="786" y="2"/>
                    <a:pt x="792" y="1"/>
                    <a:pt x="799" y="1"/>
                  </a:cubicBezTo>
                  <a:cubicBezTo>
                    <a:pt x="802" y="1"/>
                    <a:pt x="805" y="1"/>
                    <a:pt x="808" y="1"/>
                  </a:cubicBezTo>
                  <a:cubicBezTo>
                    <a:pt x="811" y="0"/>
                    <a:pt x="814" y="0"/>
                    <a:pt x="817" y="0"/>
                  </a:cubicBezTo>
                  <a:cubicBezTo>
                    <a:pt x="819" y="0"/>
                    <a:pt x="822" y="0"/>
                    <a:pt x="825" y="0"/>
                  </a:cubicBezTo>
                  <a:cubicBezTo>
                    <a:pt x="828" y="0"/>
                    <a:pt x="831" y="0"/>
                    <a:pt x="835" y="0"/>
                  </a:cubicBezTo>
                  <a:cubicBezTo>
                    <a:pt x="838" y="0"/>
                    <a:pt x="842" y="0"/>
                    <a:pt x="846" y="0"/>
                  </a:cubicBezTo>
                  <a:cubicBezTo>
                    <a:pt x="850" y="0"/>
                    <a:pt x="853" y="0"/>
                    <a:pt x="857" y="0"/>
                  </a:cubicBezTo>
                  <a:cubicBezTo>
                    <a:pt x="860" y="0"/>
                    <a:pt x="864" y="0"/>
                    <a:pt x="867" y="0"/>
                  </a:cubicBezTo>
                  <a:cubicBezTo>
                    <a:pt x="870" y="0"/>
                    <a:pt x="872" y="0"/>
                    <a:pt x="875" y="0"/>
                  </a:cubicBezTo>
                  <a:cubicBezTo>
                    <a:pt x="878" y="0"/>
                    <a:pt x="881" y="0"/>
                    <a:pt x="884" y="1"/>
                  </a:cubicBezTo>
                  <a:cubicBezTo>
                    <a:pt x="887" y="1"/>
                    <a:pt x="890" y="1"/>
                    <a:pt x="893" y="1"/>
                  </a:cubicBezTo>
                  <a:cubicBezTo>
                    <a:pt x="899" y="1"/>
                    <a:pt x="906" y="2"/>
                    <a:pt x="912" y="2"/>
                  </a:cubicBezTo>
                  <a:cubicBezTo>
                    <a:pt x="915" y="2"/>
                    <a:pt x="918" y="3"/>
                    <a:pt x="921" y="3"/>
                  </a:cubicBezTo>
                  <a:cubicBezTo>
                    <a:pt x="924" y="3"/>
                    <a:pt x="928" y="3"/>
                    <a:pt x="931" y="4"/>
                  </a:cubicBezTo>
                  <a:cubicBezTo>
                    <a:pt x="934" y="4"/>
                    <a:pt x="937" y="4"/>
                    <a:pt x="941" y="5"/>
                  </a:cubicBezTo>
                  <a:cubicBezTo>
                    <a:pt x="943" y="5"/>
                    <a:pt x="945" y="5"/>
                    <a:pt x="947" y="6"/>
                  </a:cubicBezTo>
                  <a:cubicBezTo>
                    <a:pt x="950" y="6"/>
                    <a:pt x="953" y="6"/>
                    <a:pt x="957" y="7"/>
                  </a:cubicBezTo>
                  <a:cubicBezTo>
                    <a:pt x="959" y="7"/>
                    <a:pt x="961" y="7"/>
                    <a:pt x="964" y="8"/>
                  </a:cubicBezTo>
                  <a:cubicBezTo>
                    <a:pt x="966" y="8"/>
                    <a:pt x="968" y="8"/>
                    <a:pt x="971" y="9"/>
                  </a:cubicBezTo>
                  <a:cubicBezTo>
                    <a:pt x="976" y="9"/>
                    <a:pt x="981" y="10"/>
                    <a:pt x="987" y="11"/>
                  </a:cubicBezTo>
                  <a:cubicBezTo>
                    <a:pt x="988" y="11"/>
                    <a:pt x="988" y="11"/>
                    <a:pt x="989" y="11"/>
                  </a:cubicBezTo>
                  <a:cubicBezTo>
                    <a:pt x="993" y="12"/>
                    <a:pt x="996" y="13"/>
                    <a:pt x="1000" y="13"/>
                  </a:cubicBezTo>
                  <a:cubicBezTo>
                    <a:pt x="1003" y="14"/>
                    <a:pt x="1006" y="14"/>
                    <a:pt x="1009" y="15"/>
                  </a:cubicBezTo>
                  <a:cubicBezTo>
                    <a:pt x="1027" y="18"/>
                    <a:pt x="1045" y="22"/>
                    <a:pt x="1063" y="27"/>
                  </a:cubicBezTo>
                  <a:cubicBezTo>
                    <a:pt x="1067" y="28"/>
                    <a:pt x="1070" y="29"/>
                    <a:pt x="1074" y="30"/>
                  </a:cubicBezTo>
                  <a:cubicBezTo>
                    <a:pt x="1077" y="31"/>
                    <a:pt x="1080" y="31"/>
                    <a:pt x="1083" y="32"/>
                  </a:cubicBezTo>
                  <a:cubicBezTo>
                    <a:pt x="1097" y="36"/>
                    <a:pt x="1111" y="41"/>
                    <a:pt x="1125" y="46"/>
                  </a:cubicBezTo>
                  <a:cubicBezTo>
                    <a:pt x="1129" y="47"/>
                    <a:pt x="1132" y="48"/>
                    <a:pt x="1135" y="49"/>
                  </a:cubicBezTo>
                  <a:cubicBezTo>
                    <a:pt x="1138" y="50"/>
                    <a:pt x="1140" y="51"/>
                    <a:pt x="1143" y="52"/>
                  </a:cubicBezTo>
                  <a:cubicBezTo>
                    <a:pt x="1160" y="58"/>
                    <a:pt x="1177" y="65"/>
                    <a:pt x="1194" y="72"/>
                  </a:cubicBezTo>
                  <a:cubicBezTo>
                    <a:pt x="1200" y="75"/>
                    <a:pt x="1207" y="78"/>
                    <a:pt x="1213" y="81"/>
                  </a:cubicBezTo>
                  <a:cubicBezTo>
                    <a:pt x="1223" y="85"/>
                    <a:pt x="1232" y="90"/>
                    <a:pt x="1242" y="95"/>
                  </a:cubicBezTo>
                  <a:cubicBezTo>
                    <a:pt x="1245" y="97"/>
                    <a:pt x="1248" y="98"/>
                    <a:pt x="1251" y="100"/>
                  </a:cubicBezTo>
                  <a:cubicBezTo>
                    <a:pt x="1254" y="101"/>
                    <a:pt x="1256" y="102"/>
                    <a:pt x="1258" y="104"/>
                  </a:cubicBezTo>
                  <a:cubicBezTo>
                    <a:pt x="1272" y="111"/>
                    <a:pt x="1285" y="118"/>
                    <a:pt x="1297" y="126"/>
                  </a:cubicBezTo>
                  <a:cubicBezTo>
                    <a:pt x="1300" y="128"/>
                    <a:pt x="1303" y="129"/>
                    <a:pt x="1306" y="131"/>
                  </a:cubicBezTo>
                  <a:cubicBezTo>
                    <a:pt x="1312" y="135"/>
                    <a:pt x="1318" y="139"/>
                    <a:pt x="1323" y="142"/>
                  </a:cubicBezTo>
                  <a:cubicBezTo>
                    <a:pt x="1326" y="144"/>
                    <a:pt x="1329" y="146"/>
                    <a:pt x="1332" y="149"/>
                  </a:cubicBezTo>
                  <a:cubicBezTo>
                    <a:pt x="1335" y="150"/>
                    <a:pt x="1338" y="152"/>
                    <a:pt x="1341" y="154"/>
                  </a:cubicBezTo>
                  <a:cubicBezTo>
                    <a:pt x="1359" y="167"/>
                    <a:pt x="1378" y="181"/>
                    <a:pt x="1395" y="195"/>
                  </a:cubicBezTo>
                  <a:cubicBezTo>
                    <a:pt x="1397" y="197"/>
                    <a:pt x="1400" y="199"/>
                    <a:pt x="1402" y="201"/>
                  </a:cubicBezTo>
                  <a:cubicBezTo>
                    <a:pt x="1407" y="205"/>
                    <a:pt x="1412" y="209"/>
                    <a:pt x="1417" y="213"/>
                  </a:cubicBezTo>
                  <a:cubicBezTo>
                    <a:pt x="1420" y="217"/>
                    <a:pt x="1424" y="220"/>
                    <a:pt x="1428" y="224"/>
                  </a:cubicBezTo>
                  <a:cubicBezTo>
                    <a:pt x="1433" y="228"/>
                    <a:pt x="1437" y="232"/>
                    <a:pt x="1442" y="236"/>
                  </a:cubicBezTo>
                  <a:cubicBezTo>
                    <a:pt x="1444" y="238"/>
                    <a:pt x="1446" y="240"/>
                    <a:pt x="1448" y="242"/>
                  </a:cubicBezTo>
                  <a:cubicBezTo>
                    <a:pt x="1452" y="246"/>
                    <a:pt x="1457" y="250"/>
                    <a:pt x="1461" y="255"/>
                  </a:cubicBezTo>
                  <a:cubicBezTo>
                    <a:pt x="1466" y="259"/>
                    <a:pt x="1471" y="264"/>
                    <a:pt x="1475" y="269"/>
                  </a:cubicBezTo>
                  <a:cubicBezTo>
                    <a:pt x="1491" y="286"/>
                    <a:pt x="1506" y="303"/>
                    <a:pt x="1520" y="321"/>
                  </a:cubicBezTo>
                  <a:cubicBezTo>
                    <a:pt x="1522" y="323"/>
                    <a:pt x="1524" y="325"/>
                    <a:pt x="1526" y="328"/>
                  </a:cubicBezTo>
                  <a:cubicBezTo>
                    <a:pt x="1528" y="330"/>
                    <a:pt x="1530" y="332"/>
                    <a:pt x="1532" y="335"/>
                  </a:cubicBezTo>
                  <a:cubicBezTo>
                    <a:pt x="1533" y="337"/>
                    <a:pt x="1535" y="339"/>
                    <a:pt x="1537" y="342"/>
                  </a:cubicBezTo>
                  <a:cubicBezTo>
                    <a:pt x="1541" y="346"/>
                    <a:pt x="1544" y="351"/>
                    <a:pt x="1548" y="356"/>
                  </a:cubicBezTo>
                  <a:cubicBezTo>
                    <a:pt x="1549" y="358"/>
                    <a:pt x="1551" y="361"/>
                    <a:pt x="1553" y="363"/>
                  </a:cubicBezTo>
                  <a:cubicBezTo>
                    <a:pt x="1555" y="366"/>
                    <a:pt x="1556" y="368"/>
                    <a:pt x="1558" y="370"/>
                  </a:cubicBezTo>
                  <a:cubicBezTo>
                    <a:pt x="1560" y="373"/>
                    <a:pt x="1562" y="375"/>
                    <a:pt x="1563" y="378"/>
                  </a:cubicBezTo>
                  <a:cubicBezTo>
                    <a:pt x="1565" y="380"/>
                    <a:pt x="1567" y="383"/>
                    <a:pt x="1568" y="385"/>
                  </a:cubicBezTo>
                  <a:cubicBezTo>
                    <a:pt x="1577" y="398"/>
                    <a:pt x="1585" y="410"/>
                    <a:pt x="1592" y="423"/>
                  </a:cubicBezTo>
                  <a:cubicBezTo>
                    <a:pt x="1595" y="428"/>
                    <a:pt x="1598" y="433"/>
                    <a:pt x="1601" y="438"/>
                  </a:cubicBezTo>
                  <a:cubicBezTo>
                    <a:pt x="1625" y="480"/>
                    <a:pt x="1645" y="524"/>
                    <a:pt x="1662" y="569"/>
                  </a:cubicBezTo>
                  <a:cubicBezTo>
                    <a:pt x="1672" y="595"/>
                    <a:pt x="1680" y="621"/>
                    <a:pt x="1687" y="647"/>
                  </a:cubicBezTo>
                  <a:cubicBezTo>
                    <a:pt x="1688" y="653"/>
                    <a:pt x="1690" y="659"/>
                    <a:pt x="1691" y="665"/>
                  </a:cubicBezTo>
                  <a:close/>
                </a:path>
              </a:pathLst>
            </a:custGeom>
            <a:gradFill rotWithShape="0">
              <a:gsLst>
                <a:gs pos="0">
                  <a:srgbClr val="a20000"/>
                </a:gs>
                <a:gs pos="100000">
                  <a:srgbClr val="d2201c"/>
                </a:gs>
              </a:gsLst>
              <a:lin ang="6294000"/>
            </a:gradFill>
            <a:ln w="0">
              <a:noFill/>
            </a:ln>
            <a:effectLst>
              <a:outerShdw dist="50760" dir="5400000" blurRad="0" rotWithShape="0">
                <a:srgbClr val="26262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feld 28"/>
          <p:cNvSpPr/>
          <p:nvPr/>
        </p:nvSpPr>
        <p:spPr>
          <a:xfrm rot="20700000">
            <a:off x="590040" y="376704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5375160"/>
            <a:ext cx="612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外国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uow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\\Diskstation\PresentationLoad\PRESENTATIONLOAD\4_PRODUKTION\0_BILDERBIBLIOTHEK\_Texturen -Hintergründe\Abstract1_grey.jpg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29520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ticky notes - 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9520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Grafik 7" descr="Post-it.png"/>
          <p:cNvPicPr/>
          <p:nvPr/>
        </p:nvPicPr>
        <p:blipFill>
          <a:blip r:embed="rId2"/>
          <a:stretch/>
        </p:blipFill>
        <p:spPr>
          <a:xfrm>
            <a:off x="3608280" y="1109520"/>
            <a:ext cx="2616480" cy="2664000"/>
          </a:xfrm>
          <a:prstGeom prst="rect">
            <a:avLst/>
          </a:prstGeom>
          <a:ln w="0">
            <a:noFill/>
          </a:ln>
        </p:spPr>
      </p:pic>
      <p:pic>
        <p:nvPicPr>
          <p:cNvPr id="122" name="Grafik 8" descr="Post-it.png"/>
          <p:cNvPicPr/>
          <p:nvPr/>
        </p:nvPicPr>
        <p:blipFill>
          <a:blip r:embed="rId3"/>
          <a:stretch/>
        </p:blipFill>
        <p:spPr>
          <a:xfrm>
            <a:off x="6083280" y="792000"/>
            <a:ext cx="2822760" cy="3408480"/>
          </a:xfrm>
          <a:prstGeom prst="rect">
            <a:avLst/>
          </a:prstGeom>
          <a:ln w="0">
            <a:noFill/>
          </a:ln>
        </p:spPr>
      </p:pic>
      <p:pic>
        <p:nvPicPr>
          <p:cNvPr id="123" name="Grafik 9" descr="Pagepeel.png"/>
          <p:cNvPicPr/>
          <p:nvPr/>
        </p:nvPicPr>
        <p:blipFill>
          <a:blip r:embed="rId4"/>
          <a:stretch/>
        </p:blipFill>
        <p:spPr>
          <a:xfrm rot="21253800">
            <a:off x="4196880" y="3661920"/>
            <a:ext cx="2243160" cy="2144880"/>
          </a:xfrm>
          <a:prstGeom prst="rect">
            <a:avLst/>
          </a:prstGeom>
          <a:ln w="0">
            <a:noFill/>
          </a:ln>
        </p:spPr>
      </p:pic>
      <p:pic>
        <p:nvPicPr>
          <p:cNvPr id="124" name="Grafik 11" descr="Post-it.png"/>
          <p:cNvPicPr/>
          <p:nvPr/>
        </p:nvPicPr>
        <p:blipFill>
          <a:blip r:embed="rId5"/>
          <a:stretch/>
        </p:blipFill>
        <p:spPr>
          <a:xfrm>
            <a:off x="66600" y="1189080"/>
            <a:ext cx="3676680" cy="2760480"/>
          </a:xfrm>
          <a:prstGeom prst="rect">
            <a:avLst/>
          </a:prstGeom>
          <a:ln w="0">
            <a:noFill/>
          </a:ln>
        </p:spPr>
      </p:pic>
      <p:pic>
        <p:nvPicPr>
          <p:cNvPr id="125" name="Grafik 19" descr="Pagepeel_hochkant.png"/>
          <p:cNvPicPr/>
          <p:nvPr/>
        </p:nvPicPr>
        <p:blipFill>
          <a:blip r:embed="rId6"/>
          <a:stretch/>
        </p:blipFill>
        <p:spPr>
          <a:xfrm>
            <a:off x="1366920" y="3562200"/>
            <a:ext cx="2181240" cy="2857680"/>
          </a:xfrm>
          <a:prstGeom prst="rect">
            <a:avLst/>
          </a:prstGeom>
          <a:ln w="0">
            <a:noFill/>
          </a:ln>
        </p:spPr>
      </p:pic>
      <p:sp>
        <p:nvSpPr>
          <p:cNvPr id="126" name="Textfeld 20"/>
          <p:cNvSpPr/>
          <p:nvPr/>
        </p:nvSpPr>
        <p:spPr>
          <a:xfrm rot="21268200">
            <a:off x="590040" y="2009880"/>
            <a:ext cx="24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Placeholder for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feld 21"/>
          <p:cNvSpPr/>
          <p:nvPr/>
        </p:nvSpPr>
        <p:spPr>
          <a:xfrm rot="21268200">
            <a:off x="6696720" y="1406160"/>
            <a:ext cx="151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This is a placeholder text. This text can be replaced with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feld 22"/>
          <p:cNvSpPr/>
          <p:nvPr/>
        </p:nvSpPr>
        <p:spPr>
          <a:xfrm rot="21268200">
            <a:off x="4172760" y="2255400"/>
            <a:ext cx="151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This is a placeholder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feld 23"/>
          <p:cNvSpPr/>
          <p:nvPr/>
        </p:nvSpPr>
        <p:spPr>
          <a:xfrm rot="21268200">
            <a:off x="4553640" y="3922560"/>
            <a:ext cx="1517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All phrases can be replaced with your own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feld 24"/>
          <p:cNvSpPr/>
          <p:nvPr/>
        </p:nvSpPr>
        <p:spPr>
          <a:xfrm rot="21268200">
            <a:off x="1708920" y="4361040"/>
            <a:ext cx="14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Placeholder for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Grafik 8" descr="Abstract3.jpg"/>
          <p:cNvPicPr/>
          <p:nvPr/>
        </p:nvPicPr>
        <p:blipFill>
          <a:blip r:embed="rId1">
            <a:grayscl/>
            <a:lum bright="20000"/>
          </a:blip>
          <a:stretch/>
        </p:blipFill>
        <p:spPr>
          <a:xfrm>
            <a:off x="0" y="0"/>
            <a:ext cx="9144000" cy="6000840"/>
          </a:xfrm>
          <a:prstGeom prst="rect">
            <a:avLst/>
          </a:prstGeom>
          <a:ln w="0">
            <a:noFill/>
          </a:ln>
        </p:spPr>
      </p:pic>
      <p:pic>
        <p:nvPicPr>
          <p:cNvPr id="132" name="Grafik 10" descr="Head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33" name="Rechteck 12"/>
          <p:cNvSpPr/>
          <p:nvPr/>
        </p:nvSpPr>
        <p:spPr>
          <a:xfrm>
            <a:off x="1095480" y="1590840"/>
            <a:ext cx="2962080" cy="3514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09960" y="990720"/>
            <a:ext cx="699840" cy="976320"/>
            <a:chOff x="2109960" y="990720"/>
            <a:chExt cx="699840" cy="976320"/>
          </a:xfrm>
        </p:grpSpPr>
        <p:pic>
          <p:nvPicPr>
            <p:cNvPr id="135" name="Picture 3" descr="\\Diskstation\PresentationLoad\PRESENTATIONLOAD\4_PRODUKTION\3_CHARTS &amp; DIAGRAMME\Sortieren\paper scraps\pin\pin_rot.png"/>
            <p:cNvPicPr/>
            <p:nvPr/>
          </p:nvPicPr>
          <p:blipFill>
            <a:blip r:embed="rId3"/>
            <a:srcRect l="22310" t="0" r="46844" b="37976"/>
            <a:stretch/>
          </p:blipFill>
          <p:spPr>
            <a:xfrm flipH="1">
              <a:off x="2191320" y="990720"/>
              <a:ext cx="618480" cy="93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" name=""/>
            <p:cNvGrpSpPr/>
            <p:nvPr/>
          </p:nvGrpSpPr>
          <p:grpSpPr>
            <a:xfrm>
              <a:off x="2109960" y="1644840"/>
              <a:ext cx="493200" cy="322200"/>
              <a:chOff x="2109960" y="1644840"/>
              <a:chExt cx="493200" cy="322200"/>
            </a:xfrm>
          </p:grpSpPr>
          <p:pic>
            <p:nvPicPr>
              <p:cNvPr id="137" name="Ellips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2109960" y="1644840"/>
                <a:ext cx="49320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2182680" y="1693080"/>
                <a:ext cx="349920" cy="22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9" name="Picture 4" descr="\\Diskstation\PresentationLoad\PRESENTATIONLOAD\4_PRODUKTION\3_CHARTS &amp; DIAGRAMME\Sortieren\paper scraps\scraps\scraps-13.emf"/>
          <p:cNvPicPr/>
          <p:nvPr/>
        </p:nvPicPr>
        <p:blipFill>
          <a:blip r:embed="rId5"/>
          <a:stretch/>
        </p:blipFill>
        <p:spPr>
          <a:xfrm>
            <a:off x="5587920" y="1743120"/>
            <a:ext cx="2351160" cy="2813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7f7f7f"/>
            </a:outerShdw>
          </a:effectLst>
        </p:spPr>
      </p:pic>
      <p:grpSp>
        <p:nvGrpSpPr>
          <p:cNvPr id="140" name=""/>
          <p:cNvGrpSpPr/>
          <p:nvPr/>
        </p:nvGrpSpPr>
        <p:grpSpPr>
          <a:xfrm>
            <a:off x="6681960" y="1440000"/>
            <a:ext cx="671400" cy="947520"/>
            <a:chOff x="6681960" y="1440000"/>
            <a:chExt cx="671400" cy="947520"/>
          </a:xfrm>
        </p:grpSpPr>
        <p:pic>
          <p:nvPicPr>
            <p:cNvPr id="141" name="Picture 3" descr="\\Diskstation\PresentationLoad\PRESENTATIONLOAD\4_PRODUKTION\3_CHARTS &amp; DIAGRAMME\Sortieren\paper scraps\pin\pin_rot.png"/>
            <p:cNvPicPr/>
            <p:nvPr/>
          </p:nvPicPr>
          <p:blipFill>
            <a:blip r:embed="rId6"/>
            <a:srcRect l="22310" t="0" r="46844" b="37976"/>
            <a:stretch/>
          </p:blipFill>
          <p:spPr>
            <a:xfrm flipH="1">
              <a:off x="6734160" y="1440000"/>
              <a:ext cx="619200" cy="93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"/>
            <p:cNvGrpSpPr/>
            <p:nvPr/>
          </p:nvGrpSpPr>
          <p:grpSpPr>
            <a:xfrm>
              <a:off x="6681960" y="2065320"/>
              <a:ext cx="493200" cy="322200"/>
              <a:chOff x="6681960" y="2065320"/>
              <a:chExt cx="493200" cy="322200"/>
            </a:xfrm>
          </p:grpSpPr>
          <p:pic>
            <p:nvPicPr>
              <p:cNvPr id="143" name="Ellipse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6681960" y="2065320"/>
                <a:ext cx="49320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6755040" y="2113560"/>
                <a:ext cx="35028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Rectangle 7"/>
          <p:cNvSpPr/>
          <p:nvPr/>
        </p:nvSpPr>
        <p:spPr>
          <a:xfrm>
            <a:off x="29520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  <a:ea typeface="宋体"/>
              </a:rPr>
              <a:t>Notes - 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95200" y="541980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</a:rPr>
              <a:t>Placeholder for your own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Grafik 22" descr="schatten.png"/>
          <p:cNvPicPr/>
          <p:nvPr/>
        </p:nvPicPr>
        <p:blipFill>
          <a:blip r:embed="rId8"/>
          <a:stretch/>
        </p:blipFill>
        <p:spPr>
          <a:xfrm>
            <a:off x="0" y="878040"/>
            <a:ext cx="9144000" cy="1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de-DE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de-DE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de-DE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de-DE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de-DE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de-DE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de-DE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de-DE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de-DE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9F04-F3D3-4EA6-8CEF-87B95B81DA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2:04:59Z</dcterms:created>
  <dc:creator>Sven Gruss</dc:creator>
  <dc:description/>
  <dc:language>en-US</dc:language>
  <cp:lastModifiedBy>微软中国</cp:lastModifiedBy>
  <dcterms:modified xsi:type="dcterms:W3CDTF">2015-07-04T08:32:57Z</dcterms:modified>
  <cp:revision>102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