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9C19-6B63-4512-9CB4-4CC29DE4C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4955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ndalu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371600" y="401220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3240-1108-492F-AFEC-95B16B89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4955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ndalu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0122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51560" y="40122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D990-E268-491C-A499-670C81C7D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4955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ndalu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35560" y="373356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699880" y="373356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371600" y="401220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535560" y="401220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699880" y="401220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0769-2EC5-40B3-9CB6-E30FA314F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3728-81CC-4214-ACB8-2888E44AB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4955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ndalu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3047-31E9-487D-9558-AF0350AD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4955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ndalu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90B86-825C-4A17-ACE6-93BDB149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4955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ndalu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80F7-722B-424C-93D1-041FC5C7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4955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ndal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DB79-BA33-4765-8BAA-03B089A6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249552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21EF-A5FD-42E9-91DA-5FBE2BFE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4955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ndalu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0122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E3B2-E550-4C64-BF61-15D7D0A8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4955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ndalu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B95E-13D4-427D-90A4-8540A7ED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4955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ndalu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0122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75EF-C338-4FBA-8BA0-E6779877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4955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ndalu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01220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3AEF-8ED4-44F3-9B93-2E86CDA4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4955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ndalu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01220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AC0B-77D4-4052-9777-9C34C0C1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4955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ndalu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0122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0122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E884-15C3-4115-A0CE-B68F706A1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4955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ndalu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73356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73356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01220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01220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01220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9C83-86CF-459F-BD08-D72ABC1CB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4955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ndalu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EED7-BD06-4874-8B30-91C02C53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4955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ndalu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0072-E7A2-4B64-928A-1F526444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4955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ndal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3E1B-2CE4-490C-9B8E-E7A991D7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85800" y="249552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1364-33E3-413C-A7E8-4491F5DF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4955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ndalu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0122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F6BB-FBA4-4591-9B27-8BD8496A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4955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ndalu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51560" y="40122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A903-E36F-4AB8-B492-D113B439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4955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ndalu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401220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8324-8F20-4A06-9DB1-8A0369B5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20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未知"/>
          <p:cNvSpPr/>
          <p:nvPr/>
        </p:nvSpPr>
        <p:spPr>
          <a:xfrm>
            <a:off x="-7920" y="281160"/>
            <a:ext cx="9151920" cy="1620720"/>
          </a:xfrm>
          <a:custGeom>
            <a:avLst/>
            <a:gdLst/>
            <a:ahLst/>
            <a:rect l="l" t="t" r="r" b="b"/>
            <a:pathLst>
              <a:path w="5767" h="1021">
                <a:moveTo>
                  <a:pt x="6" y="109"/>
                </a:moveTo>
                <a:cubicBezTo>
                  <a:pt x="144" y="93"/>
                  <a:pt x="626" y="42"/>
                  <a:pt x="1427" y="46"/>
                </a:cubicBezTo>
                <a:cubicBezTo>
                  <a:pt x="2228" y="50"/>
                  <a:pt x="3321" y="224"/>
                  <a:pt x="4032" y="255"/>
                </a:cubicBezTo>
                <a:cubicBezTo>
                  <a:pt x="4742" y="286"/>
                  <a:pt x="5649" y="91"/>
                  <a:pt x="5767" y="0"/>
                </a:cubicBezTo>
                <a:lnTo>
                  <a:pt x="5767" y="776"/>
                </a:lnTo>
                <a:cubicBezTo>
                  <a:pt x="4948" y="879"/>
                  <a:pt x="4543" y="844"/>
                  <a:pt x="4065" y="831"/>
                </a:cubicBezTo>
                <a:cubicBezTo>
                  <a:pt x="3587" y="818"/>
                  <a:pt x="2973" y="694"/>
                  <a:pt x="1984" y="674"/>
                </a:cubicBezTo>
                <a:cubicBezTo>
                  <a:pt x="995" y="654"/>
                  <a:pt x="28" y="969"/>
                  <a:pt x="14" y="995"/>
                </a:cubicBezTo>
                <a:cubicBezTo>
                  <a:pt x="0" y="1021"/>
                  <a:pt x="6" y="255"/>
                  <a:pt x="6" y="109"/>
                </a:cubicBezTo>
                <a:close/>
              </a:path>
            </a:pathLst>
          </a:custGeom>
          <a:solidFill>
            <a:srgbClr val="65aae9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未知"/>
          <p:cNvSpPr/>
          <p:nvPr/>
        </p:nvSpPr>
        <p:spPr>
          <a:xfrm>
            <a:off x="-17640" y="533520"/>
            <a:ext cx="9158400" cy="1006200"/>
          </a:xfrm>
          <a:custGeom>
            <a:avLst/>
            <a:gdLst/>
            <a:ahLst/>
            <a:rect l="l" t="t" r="r" b="b"/>
            <a:pathLst>
              <a:path w="5771" h="634">
                <a:moveTo>
                  <a:pt x="20" y="109"/>
                </a:moveTo>
                <a:cubicBezTo>
                  <a:pt x="26" y="109"/>
                  <a:pt x="645" y="0"/>
                  <a:pt x="1442" y="3"/>
                </a:cubicBezTo>
                <a:cubicBezTo>
                  <a:pt x="2239" y="6"/>
                  <a:pt x="3443" y="123"/>
                  <a:pt x="4150" y="148"/>
                </a:cubicBezTo>
                <a:cubicBezTo>
                  <a:pt x="4858" y="173"/>
                  <a:pt x="5633" y="63"/>
                  <a:pt x="5771" y="37"/>
                </a:cubicBezTo>
                <a:lnTo>
                  <a:pt x="5771" y="557"/>
                </a:lnTo>
                <a:cubicBezTo>
                  <a:pt x="4926" y="634"/>
                  <a:pt x="4422" y="612"/>
                  <a:pt x="3942" y="592"/>
                </a:cubicBezTo>
                <a:cubicBezTo>
                  <a:pt x="3463" y="572"/>
                  <a:pt x="2588" y="450"/>
                  <a:pt x="1839" y="456"/>
                </a:cubicBezTo>
                <a:cubicBezTo>
                  <a:pt x="1182" y="455"/>
                  <a:pt x="0" y="618"/>
                  <a:pt x="6" y="620"/>
                </a:cubicBezTo>
                <a:cubicBezTo>
                  <a:pt x="12" y="621"/>
                  <a:pt x="14" y="109"/>
                  <a:pt x="20" y="109"/>
                </a:cubicBezTo>
                <a:close/>
              </a:path>
            </a:pathLst>
          </a:custGeom>
          <a:solidFill>
            <a:srgbClr val="65aa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740720" y="347760"/>
            <a:ext cx="387360" cy="366480"/>
            <a:chOff x="7740720" y="347760"/>
            <a:chExt cx="387360" cy="366480"/>
          </a:xfrm>
        </p:grpSpPr>
        <p:sp>
          <p:nvSpPr>
            <p:cNvPr id="5" name=""/>
            <p:cNvSpPr/>
            <p:nvPr/>
          </p:nvSpPr>
          <p:spPr>
            <a:xfrm>
              <a:off x="7740720" y="347760"/>
              <a:ext cx="387360" cy="366480"/>
            </a:xfrm>
            <a:prstGeom prst="ellipse">
              <a:avLst/>
            </a:prstGeom>
            <a:gradFill rotWithShape="0">
              <a:gsLst>
                <a:gs pos="0">
                  <a:srgbClr val="c6cce8"/>
                </a:gs>
                <a:gs pos="100000">
                  <a:srgbClr val="233da9">
                    <a:alpha val="31372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0720" y="347760"/>
              <a:ext cx="258120" cy="24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" name=""/>
          <p:cNvGrpSpPr/>
          <p:nvPr/>
        </p:nvGrpSpPr>
        <p:grpSpPr>
          <a:xfrm>
            <a:off x="8153280" y="54000"/>
            <a:ext cx="609840" cy="592200"/>
            <a:chOff x="8153280" y="54000"/>
            <a:chExt cx="609840" cy="592200"/>
          </a:xfrm>
        </p:grpSpPr>
        <p:sp>
          <p:nvSpPr>
            <p:cNvPr id="8" name=""/>
            <p:cNvSpPr/>
            <p:nvPr/>
          </p:nvSpPr>
          <p:spPr>
            <a:xfrm>
              <a:off x="8153280" y="54000"/>
              <a:ext cx="609840" cy="592200"/>
            </a:xfrm>
            <a:prstGeom prst="ellipse">
              <a:avLst/>
            </a:prstGeom>
            <a:solidFill>
              <a:srgbClr val="65aae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153280" y="152640"/>
              <a:ext cx="508320" cy="39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171360" y="819000"/>
            <a:ext cx="720720" cy="762120"/>
            <a:chOff x="171360" y="819000"/>
            <a:chExt cx="720720" cy="762120"/>
          </a:xfrm>
        </p:grpSpPr>
        <p:sp>
          <p:nvSpPr>
            <p:cNvPr id="11" name=""/>
            <p:cNvSpPr/>
            <p:nvPr/>
          </p:nvSpPr>
          <p:spPr>
            <a:xfrm>
              <a:off x="171360" y="819000"/>
              <a:ext cx="720720" cy="762120"/>
            </a:xfrm>
            <a:prstGeom prst="ellipse">
              <a:avLst/>
            </a:prstGeom>
            <a:solidFill>
              <a:srgbClr val="233da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71360" y="945720"/>
              <a:ext cx="600480" cy="50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6EF7-2784-4F3B-90B2-2B00445C3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da0d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7da0d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未知"/>
          <p:cNvSpPr/>
          <p:nvPr/>
        </p:nvSpPr>
        <p:spPr>
          <a:xfrm>
            <a:off x="-6480" y="1447920"/>
            <a:ext cx="9161640" cy="3832200"/>
          </a:xfrm>
          <a:custGeom>
            <a:avLst/>
            <a:gdLst/>
            <a:ahLst/>
            <a:rect l="l" t="t" r="r" b="b"/>
            <a:pathLst>
              <a:path w="5773" h="2414">
                <a:moveTo>
                  <a:pt x="12" y="124"/>
                </a:moveTo>
                <a:cubicBezTo>
                  <a:pt x="150" y="76"/>
                  <a:pt x="581" y="0"/>
                  <a:pt x="1381" y="12"/>
                </a:cubicBezTo>
                <a:cubicBezTo>
                  <a:pt x="2181" y="23"/>
                  <a:pt x="3370" y="437"/>
                  <a:pt x="4064" y="581"/>
                </a:cubicBezTo>
                <a:cubicBezTo>
                  <a:pt x="4758" y="725"/>
                  <a:pt x="5635" y="219"/>
                  <a:pt x="5773" y="118"/>
                </a:cubicBezTo>
                <a:lnTo>
                  <a:pt x="5766" y="2151"/>
                </a:lnTo>
                <a:cubicBezTo>
                  <a:pt x="4994" y="2407"/>
                  <a:pt x="4326" y="2311"/>
                  <a:pt x="3966" y="2263"/>
                </a:cubicBezTo>
                <a:cubicBezTo>
                  <a:pt x="3606" y="2215"/>
                  <a:pt x="2715" y="1873"/>
                  <a:pt x="1963" y="1897"/>
                </a:cubicBezTo>
                <a:cubicBezTo>
                  <a:pt x="1305" y="1893"/>
                  <a:pt x="0" y="2402"/>
                  <a:pt x="6" y="2407"/>
                </a:cubicBezTo>
                <a:cubicBezTo>
                  <a:pt x="12" y="2414"/>
                  <a:pt x="12" y="568"/>
                  <a:pt x="12" y="124"/>
                </a:cubicBezTo>
                <a:close/>
              </a:path>
            </a:pathLst>
          </a:custGeom>
          <a:solidFill>
            <a:srgbClr val="65aae9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未知"/>
          <p:cNvSpPr/>
          <p:nvPr/>
        </p:nvSpPr>
        <p:spPr>
          <a:xfrm>
            <a:off x="-6480" y="1730520"/>
            <a:ext cx="9147240" cy="3265200"/>
          </a:xfrm>
          <a:custGeom>
            <a:avLst/>
            <a:gdLst/>
            <a:ahLst/>
            <a:rect l="l" t="t" r="r" b="b"/>
            <a:pathLst>
              <a:path w="5764" h="2057">
                <a:moveTo>
                  <a:pt x="6" y="272"/>
                </a:moveTo>
                <a:cubicBezTo>
                  <a:pt x="144" y="233"/>
                  <a:pt x="656" y="0"/>
                  <a:pt x="1453" y="10"/>
                </a:cubicBezTo>
                <a:cubicBezTo>
                  <a:pt x="2250" y="20"/>
                  <a:pt x="3475" y="403"/>
                  <a:pt x="4182" y="482"/>
                </a:cubicBezTo>
                <a:cubicBezTo>
                  <a:pt x="4890" y="561"/>
                  <a:pt x="5626" y="237"/>
                  <a:pt x="5764" y="154"/>
                </a:cubicBezTo>
                <a:lnTo>
                  <a:pt x="5764" y="1806"/>
                </a:lnTo>
                <a:cubicBezTo>
                  <a:pt x="4919" y="2052"/>
                  <a:pt x="4485" y="2057"/>
                  <a:pt x="4005" y="1994"/>
                </a:cubicBezTo>
                <a:cubicBezTo>
                  <a:pt x="3526" y="1929"/>
                  <a:pt x="2640" y="1502"/>
                  <a:pt x="1891" y="1522"/>
                </a:cubicBezTo>
                <a:cubicBezTo>
                  <a:pt x="1234" y="1519"/>
                  <a:pt x="0" y="1962"/>
                  <a:pt x="6" y="1967"/>
                </a:cubicBezTo>
                <a:cubicBezTo>
                  <a:pt x="12" y="1972"/>
                  <a:pt x="6" y="641"/>
                  <a:pt x="6" y="272"/>
                </a:cubicBezTo>
                <a:close/>
              </a:path>
            </a:pathLst>
          </a:custGeom>
          <a:solidFill>
            <a:srgbClr val="65aa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7086600" y="1947960"/>
            <a:ext cx="533160" cy="532800"/>
            <a:chOff x="7086600" y="1947960"/>
            <a:chExt cx="533160" cy="532800"/>
          </a:xfrm>
        </p:grpSpPr>
        <p:sp>
          <p:nvSpPr>
            <p:cNvPr id="57" name=""/>
            <p:cNvSpPr/>
            <p:nvPr/>
          </p:nvSpPr>
          <p:spPr>
            <a:xfrm>
              <a:off x="7086600" y="1947960"/>
              <a:ext cx="533160" cy="532800"/>
            </a:xfrm>
            <a:prstGeom prst="ellipse">
              <a:avLst/>
            </a:prstGeom>
            <a:gradFill rotWithShape="0">
              <a:gsLst>
                <a:gs pos="0">
                  <a:srgbClr val="c6cce8"/>
                </a:gs>
                <a:gs pos="100000">
                  <a:srgbClr val="233da9">
                    <a:alpha val="31372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086600" y="1947960"/>
              <a:ext cx="355680" cy="355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7620120" y="1371600"/>
            <a:ext cx="914400" cy="914400"/>
            <a:chOff x="7620120" y="1371600"/>
            <a:chExt cx="914400" cy="914400"/>
          </a:xfrm>
        </p:grpSpPr>
        <p:sp>
          <p:nvSpPr>
            <p:cNvPr id="60" name=""/>
            <p:cNvSpPr/>
            <p:nvPr/>
          </p:nvSpPr>
          <p:spPr>
            <a:xfrm>
              <a:off x="7620120" y="1371600"/>
              <a:ext cx="914400" cy="914400"/>
            </a:xfrm>
            <a:prstGeom prst="ellipse">
              <a:avLst/>
            </a:prstGeom>
            <a:solidFill>
              <a:srgbClr val="65aae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620120" y="1523880"/>
              <a:ext cx="762120" cy="60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04920" y="3429000"/>
            <a:ext cx="1294920" cy="1371240"/>
            <a:chOff x="304920" y="3429000"/>
            <a:chExt cx="1294920" cy="1371240"/>
          </a:xfrm>
        </p:grpSpPr>
        <p:sp>
          <p:nvSpPr>
            <p:cNvPr id="63" name=""/>
            <p:cNvSpPr/>
            <p:nvPr/>
          </p:nvSpPr>
          <p:spPr>
            <a:xfrm>
              <a:off x="304920" y="3429000"/>
              <a:ext cx="1294920" cy="1371240"/>
            </a:xfrm>
            <a:prstGeom prst="ellipse">
              <a:avLst/>
            </a:prstGeom>
            <a:solidFill>
              <a:srgbClr val="233da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3657240"/>
              <a:ext cx="1079280" cy="914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6D5C-F8C4-431C-9253-EB284F399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685800" y="24955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ndalus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ndalu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7da0d3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moban/guowai/" TargetMode="External"/><Relationship Id="rId2" Type="http://schemas.openxmlformats.org/officeDocument/2006/relationships/hyperlink" Target="http://www.eeppt.com/moban/guowai/" TargetMode="External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5.wmf"/><Relationship Id="rId5" Type="http://schemas.openxmlformats.org/officeDocument/2006/relationships/image" Target="../media/image7.png"/><Relationship Id="rId6" Type="http://schemas.openxmlformats.org/officeDocument/2006/relationships/image" Target="../media/image5.wmf"/><Relationship Id="rId7" Type="http://schemas.openxmlformats.org/officeDocument/2006/relationships/image" Target="../media/image8.png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guowai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4955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ndalus"/>
              </a:rPr>
              <a:t>外国蓝色</a:t>
            </a:r>
            <a:r>
              <a:rPr b="1" lang="en-US" sz="4800" spc="-1" strike="noStrike">
                <a:solidFill>
                  <a:srgbClr val="ffffff"/>
                </a:solidFill>
                <a:latin typeface="Andalus"/>
              </a:rPr>
              <a:t>PPT</a:t>
            </a:r>
            <a:r>
              <a:rPr b="1" lang="zh-CN" sz="4800" spc="-1" strike="noStrike">
                <a:solidFill>
                  <a:srgbClr val="ffffff"/>
                </a:solidFill>
                <a:latin typeface="Andalus"/>
              </a:rPr>
              <a:t>模板</a:t>
            </a:r>
            <a:endParaRPr b="1" lang="en-US" sz="4800" spc="-1" strike="noStrike">
              <a:solidFill>
                <a:srgbClr val="ffffff"/>
              </a:solidFill>
              <a:latin typeface="Andalu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240" y="3733560"/>
            <a:ext cx="6095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28600" y="304920"/>
            <a:ext cx="1079640" cy="635760"/>
            <a:chOff x="228600" y="304920"/>
            <a:chExt cx="1079640" cy="635760"/>
          </a:xfrm>
        </p:grpSpPr>
        <p:sp>
          <p:nvSpPr>
            <p:cNvPr id="109" name=""/>
            <p:cNvSpPr/>
            <p:nvPr/>
          </p:nvSpPr>
          <p:spPr>
            <a:xfrm>
              <a:off x="228600" y="48096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33da9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5400000">
              <a:off x="622440" y="1080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65a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855360"/>
            <a:ext cx="739152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91636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5aa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5164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da0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7da0d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7da0d3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36912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35671"/>
              </a:gs>
              <a:gs pos="50000">
                <a:srgbClr val="7da0d3"/>
              </a:gs>
              <a:gs pos="100000">
                <a:srgbClr val="43567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00800" y="24382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da0d3">
                  <a:alpha val="0"/>
                </a:srgbClr>
              </a:gs>
              <a:gs pos="100000">
                <a:srgbClr val="4f658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4706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b2e385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b2e385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96760" y="2421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f7a47"/>
              </a:gs>
              <a:gs pos="50000">
                <a:srgbClr val="b2e385"/>
              </a:gs>
              <a:gs pos="100000">
                <a:srgbClr val="5f7a4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98560" y="24242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b2e385">
                  <a:alpha val="0"/>
                </a:srgbClr>
              </a:gs>
              <a:gs pos="100000">
                <a:srgbClr val="708f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90720" y="25146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017720" y="2540160"/>
            <a:ext cx="1636560" cy="1636560"/>
            <a:chOff x="1017720" y="2540160"/>
            <a:chExt cx="1636560" cy="1636560"/>
          </a:xfrm>
        </p:grpSpPr>
        <p:sp>
          <p:nvSpPr>
            <p:cNvPr id="273" name=""/>
            <p:cNvSpPr/>
            <p:nvPr/>
          </p:nvSpPr>
          <p:spPr>
            <a:xfrm>
              <a:off x="101772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03860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5552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14444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65aae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2e4e6b"/>
              </a:gs>
              <a:gs pos="100000">
                <a:srgbClr val="65aae9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63384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65b7d"/>
              </a:gs>
              <a:gs pos="50000">
                <a:srgbClr val="65aae9"/>
              </a:gs>
              <a:gs pos="100000">
                <a:srgbClr val="365b7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635280" y="2430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5aae9">
                  <a:alpha val="0"/>
                </a:srgbClr>
              </a:gs>
              <a:gs pos="100000">
                <a:srgbClr val="3f6b9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7274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754440" y="2540160"/>
            <a:ext cx="1636560" cy="1636560"/>
            <a:chOff x="3754440" y="2540160"/>
            <a:chExt cx="1636560" cy="1636560"/>
          </a:xfrm>
        </p:grpSpPr>
        <p:sp>
          <p:nvSpPr>
            <p:cNvPr id="283" name=""/>
            <p:cNvSpPr/>
            <p:nvPr/>
          </p:nvSpPr>
          <p:spPr>
            <a:xfrm>
              <a:off x="375444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77532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79224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88116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500880" y="2540160"/>
            <a:ext cx="1636560" cy="1636560"/>
            <a:chOff x="6500880" y="2540160"/>
            <a:chExt cx="1636560" cy="1636560"/>
          </a:xfrm>
        </p:grpSpPr>
        <p:sp>
          <p:nvSpPr>
            <p:cNvPr id="288" name=""/>
            <p:cNvSpPr/>
            <p:nvPr/>
          </p:nvSpPr>
          <p:spPr>
            <a:xfrm>
              <a:off x="650088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52176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3868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62760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8049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53844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2913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4522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1954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9386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855360"/>
            <a:ext cx="739152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1523880"/>
            <a:ext cx="7543800" cy="4495680"/>
            <a:chOff x="914400" y="1523880"/>
            <a:chExt cx="7543800" cy="4495680"/>
          </a:xfrm>
        </p:grpSpPr>
        <p:sp>
          <p:nvSpPr>
            <p:cNvPr id="300" name="未知"/>
            <p:cNvSpPr/>
            <p:nvPr/>
          </p:nvSpPr>
          <p:spPr>
            <a:xfrm>
              <a:off x="1066680" y="198108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da0d3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3048120" y="3836880"/>
              <a:ext cx="1981080" cy="2030400"/>
              <a:chOff x="3048120" y="3836880"/>
              <a:chExt cx="1981080" cy="2030400"/>
            </a:xfrm>
          </p:grpSpPr>
          <p:pic>
            <p:nvPicPr>
              <p:cNvPr id="30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048120" y="5322960"/>
                <a:ext cx="1981080" cy="54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>
                <a:off x="3208320" y="3836880"/>
                <a:ext cx="1704960" cy="17064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229200" y="3846240"/>
                <a:ext cx="1665360" cy="1663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46480" y="386244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38640" y="3906720"/>
                <a:ext cx="1409760" cy="1262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1143000" y="3473280"/>
              <a:ext cx="1676520" cy="1631880"/>
              <a:chOff x="1143000" y="3473280"/>
              <a:chExt cx="1676520" cy="1631880"/>
            </a:xfrm>
          </p:grpSpPr>
          <p:pic>
            <p:nvPicPr>
              <p:cNvPr id="30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43000" y="4641840"/>
                <a:ext cx="167652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"/>
              <p:cNvSpPr/>
              <p:nvPr/>
            </p:nvSpPr>
            <p:spPr>
              <a:xfrm>
                <a:off x="1362240" y="3473280"/>
                <a:ext cx="1365120" cy="13651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379520" y="3481200"/>
                <a:ext cx="1332000" cy="13302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393920" y="3493800"/>
                <a:ext cx="1266840" cy="12448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67000" y="3528720"/>
                <a:ext cx="1126800" cy="1009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914400" y="2104920"/>
              <a:ext cx="1371600" cy="1204920"/>
              <a:chOff x="914400" y="2104920"/>
              <a:chExt cx="1371600" cy="1204920"/>
            </a:xfrm>
          </p:grpSpPr>
          <p:pic>
            <p:nvPicPr>
              <p:cNvPr id="31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14400" y="2931840"/>
                <a:ext cx="1371600" cy="37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"/>
              <p:cNvSpPr/>
              <p:nvPr/>
            </p:nvSpPr>
            <p:spPr>
              <a:xfrm>
                <a:off x="1117440" y="2104920"/>
                <a:ext cx="1024200" cy="10238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130400" y="21096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141560" y="212076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195560" y="2146320"/>
                <a:ext cx="847440" cy="757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2514600" y="1523880"/>
              <a:ext cx="1066680" cy="828720"/>
              <a:chOff x="2514600" y="1523880"/>
              <a:chExt cx="1066680" cy="828720"/>
            </a:xfrm>
          </p:grpSpPr>
          <p:pic>
            <p:nvPicPr>
              <p:cNvPr id="32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14600" y="2057400"/>
                <a:ext cx="106668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1" name=""/>
              <p:cNvSpPr/>
              <p:nvPr/>
            </p:nvSpPr>
            <p:spPr>
              <a:xfrm>
                <a:off x="2712960" y="1523880"/>
                <a:ext cx="682560" cy="6825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722680" y="1527120"/>
                <a:ext cx="66492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728800" y="1533240"/>
                <a:ext cx="633600" cy="6224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765520" y="1552320"/>
                <a:ext cx="563400" cy="503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2783520" y="17478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4720" y="24541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645920" y="3952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625920" y="446400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791320" y="359568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33da9"/>
                  </a:solidFill>
                  <a:latin typeface="Arial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855360"/>
            <a:ext cx="739152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7973000">
            <a:off x="477756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233da9"/>
              </a:gs>
              <a:gs pos="100000">
                <a:srgbClr val="1f3695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3465600">
            <a:off x="4776840" y="47743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233da9"/>
              </a:gs>
              <a:gs pos="100000">
                <a:srgbClr val="1f3695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4368800">
            <a:off x="3558240" y="26866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233da9"/>
              </a:gs>
              <a:gs pos="100000">
                <a:srgbClr val="1f3695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7534800">
            <a:off x="3520080" y="47412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233da9"/>
              </a:gs>
              <a:gs pos="100000">
                <a:srgbClr val="1f3695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56080" y="37386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233da9"/>
              </a:gs>
              <a:gs pos="100000">
                <a:srgbClr val="1f3695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10800000">
            <a:off x="2945880" y="373176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233da9"/>
              </a:gs>
              <a:gs pos="100000">
                <a:srgbClr val="1f369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692440" y="1969920"/>
            <a:ext cx="3743280" cy="3745080"/>
          </a:xfrm>
          <a:prstGeom prst="ellipse">
            <a:avLst/>
          </a:prstGeom>
          <a:noFill/>
          <a:ln w="38160">
            <a:solidFill>
              <a:srgbClr val="233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3429000" y="2028960"/>
            <a:ext cx="360360" cy="360360"/>
            <a:chOff x="3429000" y="2028960"/>
            <a:chExt cx="360360" cy="360360"/>
          </a:xfrm>
        </p:grpSpPr>
        <p:sp>
          <p:nvSpPr>
            <p:cNvPr id="339" name=""/>
            <p:cNvSpPr/>
            <p:nvPr/>
          </p:nvSpPr>
          <p:spPr>
            <a:xfrm>
              <a:off x="3429000" y="2028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444840" y="2059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2484360" y="3684600"/>
            <a:ext cx="360360" cy="360360"/>
            <a:chOff x="2484360" y="3684600"/>
            <a:chExt cx="360360" cy="360360"/>
          </a:xfrm>
        </p:grpSpPr>
        <p:sp>
          <p:nvSpPr>
            <p:cNvPr id="342" name=""/>
            <p:cNvSpPr/>
            <p:nvPr/>
          </p:nvSpPr>
          <p:spPr>
            <a:xfrm>
              <a:off x="248436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50020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3348000" y="5227560"/>
            <a:ext cx="360360" cy="360360"/>
            <a:chOff x="3348000" y="5227560"/>
            <a:chExt cx="360360" cy="360360"/>
          </a:xfrm>
        </p:grpSpPr>
        <p:sp>
          <p:nvSpPr>
            <p:cNvPr id="345" name=""/>
            <p:cNvSpPr/>
            <p:nvPr/>
          </p:nvSpPr>
          <p:spPr>
            <a:xfrm>
              <a:off x="3348000" y="5227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363840" y="5257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278320" y="2008080"/>
            <a:ext cx="360360" cy="360360"/>
            <a:chOff x="5278320" y="2008080"/>
            <a:chExt cx="360360" cy="360360"/>
          </a:xfrm>
        </p:grpSpPr>
        <p:sp>
          <p:nvSpPr>
            <p:cNvPr id="348" name=""/>
            <p:cNvSpPr/>
            <p:nvPr/>
          </p:nvSpPr>
          <p:spPr>
            <a:xfrm>
              <a:off x="5278320" y="2008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294160" y="2038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6227640" y="3684600"/>
            <a:ext cx="360360" cy="360360"/>
            <a:chOff x="6227640" y="3684600"/>
            <a:chExt cx="360360" cy="360360"/>
          </a:xfrm>
        </p:grpSpPr>
        <p:sp>
          <p:nvSpPr>
            <p:cNvPr id="351" name=""/>
            <p:cNvSpPr/>
            <p:nvPr/>
          </p:nvSpPr>
          <p:spPr>
            <a:xfrm>
              <a:off x="622764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24348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334120" y="5284800"/>
            <a:ext cx="360360" cy="360360"/>
            <a:chOff x="5334120" y="5284800"/>
            <a:chExt cx="360360" cy="360360"/>
          </a:xfrm>
        </p:grpSpPr>
        <p:sp>
          <p:nvSpPr>
            <p:cNvPr id="354" name=""/>
            <p:cNvSpPr/>
            <p:nvPr/>
          </p:nvSpPr>
          <p:spPr>
            <a:xfrm>
              <a:off x="5334120" y="5284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349960" y="5315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3624120" y="29224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7da0d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618000" y="2906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394961"/>
              </a:gs>
              <a:gs pos="100000">
                <a:srgbClr val="7da0d3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751200" y="304956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435671"/>
              </a:gs>
              <a:gs pos="50000">
                <a:srgbClr val="7da0d3"/>
              </a:gs>
              <a:gs pos="100000">
                <a:srgbClr val="43567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733920" y="302256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7da0d3">
                  <a:alpha val="0"/>
                </a:srgbClr>
              </a:gs>
              <a:gs pos="100000">
                <a:srgbClr val="4f658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3835440" y="3133800"/>
            <a:ext cx="1522440" cy="1522440"/>
            <a:chOff x="3835440" y="3133800"/>
            <a:chExt cx="1522440" cy="1522440"/>
          </a:xfrm>
        </p:grpSpPr>
        <p:sp>
          <p:nvSpPr>
            <p:cNvPr id="361" name=""/>
            <p:cNvSpPr/>
            <p:nvPr/>
          </p:nvSpPr>
          <p:spPr>
            <a:xfrm>
              <a:off x="3835440" y="31338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57760" y="3152880"/>
              <a:ext cx="1471680" cy="14731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875040" y="31622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90880" y="31766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971880" y="32130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4164480" y="36226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71752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91700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63192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717520" y="5308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00260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840680" y="52466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855360"/>
            <a:ext cx="739152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143000" y="1984320"/>
            <a:ext cx="2170080" cy="4035600"/>
            <a:chOff x="1143000" y="1984320"/>
            <a:chExt cx="2170080" cy="4035600"/>
          </a:xfrm>
        </p:grpSpPr>
        <p:sp>
          <p:nvSpPr>
            <p:cNvPr id="375" name=""/>
            <p:cNvSpPr/>
            <p:nvPr/>
          </p:nvSpPr>
          <p:spPr>
            <a:xfrm>
              <a:off x="1143000" y="229212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176480" y="230040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93760" y="436392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193760" y="232236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149480" y="514980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193760" y="517356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1887480" y="1984320"/>
              <a:ext cx="642960" cy="642960"/>
              <a:chOff x="1887480" y="1984320"/>
              <a:chExt cx="642960" cy="642960"/>
            </a:xfrm>
          </p:grpSpPr>
          <p:sp>
            <p:nvSpPr>
              <p:cNvPr id="382" name=""/>
              <p:cNvSpPr/>
              <p:nvPr/>
            </p:nvSpPr>
            <p:spPr>
              <a:xfrm>
                <a:off x="1887480" y="198432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893960" y="198900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901880" y="199296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908360" y="199872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942200" y="201420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2027520" y="2076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219320" y="27464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3505320" y="1984320"/>
            <a:ext cx="2166840" cy="4035600"/>
            <a:chOff x="3505320" y="1984320"/>
            <a:chExt cx="2166840" cy="4035600"/>
          </a:xfrm>
        </p:grpSpPr>
        <p:sp>
          <p:nvSpPr>
            <p:cNvPr id="390" name=""/>
            <p:cNvSpPr/>
            <p:nvPr/>
          </p:nvSpPr>
          <p:spPr>
            <a:xfrm>
              <a:off x="3505320" y="229212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538800" y="230040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56080" y="436392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56080" y="232236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249800" y="198432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256280" y="198900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264200" y="199224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270320" y="199872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305600" y="201456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389840" y="2076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81640" y="27464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08560" y="514980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52840" y="5173560"/>
              <a:ext cx="207036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5861160" y="1984320"/>
            <a:ext cx="2170080" cy="4035600"/>
            <a:chOff x="5861160" y="1984320"/>
            <a:chExt cx="2170080" cy="4035600"/>
          </a:xfrm>
        </p:grpSpPr>
        <p:sp>
          <p:nvSpPr>
            <p:cNvPr id="404" name=""/>
            <p:cNvSpPr/>
            <p:nvPr/>
          </p:nvSpPr>
          <p:spPr>
            <a:xfrm>
              <a:off x="5867640" y="229212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900760" y="230040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918400" y="436392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918400" y="232236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6612120" y="1984320"/>
              <a:ext cx="642960" cy="642960"/>
              <a:chOff x="6612120" y="1984320"/>
              <a:chExt cx="642960" cy="642960"/>
            </a:xfrm>
          </p:grpSpPr>
          <p:sp>
            <p:nvSpPr>
              <p:cNvPr id="409" name=""/>
              <p:cNvSpPr/>
              <p:nvPr/>
            </p:nvSpPr>
            <p:spPr>
              <a:xfrm>
                <a:off x="6612120" y="198432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618600" y="198900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626520" y="199296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633000" y="199872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666840" y="201420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6752160" y="2076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943600" y="27464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861160" y="514980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05440" y="5173560"/>
              <a:ext cx="207036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855360"/>
            <a:ext cx="739152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32590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3311640"/>
            <a:ext cx="9144000" cy="142920"/>
          </a:xfrm>
          <a:prstGeom prst="rect">
            <a:avLst/>
          </a:prstGeom>
          <a:gradFill rotWithShape="0">
            <a:gsLst>
              <a:gs pos="0">
                <a:srgbClr val="cdcdcd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4906080" y="3584160"/>
            <a:ext cx="1703880" cy="2679120"/>
            <a:chOff x="4906080" y="3584160"/>
            <a:chExt cx="1703880" cy="2679120"/>
          </a:xfrm>
        </p:grpSpPr>
        <p:grpSp>
          <p:nvGrpSpPr>
            <p:cNvPr id="422" name=""/>
            <p:cNvGrpSpPr/>
            <p:nvPr/>
          </p:nvGrpSpPr>
          <p:grpSpPr>
            <a:xfrm>
              <a:off x="4906080" y="3762720"/>
              <a:ext cx="1577160" cy="2500560"/>
              <a:chOff x="4906080" y="3762720"/>
              <a:chExt cx="1577160" cy="2500560"/>
            </a:xfrm>
          </p:grpSpPr>
          <p:sp>
            <p:nvSpPr>
              <p:cNvPr id="423" name="未知"/>
              <p:cNvSpPr/>
              <p:nvPr/>
            </p:nvSpPr>
            <p:spPr>
              <a:xfrm rot="3876600">
                <a:off x="4442760" y="47340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未知"/>
              <p:cNvSpPr/>
              <p:nvPr/>
            </p:nvSpPr>
            <p:spPr>
              <a:xfrm rot="3876600">
                <a:off x="5947560" y="570240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5400000" y="3584160"/>
              <a:ext cx="1209960" cy="1918800"/>
              <a:chOff x="5400000" y="3584160"/>
              <a:chExt cx="1209960" cy="1918800"/>
            </a:xfrm>
          </p:grpSpPr>
          <p:sp>
            <p:nvSpPr>
              <p:cNvPr id="426" name="未知"/>
              <p:cNvSpPr/>
              <p:nvPr/>
            </p:nvSpPr>
            <p:spPr>
              <a:xfrm flipV="1" rot="3876600">
                <a:off x="5044320" y="43297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未知"/>
              <p:cNvSpPr/>
              <p:nvPr/>
            </p:nvSpPr>
            <p:spPr>
              <a:xfrm flipV="1" rot="3876600">
                <a:off x="6181560" y="50806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8" name=""/>
          <p:cNvGrpSpPr/>
          <p:nvPr/>
        </p:nvGrpSpPr>
        <p:grpSpPr>
          <a:xfrm>
            <a:off x="4427640" y="2662200"/>
            <a:ext cx="1439640" cy="1440000"/>
            <a:chOff x="4427640" y="2662200"/>
            <a:chExt cx="1439640" cy="1440000"/>
          </a:xfrm>
        </p:grpSpPr>
        <p:sp>
          <p:nvSpPr>
            <p:cNvPr id="429" name=""/>
            <p:cNvSpPr/>
            <p:nvPr/>
          </p:nvSpPr>
          <p:spPr>
            <a:xfrm>
              <a:off x="4427640" y="2662200"/>
              <a:ext cx="1439640" cy="1440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27640" y="2662200"/>
              <a:ext cx="1439640" cy="1440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522680" y="2755800"/>
              <a:ext cx="124884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522680" y="2759040"/>
              <a:ext cx="124884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584600" y="2819520"/>
              <a:ext cx="1125000" cy="112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4601880" y="2836800"/>
              <a:ext cx="1090440" cy="1092240"/>
              <a:chOff x="4601880" y="2836800"/>
              <a:chExt cx="1090440" cy="1092240"/>
            </a:xfrm>
          </p:grpSpPr>
          <p:sp>
            <p:nvSpPr>
              <p:cNvPr id="435" name=""/>
              <p:cNvSpPr/>
              <p:nvPr/>
            </p:nvSpPr>
            <p:spPr>
              <a:xfrm>
                <a:off x="4601880" y="28368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615560" y="2842920"/>
                <a:ext cx="106416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627080" y="28533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686120" y="28810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9" name=""/>
          <p:cNvGrpSpPr/>
          <p:nvPr/>
        </p:nvGrpSpPr>
        <p:grpSpPr>
          <a:xfrm>
            <a:off x="7138080" y="3657240"/>
            <a:ext cx="1703880" cy="2679120"/>
            <a:chOff x="7138080" y="3657240"/>
            <a:chExt cx="1703880" cy="2679120"/>
          </a:xfrm>
        </p:grpSpPr>
        <p:grpSp>
          <p:nvGrpSpPr>
            <p:cNvPr id="440" name=""/>
            <p:cNvGrpSpPr/>
            <p:nvPr/>
          </p:nvGrpSpPr>
          <p:grpSpPr>
            <a:xfrm>
              <a:off x="7138080" y="3835800"/>
              <a:ext cx="1577160" cy="2500560"/>
              <a:chOff x="7138080" y="3835800"/>
              <a:chExt cx="1577160" cy="2500560"/>
            </a:xfrm>
          </p:grpSpPr>
          <p:sp>
            <p:nvSpPr>
              <p:cNvPr id="441" name="未知"/>
              <p:cNvSpPr/>
              <p:nvPr/>
            </p:nvSpPr>
            <p:spPr>
              <a:xfrm rot="3876600">
                <a:off x="6674760" y="48070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未知"/>
              <p:cNvSpPr/>
              <p:nvPr/>
            </p:nvSpPr>
            <p:spPr>
              <a:xfrm rot="3876600">
                <a:off x="8179560" y="577548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7632000" y="3657240"/>
              <a:ext cx="1209960" cy="1918800"/>
              <a:chOff x="7632000" y="3657240"/>
              <a:chExt cx="1209960" cy="1918800"/>
            </a:xfrm>
          </p:grpSpPr>
          <p:sp>
            <p:nvSpPr>
              <p:cNvPr id="444" name="未知"/>
              <p:cNvSpPr/>
              <p:nvPr/>
            </p:nvSpPr>
            <p:spPr>
              <a:xfrm flipV="1" rot="3876600">
                <a:off x="7276320" y="440280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未知"/>
              <p:cNvSpPr/>
              <p:nvPr/>
            </p:nvSpPr>
            <p:spPr>
              <a:xfrm flipV="1" rot="3876600">
                <a:off x="8413560" y="515376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6" name=""/>
          <p:cNvSpPr/>
          <p:nvPr/>
        </p:nvSpPr>
        <p:spPr>
          <a:xfrm>
            <a:off x="6442200" y="25034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442200" y="25034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558120" y="261612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559560" y="261936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632640" y="269244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6653160" y="2712960"/>
            <a:ext cx="1311480" cy="1309680"/>
            <a:chOff x="6653160" y="2712960"/>
            <a:chExt cx="1311480" cy="1309680"/>
          </a:xfrm>
        </p:grpSpPr>
        <p:sp>
          <p:nvSpPr>
            <p:cNvPr id="452" name=""/>
            <p:cNvSpPr/>
            <p:nvPr/>
          </p:nvSpPr>
          <p:spPr>
            <a:xfrm>
              <a:off x="6653160" y="271296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69720" y="2720160"/>
              <a:ext cx="127980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683400" y="273276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754680" y="276624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2858760" y="3583800"/>
            <a:ext cx="1703880" cy="2679480"/>
            <a:chOff x="2858760" y="3583800"/>
            <a:chExt cx="1703880" cy="2679480"/>
          </a:xfrm>
        </p:grpSpPr>
        <p:grpSp>
          <p:nvGrpSpPr>
            <p:cNvPr id="457" name=""/>
            <p:cNvGrpSpPr/>
            <p:nvPr/>
          </p:nvGrpSpPr>
          <p:grpSpPr>
            <a:xfrm>
              <a:off x="2858760" y="3762720"/>
              <a:ext cx="1577160" cy="2500560"/>
              <a:chOff x="2858760" y="3762720"/>
              <a:chExt cx="1577160" cy="2500560"/>
            </a:xfrm>
          </p:grpSpPr>
          <p:sp>
            <p:nvSpPr>
              <p:cNvPr id="458" name="未知"/>
              <p:cNvSpPr/>
              <p:nvPr/>
            </p:nvSpPr>
            <p:spPr>
              <a:xfrm rot="3876600">
                <a:off x="2395440" y="47340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未知"/>
              <p:cNvSpPr/>
              <p:nvPr/>
            </p:nvSpPr>
            <p:spPr>
              <a:xfrm rot="3876600">
                <a:off x="3900240" y="570240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3352680" y="3583800"/>
              <a:ext cx="1209960" cy="1918800"/>
              <a:chOff x="3352680" y="3583800"/>
              <a:chExt cx="1209960" cy="1918800"/>
            </a:xfrm>
          </p:grpSpPr>
          <p:sp>
            <p:nvSpPr>
              <p:cNvPr id="461" name="未知"/>
              <p:cNvSpPr/>
              <p:nvPr/>
            </p:nvSpPr>
            <p:spPr>
              <a:xfrm flipV="1" rot="3876600">
                <a:off x="2997000" y="432936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未知"/>
              <p:cNvSpPr/>
              <p:nvPr/>
            </p:nvSpPr>
            <p:spPr>
              <a:xfrm flipV="1" rot="3876600">
                <a:off x="4134240" y="508032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3" name=""/>
          <p:cNvGrpSpPr/>
          <p:nvPr/>
        </p:nvGrpSpPr>
        <p:grpSpPr>
          <a:xfrm>
            <a:off x="2379600" y="2662200"/>
            <a:ext cx="1440000" cy="1440000"/>
            <a:chOff x="2379600" y="2662200"/>
            <a:chExt cx="1440000" cy="1440000"/>
          </a:xfrm>
        </p:grpSpPr>
        <p:sp>
          <p:nvSpPr>
            <p:cNvPr id="464" name=""/>
            <p:cNvSpPr/>
            <p:nvPr/>
          </p:nvSpPr>
          <p:spPr>
            <a:xfrm>
              <a:off x="2379600" y="26622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379600" y="26622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475000" y="2755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475000" y="27590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536920" y="2819520"/>
              <a:ext cx="1125360" cy="112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2554200" y="2836800"/>
              <a:ext cx="1090800" cy="1092240"/>
              <a:chOff x="2554200" y="2836800"/>
              <a:chExt cx="1090800" cy="1092240"/>
            </a:xfrm>
          </p:grpSpPr>
          <p:sp>
            <p:nvSpPr>
              <p:cNvPr id="470" name=""/>
              <p:cNvSpPr/>
              <p:nvPr/>
            </p:nvSpPr>
            <p:spPr>
              <a:xfrm>
                <a:off x="2554200" y="2836800"/>
                <a:ext cx="109080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567880" y="28429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579400" y="2853360"/>
                <a:ext cx="101232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638440" y="2881080"/>
                <a:ext cx="90000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875880" y="3583800"/>
            <a:ext cx="1703880" cy="2679480"/>
            <a:chOff x="875880" y="3583800"/>
            <a:chExt cx="1703880" cy="2679480"/>
          </a:xfrm>
        </p:grpSpPr>
        <p:grpSp>
          <p:nvGrpSpPr>
            <p:cNvPr id="475" name=""/>
            <p:cNvGrpSpPr/>
            <p:nvPr/>
          </p:nvGrpSpPr>
          <p:grpSpPr>
            <a:xfrm>
              <a:off x="875880" y="3762720"/>
              <a:ext cx="1577160" cy="2500560"/>
              <a:chOff x="875880" y="3762720"/>
              <a:chExt cx="1577160" cy="2500560"/>
            </a:xfrm>
          </p:grpSpPr>
          <p:sp>
            <p:nvSpPr>
              <p:cNvPr id="476" name="未知"/>
              <p:cNvSpPr/>
              <p:nvPr/>
            </p:nvSpPr>
            <p:spPr>
              <a:xfrm rot="3876600">
                <a:off x="412560" y="47340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未知"/>
              <p:cNvSpPr/>
              <p:nvPr/>
            </p:nvSpPr>
            <p:spPr>
              <a:xfrm rot="3876600">
                <a:off x="1917360" y="570240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1369800" y="3583800"/>
              <a:ext cx="1209960" cy="1918800"/>
              <a:chOff x="1369800" y="3583800"/>
              <a:chExt cx="1209960" cy="1918800"/>
            </a:xfrm>
          </p:grpSpPr>
          <p:sp>
            <p:nvSpPr>
              <p:cNvPr id="479" name="未知"/>
              <p:cNvSpPr/>
              <p:nvPr/>
            </p:nvSpPr>
            <p:spPr>
              <a:xfrm flipV="1" rot="3876600">
                <a:off x="1014120" y="432936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未知"/>
              <p:cNvSpPr/>
              <p:nvPr/>
            </p:nvSpPr>
            <p:spPr>
              <a:xfrm flipV="1" rot="3876600">
                <a:off x="2151360" y="508032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1" name=""/>
          <p:cNvGrpSpPr/>
          <p:nvPr/>
        </p:nvGrpSpPr>
        <p:grpSpPr>
          <a:xfrm>
            <a:off x="396720" y="2662200"/>
            <a:ext cx="1440000" cy="1440000"/>
            <a:chOff x="396720" y="2662200"/>
            <a:chExt cx="1440000" cy="1440000"/>
          </a:xfrm>
        </p:grpSpPr>
        <p:sp>
          <p:nvSpPr>
            <p:cNvPr id="482" name=""/>
            <p:cNvSpPr/>
            <p:nvPr/>
          </p:nvSpPr>
          <p:spPr>
            <a:xfrm>
              <a:off x="396720" y="26622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96720" y="26622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92120" y="2755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92120" y="27590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4040" y="2819520"/>
              <a:ext cx="1125360" cy="112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571320" y="2836800"/>
              <a:ext cx="1090800" cy="1092240"/>
              <a:chOff x="571320" y="2836800"/>
              <a:chExt cx="1090800" cy="1092240"/>
            </a:xfrm>
          </p:grpSpPr>
          <p:sp>
            <p:nvSpPr>
              <p:cNvPr id="488" name=""/>
              <p:cNvSpPr/>
              <p:nvPr/>
            </p:nvSpPr>
            <p:spPr>
              <a:xfrm>
                <a:off x="571320" y="2836800"/>
                <a:ext cx="109080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85000" y="28429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96520" y="2853360"/>
                <a:ext cx="101232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55560" y="2881080"/>
                <a:ext cx="90000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2" name=""/>
          <p:cNvSpPr/>
          <p:nvPr/>
        </p:nvSpPr>
        <p:spPr>
          <a:xfrm rot="3925800">
            <a:off x="896400" y="46062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rot="3925800">
            <a:off x="1402200" y="43178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rot="3925800">
            <a:off x="2872800" y="46062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rot="3925800">
            <a:off x="3378600" y="43178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rot="3925800">
            <a:off x="4930200" y="46062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3925800">
            <a:off x="5436000" y="43178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rot="3925800">
            <a:off x="7144920" y="4764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rot="3925800">
            <a:off x="7650720" y="4476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77960" y="2013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768400" y="2013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749840" y="2013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795000" y="19699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0" idx="3"/>
            <a:endCxn id="501" idx="1"/>
          </p:cNvCxnSpPr>
          <p:nvPr/>
        </p:nvCxnSpPr>
        <p:spPr>
          <a:xfrm>
            <a:off x="1514160" y="2196720"/>
            <a:ext cx="12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5" name=""/>
          <p:cNvCxnSpPr>
            <a:stCxn id="501" idx="3"/>
            <a:endCxn id="502" idx="1"/>
          </p:cNvCxnSpPr>
          <p:nvPr/>
        </p:nvCxnSpPr>
        <p:spPr>
          <a:xfrm>
            <a:off x="3504960" y="2196720"/>
            <a:ext cx="121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stCxn id="502" idx="3"/>
            <a:endCxn id="503" idx="1"/>
          </p:cNvCxnSpPr>
          <p:nvPr/>
        </p:nvCxnSpPr>
        <p:spPr>
          <a:xfrm>
            <a:off x="5486040" y="2197080"/>
            <a:ext cx="1220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400" y="855360"/>
            <a:ext cx="739152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562720" y="2895480"/>
            <a:ext cx="2819160" cy="289584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200400" y="28954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394961"/>
              </a:gs>
              <a:gs pos="100000">
                <a:srgbClr val="7da0d3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838080" y="28954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2e4e6b"/>
              </a:gs>
              <a:gs pos="100000">
                <a:srgbClr val="65aae9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066680" y="20574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e4e6b"/>
              </a:gs>
              <a:gs pos="100000">
                <a:srgbClr val="65aae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386160" y="20574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94961"/>
              </a:gs>
              <a:gs pos="100000">
                <a:srgbClr val="7da0d3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715000" y="20574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855360"/>
            <a:ext cx="739152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311880" y="34290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559400" y="34290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819520" y="34290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054080" y="34290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1112040" y="1935000"/>
            <a:ext cx="6436800" cy="1387800"/>
            <a:chOff x="1112040" y="1935000"/>
            <a:chExt cx="6436800" cy="1387800"/>
          </a:xfrm>
        </p:grpSpPr>
        <p:sp>
          <p:nvSpPr>
            <p:cNvPr id="520" name=""/>
            <p:cNvSpPr/>
            <p:nvPr/>
          </p:nvSpPr>
          <p:spPr>
            <a:xfrm rot="3418800">
              <a:off x="1322640" y="21596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7da0d3"/>
                </a:gs>
                <a:gs pos="100000">
                  <a:srgbClr val="39496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2286360" y="2331720"/>
              <a:ext cx="932040" cy="131760"/>
              <a:chOff x="2286360" y="2331720"/>
              <a:chExt cx="932040" cy="131760"/>
            </a:xfrm>
          </p:grpSpPr>
          <p:sp>
            <p:nvSpPr>
              <p:cNvPr id="522" name=""/>
              <p:cNvSpPr/>
              <p:nvPr/>
            </p:nvSpPr>
            <p:spPr>
              <a:xfrm>
                <a:off x="2286360" y="23317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375640" y="233280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077280" y="233388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152520" y="237492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 rot="3418800">
              <a:off x="3043800" y="20937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4007520" y="2331720"/>
              <a:ext cx="932040" cy="131760"/>
              <a:chOff x="4007520" y="2331720"/>
              <a:chExt cx="932040" cy="131760"/>
            </a:xfrm>
          </p:grpSpPr>
          <p:sp>
            <p:nvSpPr>
              <p:cNvPr id="528" name=""/>
              <p:cNvSpPr/>
              <p:nvPr/>
            </p:nvSpPr>
            <p:spPr>
              <a:xfrm>
                <a:off x="4007520" y="23317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096800" y="233280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798440" y="233388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73680" y="237492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2" name=""/>
            <p:cNvSpPr/>
            <p:nvPr/>
          </p:nvSpPr>
          <p:spPr>
            <a:xfrm rot="3418800">
              <a:off x="4692600" y="2093760"/>
              <a:ext cx="924120" cy="1004040"/>
            </a:xfrm>
            <a:prstGeom prst="rect">
              <a:avLst/>
            </a:prstGeom>
            <a:gradFill rotWithShape="0">
              <a:gsLst>
                <a:gs pos="0">
                  <a:srgbClr val="7da0d3"/>
                </a:gs>
                <a:gs pos="100000">
                  <a:srgbClr val="39496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"/>
            <p:cNvGrpSpPr/>
            <p:nvPr/>
          </p:nvGrpSpPr>
          <p:grpSpPr>
            <a:xfrm>
              <a:off x="5728680" y="2331720"/>
              <a:ext cx="1218600" cy="131760"/>
              <a:chOff x="5728680" y="2331720"/>
              <a:chExt cx="1218600" cy="131760"/>
            </a:xfrm>
          </p:grpSpPr>
          <p:sp>
            <p:nvSpPr>
              <p:cNvPr id="534" name=""/>
              <p:cNvSpPr/>
              <p:nvPr/>
            </p:nvSpPr>
            <p:spPr>
              <a:xfrm>
                <a:off x="5728680" y="233172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845320" y="23328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762600" y="233388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861240" y="237492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"/>
            <p:cNvSpPr/>
            <p:nvPr/>
          </p:nvSpPr>
          <p:spPr>
            <a:xfrm rot="3418800">
              <a:off x="6413760" y="2093760"/>
              <a:ext cx="924120" cy="10040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1442520" y="24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195000" y="24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795200" y="24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548040" y="24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449000" y="373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201480" y="373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953960" y="373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706800" y="373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157400" y="5746680"/>
            <a:ext cx="6078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da0d3"/>
                </a:solidFill>
                <a:uFillTx/>
                <a:latin typeface="Arial"/>
                <a:hlinkClick r:id="rId1"/>
              </a:rPr>
              <a:t>国外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7da0d3"/>
                </a:solidFill>
                <a:uFillTx/>
                <a:latin typeface="Arial"/>
                <a:hlinkClick r:id="rId2"/>
              </a:rPr>
              <a:t>http://www.eeppt.com/moban/guow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855360"/>
            <a:ext cx="739152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685800" y="2184480"/>
          <a:ext cx="7620120" cy="317160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37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e385"/>
                        </a:gs>
                        <a:gs pos="100000">
                          <a:srgbClr val="d6ef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e385"/>
                        </a:gs>
                        <a:gs pos="100000">
                          <a:srgbClr val="d6ef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e385"/>
                        </a:gs>
                        <a:gs pos="100000">
                          <a:srgbClr val="d6ef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e385"/>
                        </a:gs>
                        <a:gs pos="100000">
                          <a:srgbClr val="d6ef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e385"/>
                        </a:gs>
                        <a:gs pos="100000">
                          <a:srgbClr val="d6ef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e385"/>
                        </a:gs>
                        <a:gs pos="100000">
                          <a:srgbClr val="d6ef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855360"/>
            <a:ext cx="739152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990000" y="1173600"/>
            <a:ext cx="6879600" cy="4804560"/>
            <a:chOff x="990000" y="1173600"/>
            <a:chExt cx="6879600" cy="4804560"/>
          </a:xfrm>
        </p:grpSpPr>
        <p:sp>
          <p:nvSpPr>
            <p:cNvPr id="552" name=""/>
            <p:cNvSpPr/>
            <p:nvPr/>
          </p:nvSpPr>
          <p:spPr>
            <a:xfrm>
              <a:off x="2187720" y="438948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929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20601600">
              <a:off x="1332000" y="219996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20601600">
              <a:off x="1388880" y="203796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20601600">
              <a:off x="1303200" y="2023920"/>
              <a:ext cx="5701680" cy="29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 rot="20602200">
              <a:off x="1281240" y="2054880"/>
              <a:ext cx="5752440" cy="28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20601600">
              <a:off x="1312920" y="2035080"/>
              <a:ext cx="56790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 rot="20602200">
              <a:off x="1295280" y="2042640"/>
              <a:ext cx="5699880" cy="28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20601600">
              <a:off x="2849760" y="275256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165040" y="2975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070160" y="2060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46320" y="25178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未知"/>
            <p:cNvSpPr/>
            <p:nvPr/>
          </p:nvSpPr>
          <p:spPr>
            <a:xfrm>
              <a:off x="6172200" y="3051000"/>
              <a:ext cx="129564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20539200">
              <a:off x="1307520" y="2053440"/>
              <a:ext cx="6257520" cy="297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01" y="14046"/>
                  </a:moveTo>
                  <a:arcTo wR="10800" hR="10800" stAng="1049521" swAng="2830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01" y="14046"/>
                  </a:moveTo>
                  <a:arcTo wR="10800" hR="10800" stAng="1049521" swAng="2830486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未知"/>
            <p:cNvSpPr/>
            <p:nvPr/>
          </p:nvSpPr>
          <p:spPr>
            <a:xfrm>
              <a:off x="4471920" y="353232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e8d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746320" y="35082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993840" y="4270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088720" y="4118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20601600">
              <a:off x="2951280" y="300528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未知"/>
            <p:cNvSpPr/>
            <p:nvPr/>
          </p:nvSpPr>
          <p:spPr>
            <a:xfrm>
              <a:off x="4648320" y="392760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400" y="855360"/>
            <a:ext cx="739152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7f9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e4e6b"/>
              </a:gs>
              <a:gs pos="50000">
                <a:srgbClr val="65aae9"/>
              </a:gs>
              <a:gs pos="100000">
                <a:srgbClr val="2e4e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76" name=""/>
            <p:cNvSpPr/>
            <p:nvPr/>
          </p:nvSpPr>
          <p:spPr>
            <a:xfrm>
              <a:off x="693396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781680" y="4481640"/>
              <a:ext cx="1544760" cy="15447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708f54"/>
                </a:gs>
                <a:gs pos="100000">
                  <a:srgbClr val="b2e385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8720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80a460"/>
                </a:gs>
                <a:gs pos="100000">
                  <a:srgbClr val="b2e3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0" name="" descr="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7131240" y="51008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83" name="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800600" y="4481640"/>
              <a:ext cx="1544760" cy="15447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f6b93"/>
                </a:gs>
                <a:gs pos="100000">
                  <a:srgbClr val="65aae9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487aa8"/>
                </a:gs>
                <a:gs pos="100000">
                  <a:srgbClr val="65aae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7" name="" descr="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"/>
            <p:cNvSpPr/>
            <p:nvPr/>
          </p:nvSpPr>
          <p:spPr>
            <a:xfrm>
              <a:off x="5150160" y="51008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90" name=""/>
            <p:cNvSpPr/>
            <p:nvPr/>
          </p:nvSpPr>
          <p:spPr>
            <a:xfrm>
              <a:off x="297144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819520" y="4481640"/>
              <a:ext cx="1544400" cy="15447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852640" y="4518000"/>
              <a:ext cx="1472760" cy="1474920"/>
            </a:xfrm>
            <a:prstGeom prst="ellipse">
              <a:avLst/>
            </a:prstGeom>
            <a:gradFill rotWithShape="0">
              <a:gsLst>
                <a:gs pos="0">
                  <a:srgbClr val="4f6585"/>
                </a:gs>
                <a:gs pos="100000">
                  <a:srgbClr val="7da0d3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0952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5a7398"/>
                </a:gs>
                <a:gs pos="100000">
                  <a:srgbClr val="7da0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4" name="" descr="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7400" cy="9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3168720" y="51008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97" name=""/>
            <p:cNvSpPr/>
            <p:nvPr/>
          </p:nvSpPr>
          <p:spPr>
            <a:xfrm>
              <a:off x="99036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80920" y="4481640"/>
              <a:ext cx="1544760" cy="154476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16266a"/>
                </a:gs>
                <a:gs pos="100000">
                  <a:srgbClr val="233da9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9712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192c7a"/>
                </a:gs>
                <a:gs pos="100000">
                  <a:srgbClr val="233da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1" name="" descr="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1230480" y="51008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855360"/>
            <a:ext cx="739152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828800" y="2023920"/>
            <a:ext cx="762120" cy="665280"/>
            <a:chOff x="1828800" y="2023920"/>
            <a:chExt cx="762120" cy="665280"/>
          </a:xfrm>
        </p:grpSpPr>
        <p:sp>
          <p:nvSpPr>
            <p:cNvPr id="113" name=""/>
            <p:cNvSpPr/>
            <p:nvPr/>
          </p:nvSpPr>
          <p:spPr>
            <a:xfrm>
              <a:off x="1834920" y="20350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28800" y="202392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73080" y="206316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b2e385"/>
                </a:gs>
                <a:gs pos="100000">
                  <a:srgbClr val="52683d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828800" y="2938320"/>
            <a:ext cx="762120" cy="665280"/>
            <a:chOff x="1828800" y="2938320"/>
            <a:chExt cx="762120" cy="665280"/>
          </a:xfrm>
        </p:grpSpPr>
        <p:sp>
          <p:nvSpPr>
            <p:cNvPr id="117" name=""/>
            <p:cNvSpPr/>
            <p:nvPr/>
          </p:nvSpPr>
          <p:spPr>
            <a:xfrm>
              <a:off x="1834920" y="2949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28800" y="293832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73080" y="297756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65aae9"/>
                </a:gs>
                <a:gs pos="100000">
                  <a:srgbClr val="2e4e6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2438280" y="26337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66880" y="210024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27520" y="2122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38280" y="3548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301464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27520" y="3036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828800" y="3830760"/>
            <a:ext cx="762120" cy="664920"/>
            <a:chOff x="1828800" y="3830760"/>
            <a:chExt cx="762120" cy="664920"/>
          </a:xfrm>
        </p:grpSpPr>
        <p:sp>
          <p:nvSpPr>
            <p:cNvPr id="127" name=""/>
            <p:cNvSpPr/>
            <p:nvPr/>
          </p:nvSpPr>
          <p:spPr>
            <a:xfrm>
              <a:off x="1834920" y="38419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28800" y="38307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73080" y="387000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b2e385"/>
                </a:gs>
                <a:gs pos="100000">
                  <a:srgbClr val="52683d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828800" y="4745160"/>
            <a:ext cx="762120" cy="664920"/>
            <a:chOff x="1828800" y="4745160"/>
            <a:chExt cx="762120" cy="664920"/>
          </a:xfrm>
        </p:grpSpPr>
        <p:sp>
          <p:nvSpPr>
            <p:cNvPr id="131" name=""/>
            <p:cNvSpPr/>
            <p:nvPr/>
          </p:nvSpPr>
          <p:spPr>
            <a:xfrm>
              <a:off x="1834920" y="4756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28800" y="47451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73080" y="478440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65aae9"/>
                </a:gs>
                <a:gs pos="100000">
                  <a:srgbClr val="2e4e6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2438280" y="4440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390672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27520" y="3929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535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6880" y="482112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27520" y="4843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F4F5-0529-49FC-8568-9452BB4B9E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2133720" y="2743200"/>
            <a:ext cx="4724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33da9"/>
                    </a:gs>
                    <a:gs pos="100000">
                      <a:srgbClr val="7da0d3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33da9"/>
                  </a:gs>
                  <a:gs pos="100000">
                    <a:srgbClr val="7da0d3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855360"/>
            <a:ext cx="739152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简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77600"/>
            <a:ext cx="822960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855360"/>
            <a:ext cx="739152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6272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38400" y="34765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未知"/>
          <p:cNvSpPr/>
          <p:nvPr/>
        </p:nvSpPr>
        <p:spPr>
          <a:xfrm>
            <a:off x="322272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de3f7"/>
              </a:gs>
              <a:gs pos="100000">
                <a:srgbClr val="65aae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未知"/>
          <p:cNvSpPr/>
          <p:nvPr/>
        </p:nvSpPr>
        <p:spPr>
          <a:xfrm flipH="1">
            <a:off x="48744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de3f7"/>
              </a:gs>
              <a:gs pos="100000">
                <a:srgbClr val="65aae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048120" y="1552680"/>
            <a:ext cx="2998440" cy="1601280"/>
            <a:chOff x="3048120" y="1552680"/>
            <a:chExt cx="2998440" cy="1601280"/>
          </a:xfrm>
        </p:grpSpPr>
        <p:grpSp>
          <p:nvGrpSpPr>
            <p:cNvPr id="149" name=""/>
            <p:cNvGrpSpPr/>
            <p:nvPr/>
          </p:nvGrpSpPr>
          <p:grpSpPr>
            <a:xfrm>
              <a:off x="3048120" y="1695600"/>
              <a:ext cx="2998440" cy="1458360"/>
              <a:chOff x="3048120" y="1695600"/>
              <a:chExt cx="2998440" cy="1458360"/>
            </a:xfrm>
          </p:grpSpPr>
          <p:sp>
            <p:nvSpPr>
              <p:cNvPr id="150" name=""/>
              <p:cNvSpPr/>
              <p:nvPr/>
            </p:nvSpPr>
            <p:spPr>
              <a:xfrm>
                <a:off x="3080880" y="174204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3c4d66"/>
                  </a:gs>
                  <a:gs pos="100000">
                    <a:srgbClr val="7da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048120" y="169560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7da0d3"/>
                  </a:gs>
                  <a:gs pos="100000">
                    <a:srgbClr val="c4d4e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3189240" y="15526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65aae9"/>
                </a:gs>
                <a:gs pos="100000">
                  <a:srgbClr val="2e4e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24160" y="156060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c8e0f6"/>
                </a:gs>
                <a:gs pos="100000">
                  <a:srgbClr val="65aae9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1160" y="157320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65aae9">
                    <a:alpha val="48235"/>
                  </a:srgbClr>
                </a:gs>
                <a:gs pos="100000">
                  <a:srgbClr val="4f86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382920" y="160020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65aae9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3882960" y="17524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35053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855360"/>
            <a:ext cx="739152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60" name="未知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3f3f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20056200">
              <a:off x="4343040" y="27428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20056200">
              <a:off x="7010280" y="28951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0056200">
              <a:off x="2895480" y="556236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20056200">
              <a:off x="5486040" y="49525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20056200">
              <a:off x="2057040" y="41144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7da0d3"/>
                </a:gs>
                <a:gs pos="100000">
                  <a:srgbClr val="2a37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65aae9"/>
                </a:gs>
                <a:gs pos="100000">
                  <a:srgbClr val="1f35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3f3f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692aa2"/>
                </a:gs>
                <a:gs pos="100000">
                  <a:srgbClr val="250e3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b2e385"/>
                </a:gs>
                <a:gs pos="100000">
                  <a:srgbClr val="3d4e2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12704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9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855360"/>
            <a:ext cx="739152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4114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e4e6b"/>
              </a:gs>
              <a:gs pos="50000">
                <a:srgbClr val="65aae9"/>
              </a:gs>
              <a:gs pos="100000">
                <a:srgbClr val="2e4e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57600" y="35812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e4e6b"/>
              </a:gs>
              <a:gs pos="50000">
                <a:srgbClr val="65aae9"/>
              </a:gs>
              <a:gs pos="100000">
                <a:srgbClr val="2e4e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657600" y="30481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e4e6b"/>
              </a:gs>
              <a:gs pos="50000">
                <a:srgbClr val="65aae9"/>
              </a:gs>
              <a:gs pos="100000">
                <a:srgbClr val="2e4e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198680" y="32781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98680" y="38116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198680" y="43448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71800" y="281952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656565">
                  <a:alpha val="12156"/>
                </a:srgbClr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90720" y="228600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66680" y="251460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72200" y="228600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251460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489640" y="281952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dddddd"/>
              </a:gs>
              <a:gs pos="100000">
                <a:srgbClr val="656565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167652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394961"/>
              </a:gs>
              <a:gs pos="50000">
                <a:srgbClr val="7da0d3"/>
              </a:gs>
              <a:gs pos="100000">
                <a:srgbClr val="39496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24120" y="2438280"/>
            <a:ext cx="1752840" cy="533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dddddd"/>
              </a:gs>
              <a:gs pos="100000">
                <a:srgbClr val="e8e8e8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74920" y="19098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71800" y="5410080"/>
            <a:ext cx="3048120" cy="60984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d"/>
              </a:gs>
              <a:gs pos="50000">
                <a:srgbClr val="44bd41"/>
              </a:gs>
              <a:gs pos="100000">
                <a:srgbClr val="1f571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74920" y="5643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602160" y="480060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e8e8e8">
                  <a:alpha val="12156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855360"/>
            <a:ext cx="739152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895480" y="2057400"/>
            <a:ext cx="3197160" cy="2890800"/>
            <a:chOff x="2895480" y="2057400"/>
            <a:chExt cx="3197160" cy="2890800"/>
          </a:xfrm>
        </p:grpSpPr>
        <p:sp>
          <p:nvSpPr>
            <p:cNvPr id="201" name=""/>
            <p:cNvSpPr/>
            <p:nvPr/>
          </p:nvSpPr>
          <p:spPr>
            <a:xfrm flipH="1" rot="16200000">
              <a:off x="2813760" y="3165840"/>
              <a:ext cx="490680" cy="32760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8b2dc"/>
                </a:gs>
                <a:gs pos="100000">
                  <a:srgbClr val="233da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rot="5400000">
              <a:off x="5683320" y="3111480"/>
              <a:ext cx="490680" cy="32760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8b2dc"/>
                </a:gs>
                <a:gs pos="100000">
                  <a:srgbClr val="233da9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rot="10800000">
              <a:off x="4252680" y="4621320"/>
              <a:ext cx="49032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8b2dc"/>
                </a:gs>
                <a:gs pos="100000">
                  <a:srgbClr val="233da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23080" y="2057400"/>
              <a:ext cx="257040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69600" y="2201760"/>
              <a:ext cx="227592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03520" y="2336760"/>
              <a:ext cx="200844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da0d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3520" y="2336760"/>
              <a:ext cx="200844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35640" y="2468520"/>
              <a:ext cx="1744200" cy="1743120"/>
            </a:xfrm>
            <a:prstGeom prst="ellipse">
              <a:avLst/>
            </a:prstGeom>
            <a:gradFill rotWithShape="0">
              <a:gsLst>
                <a:gs pos="0">
                  <a:srgbClr val="435671"/>
                </a:gs>
                <a:gs pos="50000">
                  <a:srgbClr val="7da0d3"/>
                </a:gs>
                <a:gs pos="100000">
                  <a:srgbClr val="43567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35640" y="2468520"/>
              <a:ext cx="174420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838080" y="36576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2683d"/>
              </a:gs>
              <a:gs pos="50000">
                <a:srgbClr val="b2e385"/>
              </a:gs>
              <a:gs pos="100000">
                <a:srgbClr val="52683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31240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2683d"/>
              </a:gs>
              <a:gs pos="50000">
                <a:srgbClr val="b2e385"/>
              </a:gs>
              <a:gs pos="100000">
                <a:srgbClr val="52683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38080" y="25909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2683d"/>
              </a:gs>
              <a:gs pos="50000">
                <a:srgbClr val="b2e385"/>
              </a:gs>
              <a:gs pos="100000">
                <a:srgbClr val="52683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24480" y="36576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e4e6b"/>
              </a:gs>
              <a:gs pos="50000">
                <a:srgbClr val="65aae9"/>
              </a:gs>
              <a:gs pos="100000">
                <a:srgbClr val="2e4e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24480" y="31240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e4e6b"/>
              </a:gs>
              <a:gs pos="50000">
                <a:srgbClr val="65aae9"/>
              </a:gs>
              <a:gs pos="100000">
                <a:srgbClr val="2e4e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324480" y="25909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e4e6b"/>
              </a:gs>
              <a:gs pos="50000">
                <a:srgbClr val="65aae9"/>
              </a:gs>
              <a:gs pos="100000">
                <a:srgbClr val="2e4e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12400" y="312408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57440" y="5105520"/>
            <a:ext cx="3886200" cy="533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5aae9"/>
              </a:gs>
              <a:gs pos="50000">
                <a:srgbClr val="f9fbfd"/>
              </a:gs>
              <a:gs pos="100000">
                <a:srgbClr val="65aae9"/>
              </a:gs>
            </a:gsLst>
            <a:lin ang="10800000"/>
          </a:gradFill>
          <a:ln w="38160">
            <a:solidFill>
              <a:srgbClr val="233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373040" y="2747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73040" y="3281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73040" y="3814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992640" y="2747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992640" y="3281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992640" y="3814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855360"/>
            <a:ext cx="739152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26" name="未知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4821480" y="1752480"/>
              <a:ext cx="356004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3936240" y="2726640"/>
              <a:ext cx="3827520" cy="6260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未知"/>
            <p:cNvSpPr/>
            <p:nvPr/>
          </p:nvSpPr>
          <p:spPr>
            <a:xfrm>
              <a:off x="6524280" y="3691440"/>
              <a:ext cx="610560" cy="979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未知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未知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914400" y="2734920"/>
              <a:ext cx="391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04840" y="1752480"/>
              <a:ext cx="0" cy="101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104840" y="27626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未知"/>
            <p:cNvSpPr/>
            <p:nvPr/>
          </p:nvSpPr>
          <p:spPr>
            <a:xfrm>
              <a:off x="2808000" y="1941840"/>
              <a:ext cx="195732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26880" y="2379960"/>
              <a:ext cx="2948040" cy="35172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37680" y="3353040"/>
              <a:ext cx="3212640" cy="34524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未知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61080" y="4321800"/>
              <a:ext cx="3476880" cy="34524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76200" y="5290560"/>
              <a:ext cx="3741120" cy="34488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141920" y="5021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855360"/>
            <a:ext cx="739152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1828800"/>
            <a:ext cx="5715000" cy="4495680"/>
          </a:xfrm>
          <a:prstGeom prst="rightArrow">
            <a:avLst>
              <a:gd name="adj1" fmla="val 79306"/>
              <a:gd name="adj2" fmla="val 31486"/>
            </a:avLst>
          </a:prstGeom>
          <a:gradFill rotWithShape="0">
            <a:gsLst>
              <a:gs pos="0">
                <a:srgbClr val="dddddd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38080" y="24382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5aae9"/>
              </a:gs>
              <a:gs pos="100000">
                <a:srgbClr val="2e4e6b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38080" y="35812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0482b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38080" y="47242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33526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116000" y="5375160"/>
            <a:ext cx="6121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7da0d3"/>
                </a:solidFill>
                <a:uFillTx/>
                <a:latin typeface="Arial"/>
                <a:hlinkClick r:id="rId1"/>
              </a:rPr>
              <a:t>外国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guow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/>
  <dc:description/>
  <dc:language>en-US</dc:language>
  <cp:lastModifiedBy>Sung Ha, Park</cp:lastModifiedBy>
  <dcterms:modified xsi:type="dcterms:W3CDTF">2015-07-04T08:27:14Z</dcterms:modified>
  <cp:revision>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