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16.png" ContentType="image/png"/>
  <Override PartName="/ppt/media/image1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5E0-76AC-44AC-8D63-177F3A35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40B-57AB-4E25-8F18-688DD9E2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8F4-9BE7-4ADD-9C7E-90F3F09A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68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1340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2996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2168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1340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27D-0791-4578-A1D9-EA311F5F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0214-0CD3-455D-A1EC-E37AB0C3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B91F-284B-4960-A0B6-E900F8C1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1E70-92BE-403A-B73D-B824F3C6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91BF-8266-4030-8DBC-2C038C68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C391-6947-43D2-A7B7-28764B6D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55520" y="64800"/>
            <a:ext cx="79581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4260-6C08-42F0-B440-B0020803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ED74-5A30-4F85-AF39-271A42D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F20-B52B-454C-9886-7558D0EA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4066-A989-47D8-82B6-E20501B9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A92C-0733-424E-A9FF-FE7E45D0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05C0-82AB-4CFD-9765-193B7518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5686-DCA8-44B8-BC7C-FAB3D3BC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2168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13400" y="116352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02996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72168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13400" y="3963960"/>
            <a:ext cx="25632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EC9D-ED1E-4B2B-8D1F-891DAA71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AE1-C6F2-4163-80F3-FAF6A1E9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DD3-5226-4A25-8267-32B9083F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AA4-31C9-4DE0-81A2-1DFC464B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55520" y="64800"/>
            <a:ext cx="795816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41A-5C23-412A-91A9-8E2EAA7F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306-4527-4C9A-B18F-3298E84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09840" y="396396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DFC-331A-46F5-8F11-B6248235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996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9840" y="1163520"/>
            <a:ext cx="38851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9960" y="3963960"/>
            <a:ext cx="79614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371-51B5-45EC-952D-3A7290FE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01600" y="1000080"/>
            <a:ext cx="7834320" cy="0"/>
          </a:xfrm>
          <a:prstGeom prst="line">
            <a:avLst/>
          </a:prstGeom>
          <a:ln w="12600">
            <a:solidFill>
              <a:srgbClr val="458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70000" y="0"/>
            <a:ext cx="284040" cy="6889680"/>
          </a:xfrm>
          <a:prstGeom prst="rect">
            <a:avLst/>
          </a:prstGeom>
          <a:solidFill>
            <a:srgbClr val="4a9a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6480" y="0"/>
            <a:ext cx="324000" cy="68580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152b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9160" y="-7920"/>
            <a:ext cx="71640" cy="686592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07960" y="0"/>
            <a:ext cx="168480" cy="68659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62040" y="0"/>
            <a:ext cx="114120" cy="68724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29960" y="1163520"/>
            <a:ext cx="79614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52cc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52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77480" y="661680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838480" y="66168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4187520" y="6616800"/>
            <a:ext cx="66204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08E0-1243-40CD-8FCA-70262ED7D9D1}" type="slidenum"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38120" y="1892160"/>
            <a:ext cx="619200" cy="614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8f8f8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42800" y="316080"/>
            <a:ext cx="603360" cy="596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8f8f8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30200" y="1128600"/>
            <a:ext cx="603360" cy="59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8f8f8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71880" y="0"/>
            <a:ext cx="1417680" cy="6858000"/>
          </a:xfrm>
          <a:prstGeom prst="rect">
            <a:avLst/>
          </a:prstGeom>
          <a:solidFill>
            <a:srgbClr val="4a9a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3152880" cy="68580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3f83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02280" y="-4680"/>
            <a:ext cx="303480" cy="6851520"/>
          </a:xfrm>
          <a:prstGeom prst="rect">
            <a:avLst/>
          </a:prstGeom>
          <a:solidFill>
            <a:srgbClr val="4a9a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57880" y="12600"/>
            <a:ext cx="227160" cy="68580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5080" y="0"/>
            <a:ext cx="1060560" cy="6858000"/>
          </a:xfrm>
          <a:prstGeom prst="rect">
            <a:avLst/>
          </a:prstGeom>
          <a:solidFill>
            <a:srgbClr val="4a9acc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9320" y="-11160"/>
            <a:ext cx="728640" cy="69325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8120" y="-12600"/>
            <a:ext cx="547920" cy="6932520"/>
          </a:xfrm>
          <a:prstGeom prst="rect">
            <a:avLst/>
          </a:prstGeom>
          <a:solidFill>
            <a:srgbClr val="4a9a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05560" y="0"/>
            <a:ext cx="446040" cy="68580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8960" y="52560"/>
            <a:ext cx="136440" cy="6858000"/>
          </a:xfrm>
          <a:prstGeom prst="rect">
            <a:avLst/>
          </a:prstGeom>
          <a:solidFill>
            <a:srgbClr val="4a9a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66040" y="20520"/>
            <a:ext cx="344520" cy="6858000"/>
          </a:xfrm>
          <a:prstGeom prst="rect">
            <a:avLst/>
          </a:prstGeom>
          <a:solidFill>
            <a:srgbClr val="4a9a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64480" y="0"/>
            <a:ext cx="474840" cy="6858000"/>
          </a:xfrm>
          <a:prstGeom prst="rect">
            <a:avLst/>
          </a:prstGeom>
          <a:solidFill>
            <a:srgbClr val="4a9acc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120" y="600696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53480" y="4680"/>
            <a:ext cx="136440" cy="6858000"/>
          </a:xfrm>
          <a:prstGeom prst="rect">
            <a:avLst/>
          </a:prstGeom>
          <a:solidFill>
            <a:srgbClr val="4a9a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45280" y="4680"/>
            <a:ext cx="168480" cy="6858000"/>
          </a:xfrm>
          <a:prstGeom prst="rect">
            <a:avLst/>
          </a:prstGeom>
          <a:solidFill>
            <a:srgbClr val="4a9acc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177040" y="-4680"/>
            <a:ext cx="230400" cy="6851520"/>
          </a:xfrm>
          <a:prstGeom prst="rect">
            <a:avLst/>
          </a:prstGeom>
          <a:solidFill>
            <a:srgbClr val="4a9a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1960" y="1314360"/>
            <a:ext cx="51055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4"/>
          </p:nvPr>
        </p:nvSpPr>
        <p:spPr>
          <a:xfrm>
            <a:off x="3552480" y="6533640"/>
            <a:ext cx="289548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5"/>
          </p:nvPr>
        </p:nvSpPr>
        <p:spPr>
          <a:xfrm>
            <a:off x="6900480" y="652572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3011040" y="6527880"/>
            <a:ext cx="373320" cy="23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AE55-B869-4C63-9983-B16C0A4694FD}" type="slidenum">
              <a:rPr b="0" lang="en-US" sz="1200" spc="-1" strike="noStrike">
                <a:solidFill>
                  <a:srgbClr val="3031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11d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0311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82a7"/>
              </a:buClr>
              <a:buSzPct val="85000"/>
              <a:buFont typeface="Wingdings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0311d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5.png"/><Relationship Id="rId10" Type="http://schemas.openxmlformats.org/officeDocument/2006/relationships/hyperlink" Target="http://www.eeppt.com/moban/guowai/" TargetMode="External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9.wmf"/><Relationship Id="rId6" Type="http://schemas.openxmlformats.org/officeDocument/2006/relationships/image" Target="../media/image7.png"/><Relationship Id="rId7" Type="http://schemas.openxmlformats.org/officeDocument/2006/relationships/image" Target="../media/image9.wmf"/><Relationship Id="rId8" Type="http://schemas.openxmlformats.org/officeDocument/2006/relationships/image" Target="../media/image7.png"/><Relationship Id="rId9" Type="http://schemas.openxmlformats.org/officeDocument/2006/relationships/image" Target="../media/image9.wmf"/><Relationship Id="rId10" Type="http://schemas.openxmlformats.org/officeDocument/2006/relationships/image" Target="../media/image7.png"/><Relationship Id="rId11" Type="http://schemas.openxmlformats.org/officeDocument/2006/relationships/image" Target="../media/image9.wmf"/><Relationship Id="rId12" Type="http://schemas.openxmlformats.org/officeDocument/2006/relationships/image" Target="../media/image7.png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image" Target="../media/image10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image" Target="../media/image7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5780160" y="5479920"/>
            <a:ext cx="669960" cy="654120"/>
            <a:chOff x="5780160" y="5479920"/>
            <a:chExt cx="669960" cy="654120"/>
          </a:xfrm>
        </p:grpSpPr>
        <p:sp>
          <p:nvSpPr>
            <p:cNvPr id="107" name=""/>
            <p:cNvSpPr/>
            <p:nvPr/>
          </p:nvSpPr>
          <p:spPr>
            <a:xfrm>
              <a:off x="5780160" y="5479920"/>
              <a:ext cx="669960" cy="654120"/>
            </a:xfrm>
            <a:prstGeom prst="ellipse">
              <a:avLst/>
            </a:prstGeom>
            <a:gradFill rotWithShape="0">
              <a:gsLst>
                <a:gs pos="0">
                  <a:srgbClr val="1e3949"/>
                </a:gs>
                <a:gs pos="50000">
                  <a:srgbClr val="4582a7"/>
                </a:gs>
                <a:gs pos="100000">
                  <a:srgbClr val="1e39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5804640" y="5482440"/>
              <a:ext cx="6112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7170840" y="5029200"/>
            <a:ext cx="349200" cy="339840"/>
            <a:chOff x="7170840" y="5029200"/>
            <a:chExt cx="349200" cy="339840"/>
          </a:xfrm>
        </p:grpSpPr>
        <p:sp>
          <p:nvSpPr>
            <p:cNvPr id="110" name=""/>
            <p:cNvSpPr/>
            <p:nvPr/>
          </p:nvSpPr>
          <p:spPr>
            <a:xfrm>
              <a:off x="7170840" y="5029200"/>
              <a:ext cx="349200" cy="339840"/>
            </a:xfrm>
            <a:prstGeom prst="ellipse">
              <a:avLst/>
            </a:prstGeom>
            <a:gradFill rotWithShape="0">
              <a:gsLst>
                <a:gs pos="0">
                  <a:srgbClr val="4e4d35"/>
                </a:gs>
                <a:gs pos="50000">
                  <a:srgbClr val="b2af7a"/>
                </a:gs>
                <a:gs pos="100000">
                  <a:srgbClr val="4e4d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7183440" y="5030280"/>
              <a:ext cx="31860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3960720" y="4986360"/>
            <a:ext cx="1082880" cy="1071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71680"/>
            <a:ext cx="2759040" cy="2730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51120" y="3505320"/>
            <a:ext cx="1911240" cy="1892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31720" y="1314360"/>
            <a:ext cx="5675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外国蓝色商务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1760" y="257976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582a7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4582a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37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559 -0.10479 C 0.0559 -0.10456 0.05156 -0.05136 0.0401 -0.02661 C 0.02864 -0.00185 -0.00226 0.00462 -0.0184 -0.00579 E">
                                      <p:cBhvr>
                                        <p:cTn id="11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4236 -0.15476 C 0.14236 -0.15452 0.12535 -0.04603 0.10382 -0.01758 C 0.08229 0.01087 0.00382 0.02244 -0.0342 0.01874 E">
                                      <p:cBhvr>
                                        <p:cTn id="18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8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286000" y="1486080"/>
            <a:ext cx="4799520" cy="4723560"/>
            <a:chOff x="2286000" y="1486080"/>
            <a:chExt cx="4799520" cy="4723560"/>
          </a:xfrm>
        </p:grpSpPr>
        <p:grpSp>
          <p:nvGrpSpPr>
            <p:cNvPr id="598" name=""/>
            <p:cNvGrpSpPr/>
            <p:nvPr/>
          </p:nvGrpSpPr>
          <p:grpSpPr>
            <a:xfrm>
              <a:off x="3709080" y="1486080"/>
              <a:ext cx="1953360" cy="1572480"/>
              <a:chOff x="3709080" y="1486080"/>
              <a:chExt cx="1953360" cy="157248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3709080" y="1486080"/>
                <a:ext cx="1953360" cy="1572480"/>
                <a:chOff x="3709080" y="1486080"/>
                <a:chExt cx="1953360" cy="15724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3725280" y="151272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709080" y="148608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822480" y="157896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4065840" y="183024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2286000" y="2270160"/>
              <a:ext cx="1955160" cy="1572480"/>
              <a:chOff x="2286000" y="2270160"/>
              <a:chExt cx="1955160" cy="157248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2286000" y="2270160"/>
                <a:ext cx="1955160" cy="1572480"/>
                <a:chOff x="2286000" y="2270160"/>
                <a:chExt cx="1955160" cy="157248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2302200" y="229680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86000" y="227016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399400" y="236304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49ace3"/>
                    </a:gs>
                    <a:gs pos="100000">
                      <a:srgbClr val="44a1d4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2651040" y="260460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3709080" y="3058920"/>
              <a:ext cx="1953360" cy="1572480"/>
              <a:chOff x="3709080" y="3058920"/>
              <a:chExt cx="1953360" cy="157248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3709080" y="3058920"/>
                <a:ext cx="1953360" cy="1572480"/>
                <a:chOff x="3709080" y="3058920"/>
                <a:chExt cx="1953360" cy="15724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3725280" y="308556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709080" y="305892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822480" y="315180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172f5e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"/>
              <p:cNvSpPr/>
              <p:nvPr/>
            </p:nvSpPr>
            <p:spPr>
              <a:xfrm>
                <a:off x="4034520" y="340992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5130360" y="2270160"/>
              <a:ext cx="1955160" cy="1572480"/>
              <a:chOff x="5130360" y="2270160"/>
              <a:chExt cx="1955160" cy="157248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5130360" y="2270160"/>
                <a:ext cx="1955160" cy="1572480"/>
                <a:chOff x="5130360" y="2270160"/>
                <a:chExt cx="1955160" cy="15724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5146560" y="229680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130360" y="227016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243760" y="236304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d5559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>
                <a:off x="5493960" y="262116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130360" y="3848040"/>
              <a:ext cx="1955160" cy="1572480"/>
              <a:chOff x="5130360" y="3848040"/>
              <a:chExt cx="1955160" cy="157248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5130360" y="3848040"/>
                <a:ext cx="1955160" cy="1572480"/>
                <a:chOff x="5130360" y="3848040"/>
                <a:chExt cx="1955160" cy="15724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5146560" y="387468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130360" y="384804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243760" y="394092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41d592"/>
                    </a:gs>
                    <a:gs pos="100000">
                      <a:srgbClr val="216c4a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529960" y="425772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286000" y="3848040"/>
              <a:ext cx="1955160" cy="1572480"/>
              <a:chOff x="2286000" y="3848040"/>
              <a:chExt cx="1955160" cy="157248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286000" y="3848040"/>
                <a:ext cx="1955160" cy="1572480"/>
                <a:chOff x="2286000" y="3848040"/>
                <a:chExt cx="1955160" cy="15724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302200" y="3874680"/>
                  <a:ext cx="1938960" cy="1545840"/>
                </a:xfrm>
                <a:prstGeom prst="hexagon">
                  <a:avLst>
                    <a:gd name="adj" fmla="val 3135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286000" y="3848040"/>
                  <a:ext cx="1938960" cy="1545480"/>
                </a:xfrm>
                <a:prstGeom prst="hexagon">
                  <a:avLst>
                    <a:gd name="adj" fmla="val 313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399400" y="3940920"/>
                  <a:ext cx="1703880" cy="1359000"/>
                </a:xfrm>
                <a:prstGeom prst="hexagon">
                  <a:avLst>
                    <a:gd name="adj" fmla="val 31344"/>
                    <a:gd name="vf" fmla="val 115470"/>
                  </a:avLst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81a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2651040" y="417924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709080" y="4637160"/>
              <a:ext cx="1953360" cy="1572480"/>
              <a:chOff x="3709080" y="4637160"/>
              <a:chExt cx="1953360" cy="157248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3709080" y="4637160"/>
                <a:ext cx="1953360" cy="1572480"/>
                <a:chOff x="3709080" y="4637160"/>
                <a:chExt cx="1953360" cy="15724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725280" y="4663800"/>
                  <a:ext cx="1937160" cy="1545840"/>
                </a:xfrm>
                <a:prstGeom prst="hexagon">
                  <a:avLst>
                    <a:gd name="adj" fmla="val 3132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709080" y="4637160"/>
                  <a:ext cx="1937160" cy="1545480"/>
                </a:xfrm>
                <a:prstGeom prst="hexagon">
                  <a:avLst>
                    <a:gd name="adj" fmla="val 31336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822480" y="4730040"/>
                  <a:ext cx="1702440" cy="1359000"/>
                </a:xfrm>
                <a:prstGeom prst="hexagon">
                  <a:avLst>
                    <a:gd name="adj" fmla="val 31318"/>
                    <a:gd name="vf" fmla="val 115470"/>
                  </a:avLst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75e5e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>
                <a:off x="4072680" y="4988160"/>
                <a:ext cx="123516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30311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ext</a:t>
                </a:r>
                <a:endParaRPr b="0" lang="en-US" sz="14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未知"/>
          <p:cNvSpPr/>
          <p:nvPr/>
        </p:nvSpPr>
        <p:spPr>
          <a:xfrm>
            <a:off x="1582560" y="239724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1b3342"/>
              </a:gs>
              <a:gs pos="50000">
                <a:srgbClr val="4582a7"/>
              </a:gs>
              <a:gs pos="100000">
                <a:srgbClr val="1b33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603520" y="272880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462480" y="3041640"/>
            <a:ext cx="25056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397400" y="334332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47040" y="3965400"/>
            <a:ext cx="536400" cy="64800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95760" y="370512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257560" y="2090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149640" y="21049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32440" y="2108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64280" y="210168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454800" y="209880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68560" y="3054240"/>
            <a:ext cx="226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84440" y="3519360"/>
            <a:ext cx="24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79760" y="40575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732120" y="459432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21320" y="52149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cxnSp>
        <p:nvCxnSpPr>
          <p:cNvPr id="656" name=""/>
          <p:cNvCxnSpPr>
            <a:stCxn id="641" idx="3"/>
            <a:endCxn id="651" idx="0"/>
          </p:cNvCxnSpPr>
          <p:nvPr/>
        </p:nvCxnSpPr>
        <p:spPr>
          <a:xfrm rot="5400000">
            <a:off x="2409120" y="2752560"/>
            <a:ext cx="194400" cy="41040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57" name=""/>
          <p:cNvCxnSpPr>
            <a:stCxn id="642" idx="3"/>
            <a:endCxn id="652" idx="0"/>
          </p:cNvCxnSpPr>
          <p:nvPr/>
        </p:nvCxnSpPr>
        <p:spPr>
          <a:xfrm rot="5400000">
            <a:off x="3089520" y="3021480"/>
            <a:ext cx="295560" cy="70092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58" name=""/>
          <p:cNvCxnSpPr>
            <a:stCxn id="643" idx="3"/>
            <a:endCxn id="653" idx="0"/>
          </p:cNvCxnSpPr>
          <p:nvPr/>
        </p:nvCxnSpPr>
        <p:spPr>
          <a:xfrm rot="5400000">
            <a:off x="3963240" y="345240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59" name=""/>
          <p:cNvCxnSpPr>
            <a:stCxn id="645" idx="3"/>
            <a:endCxn id="654" idx="0"/>
          </p:cNvCxnSpPr>
          <p:nvPr/>
        </p:nvCxnSpPr>
        <p:spPr>
          <a:xfrm rot="5400000">
            <a:off x="5078520" y="3966120"/>
            <a:ext cx="484920" cy="772200"/>
          </a:xfrm>
          <a:prstGeom prst="bentConnector3">
            <a:avLst>
              <a:gd name="adj1" fmla="val 4977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60" name=""/>
          <p:cNvCxnSpPr>
            <a:stCxn id="644" idx="3"/>
            <a:endCxn id="655" idx="0"/>
          </p:cNvCxnSpPr>
          <p:nvPr/>
        </p:nvCxnSpPr>
        <p:spPr>
          <a:xfrm rot="5400000">
            <a:off x="6068520" y="4368600"/>
            <a:ext cx="602280" cy="1091520"/>
          </a:xfrm>
          <a:prstGeom prst="bentConnector3">
            <a:avLst>
              <a:gd name="adj1" fmla="val 4982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661" name=""/>
          <p:cNvSpPr/>
          <p:nvPr/>
        </p:nvSpPr>
        <p:spPr>
          <a:xfrm>
            <a:off x="6647040" y="244152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b2af7a"/>
              </a:gs>
              <a:gs pos="50000">
                <a:srgbClr val="e2e1ce"/>
              </a:gs>
              <a:gs pos="100000">
                <a:srgbClr val="b2af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495760" y="243828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b2af7a"/>
              </a:gs>
              <a:gs pos="50000">
                <a:srgbClr val="e2e1ce"/>
              </a:gs>
              <a:gs pos="100000">
                <a:srgbClr val="b2af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97400" y="243540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b2af7a"/>
              </a:gs>
              <a:gs pos="50000">
                <a:srgbClr val="e2e1ce"/>
              </a:gs>
              <a:gs pos="100000">
                <a:srgbClr val="b2af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62480" y="2441520"/>
            <a:ext cx="25056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b2af7a"/>
              </a:gs>
              <a:gs pos="50000">
                <a:srgbClr val="e2e1ce"/>
              </a:gs>
              <a:gs pos="100000">
                <a:srgbClr val="b2af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603520" y="2443320"/>
            <a:ext cx="214200" cy="33948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b2af7a"/>
              </a:gs>
              <a:gs pos="50000">
                <a:srgbClr val="e2e1ce"/>
              </a:gs>
              <a:gs pos="100000">
                <a:srgbClr val="b2af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未知"/>
          <p:cNvSpPr/>
          <p:nvPr/>
        </p:nvSpPr>
        <p:spPr>
          <a:xfrm>
            <a:off x="1417680" y="3780000"/>
            <a:ext cx="7014960" cy="178560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7a7a7"/>
              </a:gs>
              <a:gs pos="50000">
                <a:srgbClr val="dddddd"/>
              </a:gs>
              <a:gs pos="100000">
                <a:srgbClr val="a7a7a7"/>
              </a:gs>
            </a:gsLst>
            <a:lin ang="5400000"/>
          </a:gradFill>
          <a:ln w="9360">
            <a:solidFill>
              <a:srgbClr val="3031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041640" y="45734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57480" y="4157640"/>
            <a:ext cx="463680" cy="193680"/>
          </a:xfrm>
          <a:prstGeom prst="ellipse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387520" y="446076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411280" y="1943280"/>
            <a:ext cx="463680" cy="193320"/>
          </a:xfrm>
          <a:prstGeom prst="ellipse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741320" y="452268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65440" y="3610080"/>
            <a:ext cx="463320" cy="193680"/>
          </a:xfrm>
          <a:prstGeom prst="ellipse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620120" y="45514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47120" y="3330720"/>
            <a:ext cx="463320" cy="193680"/>
          </a:xfrm>
          <a:prstGeom prst="ellipse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966000" y="4406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989760" y="3537000"/>
            <a:ext cx="463680" cy="193680"/>
          </a:xfrm>
          <a:prstGeom prst="ellipse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19800" y="450072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342120" y="4311720"/>
            <a:ext cx="463320" cy="193680"/>
          </a:xfrm>
          <a:prstGeom prst="ellipse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709640" y="496728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316560" y="498960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30440" y="32558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236680" y="159552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967120" y="38019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226200" y="3987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53320" y="31892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21480" y="29876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28640" y="553896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9" name="未知"/>
          <p:cNvSpPr/>
          <p:nvPr/>
        </p:nvSpPr>
        <p:spPr>
          <a:xfrm>
            <a:off x="3946680" y="182556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72120" y="1938240"/>
            <a:ext cx="225360" cy="225360"/>
          </a:xfrm>
          <a:prstGeom prst="ellipse">
            <a:avLst/>
          </a:prstGeom>
          <a:solidFill>
            <a:srgbClr val="4582a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272120" y="2320920"/>
            <a:ext cx="225360" cy="225360"/>
          </a:xfrm>
          <a:prstGeom prst="ellipse">
            <a:avLst/>
          </a:prstGeom>
          <a:solidFill>
            <a:srgbClr val="b2af7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272120" y="2714760"/>
            <a:ext cx="225360" cy="225360"/>
          </a:xfrm>
          <a:prstGeom prst="ellipse">
            <a:avLst/>
          </a:prstGeom>
          <a:solidFill>
            <a:srgbClr val="7e52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83160" y="189396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83160" y="227664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583160" y="2681280"/>
            <a:ext cx="15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933720" y="394740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ordinate Depth in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</a:rPr>
              <a:t>3-D Settings</a:t>
            </a: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523880" y="5346720"/>
            <a:ext cx="3409920" cy="750960"/>
          </a:xfrm>
          <a:prstGeom prst="roundRect">
            <a:avLst>
              <a:gd name="adj" fmla="val 19407"/>
            </a:avLst>
          </a:prstGeom>
          <a:gradFill rotWithShape="0">
            <a:gsLst>
              <a:gs pos="0">
                <a:srgbClr val="b2af7a">
                  <a:alpha val="30196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40160" y="5346720"/>
            <a:ext cx="3329280" cy="730080"/>
          </a:xfrm>
          <a:prstGeom prst="roundRect">
            <a:avLst>
              <a:gd name="adj" fmla="val 20657"/>
            </a:avLst>
          </a:prstGeom>
          <a:gradFill rotWithShape="0">
            <a:gsLst>
              <a:gs pos="0">
                <a:srgbClr val="7e52cc">
                  <a:alpha val="35294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21440" y="1897200"/>
            <a:ext cx="3352680" cy="344952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9520"/>
              <a:gd name="textAreaBottom" fmla="*/ 3409200 h 3449520"/>
            </a:gdLst>
            <a:ahLst/>
            <a:rect l="textAreaLeft" t="textAreaTop" r="textAreaRight" b="textAreaBottom"/>
            <a:pathLst>
              <a:path w="21600" h="22224">
                <a:moveTo>
                  <a:pt x="893" y="0"/>
                </a:moveTo>
                <a:arcTo wR="893" hR="893" stAng="16200000" swAng="-5400000"/>
                <a:lnTo>
                  <a:pt x="0" y="21331"/>
                </a:lnTo>
                <a:arcTo wR="893" hR="893" stAng="10800000" swAng="-5400000"/>
                <a:lnTo>
                  <a:pt x="20707" y="22224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57398d"/>
              </a:gs>
              <a:gs pos="50000">
                <a:srgbClr val="7e52cc"/>
              </a:gs>
              <a:gs pos="100000">
                <a:srgbClr val="57398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b31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536840" y="1886040"/>
            <a:ext cx="3352680" cy="3448080"/>
          </a:xfrm>
          <a:custGeom>
            <a:avLst/>
            <a:gdLst>
              <a:gd name="textAreaLeft" fmla="*/ 40320 w 3352680"/>
              <a:gd name="textAreaRight" fmla="*/ 3312360 w 3352680"/>
              <a:gd name="textAreaTop" fmla="*/ 40320 h 3448080"/>
              <a:gd name="textAreaBottom" fmla="*/ 3407760 h 3448080"/>
            </a:gdLst>
            <a:ahLst/>
            <a:rect l="textAreaLeft" t="textAreaTop" r="textAreaRight" b="textAreaBottom"/>
            <a:pathLst>
              <a:path w="21600" h="22215">
                <a:moveTo>
                  <a:pt x="893" y="0"/>
                </a:moveTo>
                <a:arcTo wR="893" hR="893" stAng="16200000" swAng="-5400000"/>
                <a:lnTo>
                  <a:pt x="0" y="21322"/>
                </a:lnTo>
                <a:arcTo wR="893" hR="893" stAng="10800000" swAng="-5400000"/>
                <a:lnTo>
                  <a:pt x="20707" y="22215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7b7954"/>
              </a:gs>
              <a:gs pos="50000">
                <a:srgbClr val="b2af7a"/>
              </a:gs>
              <a:gs pos="100000">
                <a:srgbClr val="7b795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a68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408640" y="1631880"/>
            <a:ext cx="2963880" cy="527040"/>
            <a:chOff x="5408640" y="1631880"/>
            <a:chExt cx="2963880" cy="527040"/>
          </a:xfrm>
        </p:grpSpPr>
        <p:sp>
          <p:nvSpPr>
            <p:cNvPr id="704" name=""/>
            <p:cNvSpPr/>
            <p:nvPr/>
          </p:nvSpPr>
          <p:spPr>
            <a:xfrm>
              <a:off x="5408640" y="163188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7e5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25920" y="200916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e52cc">
                    <a:alpha val="0"/>
                  </a:srgbClr>
                </a:gs>
                <a:gs pos="100000">
                  <a:srgbClr val="d3c4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25920" y="164772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ed4f1"/>
                </a:gs>
                <a:gs pos="100000">
                  <a:srgbClr val="7e52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1719360" y="1623960"/>
            <a:ext cx="2963880" cy="527040"/>
            <a:chOff x="1719360" y="1623960"/>
            <a:chExt cx="2963880" cy="527040"/>
          </a:xfrm>
        </p:grpSpPr>
        <p:sp>
          <p:nvSpPr>
            <p:cNvPr id="708" name=""/>
            <p:cNvSpPr/>
            <p:nvPr/>
          </p:nvSpPr>
          <p:spPr>
            <a:xfrm>
              <a:off x="1719360" y="1623960"/>
              <a:ext cx="2963880" cy="527040"/>
            </a:xfrm>
            <a:prstGeom prst="roundRect">
              <a:avLst>
                <a:gd name="adj" fmla="val 17509"/>
              </a:avLst>
            </a:prstGeom>
            <a:solidFill>
              <a:srgbClr val="b2a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36640" y="200124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9b14f">
                    <a:alpha val="0"/>
                  </a:srgbClr>
                </a:gs>
                <a:gs pos="100000">
                  <a:srgbClr val="c7de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36640" y="1639800"/>
              <a:ext cx="2912760" cy="12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1e4c3"/>
                </a:gs>
                <a:gs pos="100000">
                  <a:srgbClr val="79b14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1830240" y="163980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19880" y="163980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652760" y="2168640"/>
            <a:ext cx="3132000" cy="30448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1735200" y="542916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89560" y="542916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26000" y="2246400"/>
            <a:ext cx="0" cy="2946240"/>
          </a:xfrm>
          <a:prstGeom prst="line">
            <a:avLst/>
          </a:prstGeom>
          <a:ln w="12600">
            <a:solidFill>
              <a:srgbClr val="fe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5450040" y="2443320"/>
            <a:ext cx="153720" cy="152280"/>
            <a:chOff x="5450040" y="2443320"/>
            <a:chExt cx="153720" cy="152280"/>
          </a:xfrm>
        </p:grpSpPr>
        <p:sp>
          <p:nvSpPr>
            <p:cNvPr id="718" name=""/>
            <p:cNvSpPr/>
            <p:nvPr/>
          </p:nvSpPr>
          <p:spPr>
            <a:xfrm>
              <a:off x="5450040" y="2443320"/>
              <a:ext cx="153720" cy="1522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62280" y="2455920"/>
              <a:ext cx="127800" cy="126720"/>
            </a:xfrm>
            <a:prstGeom prst="ellipse">
              <a:avLst/>
            </a:prstGeom>
            <a:gradFill rotWithShape="0">
              <a:gsLst>
                <a:gs pos="0">
                  <a:srgbClr val="9e9d70"/>
                </a:gs>
                <a:gs pos="100000">
                  <a:srgbClr val="6866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450040" y="3432240"/>
            <a:ext cx="153720" cy="154080"/>
            <a:chOff x="5450040" y="3432240"/>
            <a:chExt cx="153720" cy="154080"/>
          </a:xfrm>
        </p:grpSpPr>
        <p:sp>
          <p:nvSpPr>
            <p:cNvPr id="721" name=""/>
            <p:cNvSpPr/>
            <p:nvPr/>
          </p:nvSpPr>
          <p:spPr>
            <a:xfrm>
              <a:off x="5450040" y="3432240"/>
              <a:ext cx="153720" cy="1540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62280" y="3444840"/>
              <a:ext cx="127800" cy="128160"/>
            </a:xfrm>
            <a:prstGeom prst="ellipse">
              <a:avLst/>
            </a:prstGeom>
            <a:gradFill rotWithShape="0">
              <a:gsLst>
                <a:gs pos="0">
                  <a:srgbClr val="9e9d70"/>
                </a:gs>
                <a:gs pos="100000">
                  <a:srgbClr val="6866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450040" y="4376880"/>
            <a:ext cx="153720" cy="153720"/>
            <a:chOff x="5450040" y="4376880"/>
            <a:chExt cx="153720" cy="153720"/>
          </a:xfrm>
        </p:grpSpPr>
        <p:sp>
          <p:nvSpPr>
            <p:cNvPr id="724" name=""/>
            <p:cNvSpPr/>
            <p:nvPr/>
          </p:nvSpPr>
          <p:spPr>
            <a:xfrm>
              <a:off x="5450040" y="4376880"/>
              <a:ext cx="153720" cy="1537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462280" y="4389480"/>
              <a:ext cx="127800" cy="127800"/>
            </a:xfrm>
            <a:prstGeom prst="ellipse">
              <a:avLst/>
            </a:prstGeom>
            <a:gradFill rotWithShape="0">
              <a:gsLst>
                <a:gs pos="0">
                  <a:srgbClr val="9e9d70"/>
                </a:gs>
                <a:gs pos="100000">
                  <a:srgbClr val="6866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572080" y="2336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560920" y="3322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560920" y="4260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700600" y="260820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700600" y="359100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00600" y="4543560"/>
            <a:ext cx="279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未知"/>
          <p:cNvSpPr/>
          <p:nvPr/>
        </p:nvSpPr>
        <p:spPr>
          <a:xfrm flipV="1">
            <a:off x="1531800" y="5094720"/>
            <a:ext cx="7042320" cy="63828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3" name="未知"/>
          <p:cNvSpPr/>
          <p:nvPr/>
        </p:nvSpPr>
        <p:spPr>
          <a:xfrm>
            <a:off x="1488960" y="4597560"/>
            <a:ext cx="7116840" cy="528480"/>
          </a:xfrm>
          <a:custGeom>
            <a:avLst/>
            <a:gdLst/>
            <a:ahLst/>
            <a:rect l="l" t="t" r="r" b="b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6ace32"/>
          </a:solidFill>
          <a:ln w="12600">
            <a:solidFill>
              <a:srgbClr val="3031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4" name="未知"/>
          <p:cNvSpPr/>
          <p:nvPr/>
        </p:nvSpPr>
        <p:spPr>
          <a:xfrm>
            <a:off x="6872400" y="2076480"/>
            <a:ext cx="174132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5" name="未知"/>
          <p:cNvSpPr/>
          <p:nvPr/>
        </p:nvSpPr>
        <p:spPr>
          <a:xfrm>
            <a:off x="5524560" y="2076480"/>
            <a:ext cx="134928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6" name="未知"/>
          <p:cNvSpPr/>
          <p:nvPr/>
        </p:nvSpPr>
        <p:spPr>
          <a:xfrm>
            <a:off x="1488960" y="2076480"/>
            <a:ext cx="134640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9999ff"/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7" name="未知"/>
          <p:cNvSpPr/>
          <p:nvPr/>
        </p:nvSpPr>
        <p:spPr>
          <a:xfrm>
            <a:off x="2832120" y="2076480"/>
            <a:ext cx="135576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8" name="未知"/>
          <p:cNvSpPr/>
          <p:nvPr/>
        </p:nvSpPr>
        <p:spPr>
          <a:xfrm>
            <a:off x="4178160" y="2076480"/>
            <a:ext cx="1355760" cy="533520"/>
          </a:xfrm>
          <a:custGeom>
            <a:avLst/>
            <a:gdLst/>
            <a:ahLst/>
            <a:rect l="l" t="t" r="r" b="b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6ace32"/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1481040" y="2576520"/>
            <a:ext cx="7134480" cy="2050920"/>
            <a:chOff x="1481040" y="2576520"/>
            <a:chExt cx="7134480" cy="2050920"/>
          </a:xfrm>
        </p:grpSpPr>
        <p:sp>
          <p:nvSpPr>
            <p:cNvPr id="740" name=""/>
            <p:cNvSpPr/>
            <p:nvPr/>
          </p:nvSpPr>
          <p:spPr>
            <a:xfrm>
              <a:off x="552636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77080" y="4114440"/>
              <a:ext cx="1349280" cy="51264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2888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81040" y="411444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c9e3fe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04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2636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177080" y="3601800"/>
              <a:ext cx="134928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2888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81040" y="360180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c9e3fe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03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2636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de8d1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77080" y="3088800"/>
              <a:ext cx="1349280" cy="512640"/>
            </a:xfrm>
            <a:prstGeom prst="rect">
              <a:avLst/>
            </a:prstGeom>
            <a:gradFill rotWithShape="0">
              <a:gsLst>
                <a:gs pos="0">
                  <a:srgbClr val="fde8d1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2888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fde8d1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81040" y="3088800"/>
              <a:ext cx="1347840" cy="512640"/>
            </a:xfrm>
            <a:prstGeom prst="rect">
              <a:avLst/>
            </a:prstGeom>
            <a:gradFill rotWithShape="0">
              <a:gsLst>
                <a:gs pos="0">
                  <a:srgbClr val="c9e3fe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02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74560" y="2576520"/>
              <a:ext cx="1740600" cy="2050920"/>
            </a:xfrm>
            <a:prstGeom prst="rect">
              <a:avLst/>
            </a:prstGeom>
            <a:gradFill rotWithShape="0">
              <a:gsLst>
                <a:gs pos="0">
                  <a:srgbClr val="fcfcf0"/>
                </a:gs>
                <a:gs pos="100000">
                  <a:srgbClr val="fafa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636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177080" y="2576520"/>
              <a:ext cx="134928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2888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f3f3f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81040" y="2576520"/>
              <a:ext cx="1347840" cy="512280"/>
            </a:xfrm>
            <a:prstGeom prst="rect">
              <a:avLst/>
            </a:prstGeom>
            <a:gradFill rotWithShape="0">
              <a:gsLst>
                <a:gs pos="0">
                  <a:srgbClr val="c9e3fe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01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81040" y="2576520"/>
              <a:ext cx="713448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81040" y="2576520"/>
              <a:ext cx="0" cy="205092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15520" y="2576520"/>
              <a:ext cx="0" cy="205092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81040" y="4627440"/>
              <a:ext cx="713448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28880" y="2576520"/>
              <a:ext cx="0" cy="20509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177080" y="2576520"/>
              <a:ext cx="0" cy="20509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26360" y="2576520"/>
              <a:ext cx="0" cy="20509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81040" y="3088800"/>
              <a:ext cx="539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81040" y="3601800"/>
              <a:ext cx="539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81040" y="4114440"/>
              <a:ext cx="539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74560" y="2576520"/>
              <a:ext cx="0" cy="20509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143676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78928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3532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48784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021440" y="2173320"/>
            <a:ext cx="142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60640" y="4686480"/>
            <a:ext cx="46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8f8f8"/>
              </a:buClr>
              <a:buFont typeface="Wingdings 2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6662880" y="192096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121280" y="227016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535640" y="150012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390920" y="2276640"/>
            <a:ext cx="982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9acc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121280" y="26654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121280" y="2644920"/>
            <a:ext cx="1508040" cy="0"/>
          </a:xfrm>
          <a:prstGeom prst="line">
            <a:avLst/>
          </a:prstGeom>
          <a:ln w="936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238800" y="269064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494400" y="2697120"/>
            <a:ext cx="1020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af7a"/>
                </a:solidFill>
                <a:latin typeface="Arial"/>
              </a:rPr>
              <a:t>20.4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38800" y="308628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0311d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238800" y="3065400"/>
            <a:ext cx="15080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020000" y="429588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822320" y="239724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259000" y="1627200"/>
            <a:ext cx="693720" cy="69228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 flipV="1" rot="3328800">
            <a:off x="2358720" y="1730520"/>
            <a:ext cx="439200" cy="43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4696638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4696638"/>
              </a:path>
            </a:pathLst>
          </a:custGeom>
          <a:gradFill rotWithShape="0">
            <a:gsLst>
              <a:gs pos="0">
                <a:srgbClr val="523585"/>
              </a:gs>
              <a:gs pos="100000">
                <a:srgbClr val="7e52cc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6106200">
            <a:off x="6724080" y="4064760"/>
            <a:ext cx="89604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3522128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3522128"/>
              </a:path>
            </a:pathLst>
          </a:custGeom>
          <a:gradFill rotWithShape="0">
            <a:gsLst>
              <a:gs pos="0">
                <a:srgbClr val="2d556e"/>
              </a:gs>
              <a:gs pos="100000">
                <a:srgbClr val="4582a7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6598800" y="1955880"/>
            <a:ext cx="52164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gradFill rotWithShape="0">
            <a:gsLst>
              <a:gs pos="0">
                <a:srgbClr val="757350"/>
              </a:gs>
              <a:gs pos="100000">
                <a:srgbClr val="b2af7a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438800" y="1666800"/>
            <a:ext cx="707400" cy="71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gradFill rotWithShape="0">
            <a:gsLst>
              <a:gs pos="0">
                <a:srgbClr val="295671"/>
              </a:gs>
              <a:gs pos="100000">
                <a:srgbClr val="4a9acc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59000" y="2405160"/>
            <a:ext cx="696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52cc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822320" y="27925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571760" y="2481120"/>
            <a:ext cx="4940280" cy="42926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822320" y="2771640"/>
            <a:ext cx="1508400" cy="0"/>
          </a:xfrm>
          <a:prstGeom prst="line">
            <a:avLst/>
          </a:prstGeom>
          <a:ln w="936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583320" y="509580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3031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020000" y="5102280"/>
            <a:ext cx="698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82a7"/>
                </a:solidFill>
                <a:latin typeface="Arial"/>
              </a:rPr>
              <a:t>38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583320" y="549108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583320" y="5470560"/>
            <a:ext cx="1508040" cy="0"/>
          </a:xfrm>
          <a:prstGeom prst="line">
            <a:avLst/>
          </a:prstGeom>
          <a:ln w="936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2488680" y="3494160"/>
            <a:ext cx="87480" cy="1014480"/>
          </a:xfrm>
          <a:prstGeom prst="line">
            <a:avLst/>
          </a:prstGeom>
          <a:ln w="9360">
            <a:solidFill>
              <a:srgbClr val="30311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5060520" y="3036600"/>
            <a:ext cx="220680" cy="909720"/>
          </a:xfrm>
          <a:prstGeom prst="line">
            <a:avLst/>
          </a:prstGeom>
          <a:ln w="9360">
            <a:solidFill>
              <a:srgbClr val="30311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5772240" y="3736800"/>
            <a:ext cx="565200" cy="795600"/>
          </a:xfrm>
          <a:prstGeom prst="line">
            <a:avLst/>
          </a:prstGeom>
          <a:ln w="9360">
            <a:solidFill>
              <a:srgbClr val="30311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821120" y="4959360"/>
            <a:ext cx="1737000" cy="353880"/>
          </a:xfrm>
          <a:prstGeom prst="line">
            <a:avLst/>
          </a:prstGeom>
          <a:ln w="9360">
            <a:solidFill>
              <a:srgbClr val="30311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477800" y="6084720"/>
            <a:ext cx="6540840" cy="45720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6daf91"/>
              </a:gs>
              <a:gs pos="100000">
                <a:srgbClr val="94c4ae"/>
              </a:gs>
            </a:gsLst>
            <a:lin ang="5400000"/>
          </a:gradFill>
          <a:ln w="25560">
            <a:solidFill>
              <a:srgbClr val="7eb8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801880" y="167940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7e52cc"/>
              </a:gs>
              <a:gs pos="100000">
                <a:srgbClr val="c3af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708440" y="1117440"/>
            <a:ext cx="0" cy="4815000"/>
          </a:xfrm>
          <a:prstGeom prst="line">
            <a:avLst/>
          </a:prstGeom>
          <a:ln w="9360">
            <a:solidFill>
              <a:srgbClr val="080808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734000" y="16794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4a9acc"/>
              </a:gs>
              <a:gs pos="100000">
                <a:srgbClr val="9bc7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rot="5400000">
            <a:off x="4735440" y="362088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b2af7a"/>
              </a:gs>
              <a:gs pos="100000">
                <a:srgbClr val="d1d0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 rot="16200000">
            <a:off x="2802600" y="362124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4582a7"/>
              </a:gs>
              <a:gs pos="100000">
                <a:srgbClr val="8db2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74760" y="3589200"/>
            <a:ext cx="5070600" cy="0"/>
          </a:xfrm>
          <a:prstGeom prst="line">
            <a:avLst/>
          </a:prstGeom>
          <a:ln w="9360">
            <a:solidFill>
              <a:srgbClr val="080808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623960" y="159084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12600" y="26161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881240" y="26161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81240" y="4076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60480" y="4076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623960" y="616104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Please write down of contents explanation for Business Area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095800" y="15908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623960" y="50148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95800" y="50148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5827680" y="32148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846760" y="41911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669080" y="4068720"/>
            <a:ext cx="216000" cy="390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958160" y="3733920"/>
            <a:ext cx="216000" cy="725400"/>
          </a:xfrm>
          <a:prstGeom prst="can">
            <a:avLst>
              <a:gd name="adj" fmla="val 13898"/>
            </a:avLst>
          </a:prstGeom>
          <a:gradFill rotWithShape="0">
            <a:gsLst>
              <a:gs pos="0">
                <a:srgbClr val="0b446a"/>
              </a:gs>
              <a:gs pos="50000">
                <a:srgbClr val="1894e8"/>
              </a:gs>
              <a:gs pos="100000">
                <a:srgbClr val="0b44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659720" y="2933640"/>
            <a:ext cx="216000" cy="614520"/>
          </a:xfrm>
          <a:prstGeom prst="can">
            <a:avLst>
              <a:gd name="adj" fmla="val 16231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948440" y="2989440"/>
            <a:ext cx="216000" cy="558720"/>
          </a:xfrm>
          <a:prstGeom prst="can">
            <a:avLst>
              <a:gd name="adj" fmla="val 18722"/>
            </a:avLst>
          </a:prstGeom>
          <a:gradFill rotWithShape="0">
            <a:gsLst>
              <a:gs pos="0">
                <a:srgbClr val="0b446a"/>
              </a:gs>
              <a:gs pos="50000">
                <a:srgbClr val="1894e8"/>
              </a:gs>
              <a:gs pos="100000">
                <a:srgbClr val="0b44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1176480" y="1600200"/>
            <a:ext cx="4309920" cy="4435560"/>
            <a:chOff x="1176480" y="1600200"/>
            <a:chExt cx="4309920" cy="4435560"/>
          </a:xfrm>
        </p:grpSpPr>
        <p:sp>
          <p:nvSpPr>
            <p:cNvPr id="830" name="未知"/>
            <p:cNvSpPr/>
            <p:nvPr/>
          </p:nvSpPr>
          <p:spPr>
            <a:xfrm>
              <a:off x="5230800" y="1600200"/>
              <a:ext cx="150840" cy="76680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4510080" y="3338640"/>
              <a:ext cx="168480" cy="2062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4565880" y="2768760"/>
              <a:ext cx="677880" cy="56988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  <a:lnTo>
                    <a:pt x="6" y="10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4660920" y="3313080"/>
              <a:ext cx="109800" cy="7452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5119920" y="2424240"/>
              <a:ext cx="366480" cy="27936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3929040" y="4361040"/>
              <a:ext cx="168480" cy="44892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3781440" y="4827600"/>
              <a:ext cx="147600" cy="160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4060800" y="4940280"/>
              <a:ext cx="281160" cy="21600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b2af7a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8" name="未知"/>
            <p:cNvSpPr/>
            <p:nvPr/>
          </p:nvSpPr>
          <p:spPr>
            <a:xfrm>
              <a:off x="3399120" y="5070600"/>
              <a:ext cx="504720" cy="45072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  <a:lnTo>
                    <a:pt x="62" y="5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3306960" y="5268960"/>
              <a:ext cx="560160" cy="51264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  <a:lnTo>
                    <a:pt x="102" y="2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0" name="未知"/>
            <p:cNvSpPr/>
            <p:nvPr/>
          </p:nvSpPr>
          <p:spPr>
            <a:xfrm>
              <a:off x="3884760" y="5370480"/>
              <a:ext cx="380880" cy="44928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  <a:lnTo>
                    <a:pt x="16" y="88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1" name="未知"/>
            <p:cNvSpPr/>
            <p:nvPr/>
          </p:nvSpPr>
          <p:spPr>
            <a:xfrm>
              <a:off x="2452680" y="5176800"/>
              <a:ext cx="635040" cy="69048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3070440" y="5888160"/>
              <a:ext cx="542880" cy="14760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3" name="未知"/>
            <p:cNvSpPr/>
            <p:nvPr/>
          </p:nvSpPr>
          <p:spPr>
            <a:xfrm>
              <a:off x="1176480" y="1682640"/>
              <a:ext cx="3700440" cy="268452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  <a:lnTo>
                    <a:pt x="194" y="86"/>
                  </a:lnTo>
                  <a:close/>
                </a:path>
              </a:pathLst>
            </a:custGeom>
            <a:solidFill>
              <a:srgbClr val="b2af7a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4" name="未知"/>
            <p:cNvSpPr/>
            <p:nvPr/>
          </p:nvSpPr>
          <p:spPr>
            <a:xfrm>
              <a:off x="4110120" y="2467080"/>
              <a:ext cx="542880" cy="80784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2078280" y="1941480"/>
              <a:ext cx="1968480" cy="811080"/>
            </a:xfrm>
            <a:custGeom>
              <a:avLst/>
              <a:gdLst/>
              <a:ahLst/>
              <a:rect l="l" t="t" r="r" b="b"/>
              <a:pathLst>
                <a:path w="1240" h="511">
                  <a:moveTo>
                    <a:pt x="65" y="57"/>
                  </a:moveTo>
                  <a:lnTo>
                    <a:pt x="77" y="59"/>
                  </a:lnTo>
                  <a:lnTo>
                    <a:pt x="77" y="53"/>
                  </a:lnTo>
                  <a:lnTo>
                    <a:pt x="82" y="47"/>
                  </a:lnTo>
                  <a:lnTo>
                    <a:pt x="88" y="41"/>
                  </a:lnTo>
                  <a:lnTo>
                    <a:pt x="94" y="35"/>
                  </a:lnTo>
                  <a:lnTo>
                    <a:pt x="106" y="29"/>
                  </a:lnTo>
                  <a:lnTo>
                    <a:pt x="118" y="29"/>
                  </a:lnTo>
                  <a:lnTo>
                    <a:pt x="141" y="35"/>
                  </a:lnTo>
                  <a:lnTo>
                    <a:pt x="165" y="41"/>
                  </a:lnTo>
                  <a:lnTo>
                    <a:pt x="171" y="41"/>
                  </a:lnTo>
                  <a:lnTo>
                    <a:pt x="200" y="41"/>
                  </a:lnTo>
                  <a:lnTo>
                    <a:pt x="230" y="53"/>
                  </a:lnTo>
                  <a:lnTo>
                    <a:pt x="259" y="70"/>
                  </a:lnTo>
                  <a:lnTo>
                    <a:pt x="312" y="123"/>
                  </a:lnTo>
                  <a:lnTo>
                    <a:pt x="312" y="123"/>
                  </a:lnTo>
                  <a:lnTo>
                    <a:pt x="318" y="117"/>
                  </a:lnTo>
                  <a:lnTo>
                    <a:pt x="330" y="117"/>
                  </a:lnTo>
                  <a:lnTo>
                    <a:pt x="336" y="106"/>
                  </a:lnTo>
                  <a:lnTo>
                    <a:pt x="348" y="100"/>
                  </a:lnTo>
                  <a:lnTo>
                    <a:pt x="353" y="82"/>
                  </a:lnTo>
                  <a:lnTo>
                    <a:pt x="353" y="65"/>
                  </a:lnTo>
                  <a:lnTo>
                    <a:pt x="359" y="59"/>
                  </a:lnTo>
                  <a:lnTo>
                    <a:pt x="371" y="53"/>
                  </a:lnTo>
                  <a:lnTo>
                    <a:pt x="377" y="53"/>
                  </a:lnTo>
                  <a:lnTo>
                    <a:pt x="389" y="53"/>
                  </a:lnTo>
                  <a:lnTo>
                    <a:pt x="401" y="41"/>
                  </a:lnTo>
                  <a:lnTo>
                    <a:pt x="424" y="18"/>
                  </a:lnTo>
                  <a:lnTo>
                    <a:pt x="454" y="0"/>
                  </a:lnTo>
                  <a:lnTo>
                    <a:pt x="489" y="0"/>
                  </a:lnTo>
                  <a:lnTo>
                    <a:pt x="524" y="12"/>
                  </a:lnTo>
                  <a:lnTo>
                    <a:pt x="560" y="12"/>
                  </a:lnTo>
                  <a:lnTo>
                    <a:pt x="589" y="6"/>
                  </a:lnTo>
                  <a:lnTo>
                    <a:pt x="636" y="12"/>
                  </a:lnTo>
                  <a:lnTo>
                    <a:pt x="689" y="35"/>
                  </a:lnTo>
                  <a:lnTo>
                    <a:pt x="748" y="70"/>
                  </a:lnTo>
                  <a:lnTo>
                    <a:pt x="754" y="70"/>
                  </a:lnTo>
                  <a:lnTo>
                    <a:pt x="772" y="76"/>
                  </a:lnTo>
                  <a:lnTo>
                    <a:pt x="807" y="76"/>
                  </a:lnTo>
                  <a:lnTo>
                    <a:pt x="860" y="65"/>
                  </a:lnTo>
                  <a:lnTo>
                    <a:pt x="895" y="53"/>
                  </a:lnTo>
                  <a:lnTo>
                    <a:pt x="919" y="41"/>
                  </a:lnTo>
                  <a:lnTo>
                    <a:pt x="937" y="29"/>
                  </a:lnTo>
                  <a:lnTo>
                    <a:pt x="942" y="18"/>
                  </a:lnTo>
                  <a:lnTo>
                    <a:pt x="948" y="12"/>
                  </a:lnTo>
                  <a:lnTo>
                    <a:pt x="948" y="6"/>
                  </a:lnTo>
                  <a:lnTo>
                    <a:pt x="948" y="6"/>
                  </a:lnTo>
                  <a:lnTo>
                    <a:pt x="972" y="6"/>
                  </a:lnTo>
                  <a:lnTo>
                    <a:pt x="1007" y="18"/>
                  </a:lnTo>
                  <a:lnTo>
                    <a:pt x="1049" y="41"/>
                  </a:lnTo>
                  <a:lnTo>
                    <a:pt x="1113" y="65"/>
                  </a:lnTo>
                  <a:lnTo>
                    <a:pt x="1096" y="176"/>
                  </a:lnTo>
                  <a:lnTo>
                    <a:pt x="1096" y="176"/>
                  </a:lnTo>
                  <a:lnTo>
                    <a:pt x="1107" y="176"/>
                  </a:lnTo>
                  <a:lnTo>
                    <a:pt x="1125" y="176"/>
                  </a:lnTo>
                  <a:lnTo>
                    <a:pt x="1143" y="176"/>
                  </a:lnTo>
                  <a:lnTo>
                    <a:pt x="1160" y="176"/>
                  </a:lnTo>
                  <a:lnTo>
                    <a:pt x="1172" y="176"/>
                  </a:lnTo>
                  <a:lnTo>
                    <a:pt x="1190" y="176"/>
                  </a:lnTo>
                  <a:lnTo>
                    <a:pt x="1202" y="182"/>
                  </a:lnTo>
                  <a:lnTo>
                    <a:pt x="1222" y="184"/>
                  </a:lnTo>
                  <a:lnTo>
                    <a:pt x="1240" y="205"/>
                  </a:lnTo>
                  <a:lnTo>
                    <a:pt x="1237" y="223"/>
                  </a:lnTo>
                  <a:lnTo>
                    <a:pt x="1213" y="244"/>
                  </a:lnTo>
                  <a:lnTo>
                    <a:pt x="1190" y="247"/>
                  </a:lnTo>
                  <a:lnTo>
                    <a:pt x="1172" y="253"/>
                  </a:lnTo>
                  <a:lnTo>
                    <a:pt x="1149" y="258"/>
                  </a:lnTo>
                  <a:lnTo>
                    <a:pt x="1126" y="262"/>
                  </a:lnTo>
                  <a:lnTo>
                    <a:pt x="1102" y="270"/>
                  </a:lnTo>
                  <a:lnTo>
                    <a:pt x="1078" y="282"/>
                  </a:lnTo>
                  <a:lnTo>
                    <a:pt x="1060" y="294"/>
                  </a:lnTo>
                  <a:lnTo>
                    <a:pt x="1060" y="294"/>
                  </a:lnTo>
                  <a:lnTo>
                    <a:pt x="1060" y="305"/>
                  </a:lnTo>
                  <a:lnTo>
                    <a:pt x="1060" y="311"/>
                  </a:lnTo>
                  <a:lnTo>
                    <a:pt x="1054" y="329"/>
                  </a:lnTo>
                  <a:lnTo>
                    <a:pt x="1054" y="341"/>
                  </a:lnTo>
                  <a:lnTo>
                    <a:pt x="1043" y="352"/>
                  </a:lnTo>
                  <a:lnTo>
                    <a:pt x="1031" y="370"/>
                  </a:lnTo>
                  <a:lnTo>
                    <a:pt x="1013" y="376"/>
                  </a:lnTo>
                  <a:lnTo>
                    <a:pt x="995" y="388"/>
                  </a:lnTo>
                  <a:lnTo>
                    <a:pt x="948" y="399"/>
                  </a:lnTo>
                  <a:lnTo>
                    <a:pt x="889" y="411"/>
                  </a:lnTo>
                  <a:lnTo>
                    <a:pt x="825" y="423"/>
                  </a:lnTo>
                  <a:lnTo>
                    <a:pt x="772" y="435"/>
                  </a:lnTo>
                  <a:lnTo>
                    <a:pt x="725" y="446"/>
                  </a:lnTo>
                  <a:lnTo>
                    <a:pt x="701" y="452"/>
                  </a:lnTo>
                  <a:lnTo>
                    <a:pt x="683" y="464"/>
                  </a:lnTo>
                  <a:lnTo>
                    <a:pt x="642" y="488"/>
                  </a:lnTo>
                  <a:lnTo>
                    <a:pt x="601" y="505"/>
                  </a:lnTo>
                  <a:lnTo>
                    <a:pt x="548" y="511"/>
                  </a:lnTo>
                  <a:lnTo>
                    <a:pt x="518" y="505"/>
                  </a:lnTo>
                  <a:lnTo>
                    <a:pt x="501" y="488"/>
                  </a:lnTo>
                  <a:lnTo>
                    <a:pt x="477" y="476"/>
                  </a:lnTo>
                  <a:lnTo>
                    <a:pt x="459" y="470"/>
                  </a:lnTo>
                  <a:lnTo>
                    <a:pt x="424" y="470"/>
                  </a:lnTo>
                  <a:lnTo>
                    <a:pt x="389" y="476"/>
                  </a:lnTo>
                  <a:lnTo>
                    <a:pt x="342" y="476"/>
                  </a:lnTo>
                  <a:lnTo>
                    <a:pt x="300" y="476"/>
                  </a:lnTo>
                  <a:lnTo>
                    <a:pt x="259" y="470"/>
                  </a:lnTo>
                  <a:lnTo>
                    <a:pt x="236" y="458"/>
                  </a:lnTo>
                  <a:lnTo>
                    <a:pt x="224" y="435"/>
                  </a:lnTo>
                  <a:lnTo>
                    <a:pt x="224" y="423"/>
                  </a:lnTo>
                  <a:lnTo>
                    <a:pt x="224" y="394"/>
                  </a:lnTo>
                  <a:lnTo>
                    <a:pt x="212" y="352"/>
                  </a:lnTo>
                  <a:lnTo>
                    <a:pt x="194" y="317"/>
                  </a:lnTo>
                  <a:lnTo>
                    <a:pt x="165" y="294"/>
                  </a:lnTo>
                  <a:lnTo>
                    <a:pt x="130" y="276"/>
                  </a:lnTo>
                  <a:lnTo>
                    <a:pt x="88" y="258"/>
                  </a:lnTo>
                  <a:lnTo>
                    <a:pt x="47" y="229"/>
                  </a:lnTo>
                  <a:lnTo>
                    <a:pt x="18" y="194"/>
                  </a:lnTo>
                  <a:lnTo>
                    <a:pt x="0" y="147"/>
                  </a:lnTo>
                  <a:lnTo>
                    <a:pt x="2" y="90"/>
                  </a:lnTo>
                  <a:lnTo>
                    <a:pt x="65" y="57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2640240" y="4248000"/>
              <a:ext cx="379440" cy="97164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7" name="未知"/>
            <p:cNvSpPr/>
            <p:nvPr/>
          </p:nvSpPr>
          <p:spPr>
            <a:xfrm>
              <a:off x="2729160" y="4124160"/>
              <a:ext cx="404640" cy="54324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2851200" y="4621320"/>
              <a:ext cx="325440" cy="2617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2872080" y="4079880"/>
              <a:ext cx="422280" cy="78588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  <a:lnTo>
                    <a:pt x="56" y="124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2695680" y="5156280"/>
              <a:ext cx="317520" cy="3063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148280" y="4952880"/>
            <a:ext cx="14256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52" name="未知"/>
          <p:cNvSpPr/>
          <p:nvPr/>
        </p:nvSpPr>
        <p:spPr>
          <a:xfrm>
            <a:off x="4224240" y="4495680"/>
            <a:ext cx="4095720" cy="457200"/>
          </a:xfrm>
          <a:custGeom>
            <a:avLst/>
            <a:gdLst/>
            <a:ahLst/>
            <a:rect l="l" t="t" r="r" b="b"/>
            <a:pathLst>
              <a:path w="2676" h="366">
                <a:moveTo>
                  <a:pt x="2676" y="0"/>
                </a:moveTo>
                <a:lnTo>
                  <a:pt x="614" y="0"/>
                </a:lnTo>
                <a:lnTo>
                  <a:pt x="0" y="36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114720" y="3019320"/>
            <a:ext cx="146160" cy="144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54" name="未知"/>
          <p:cNvSpPr/>
          <p:nvPr/>
        </p:nvSpPr>
        <p:spPr>
          <a:xfrm>
            <a:off x="3284640" y="3087720"/>
            <a:ext cx="5041800" cy="493560"/>
          </a:xfrm>
          <a:custGeom>
            <a:avLst/>
            <a:gdLst/>
            <a:ahLst/>
            <a:rect l="l" t="t" r="r" b="b"/>
            <a:pathLst>
              <a:path w="3176" h="311">
                <a:moveTo>
                  <a:pt x="3176" y="311"/>
                </a:moveTo>
                <a:lnTo>
                  <a:pt x="915" y="31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635200" y="2347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3972240" y="2007720"/>
            <a:ext cx="1530720" cy="1462320"/>
            <a:chOff x="3972240" y="2007720"/>
            <a:chExt cx="1530720" cy="1462320"/>
          </a:xfrm>
        </p:grpSpPr>
        <p:sp>
          <p:nvSpPr>
            <p:cNvPr id="858" name=""/>
            <p:cNvSpPr/>
            <p:nvPr/>
          </p:nvSpPr>
          <p:spPr>
            <a:xfrm>
              <a:off x="4051440" y="2057400"/>
              <a:ext cx="1339560" cy="1352520"/>
            </a:xfrm>
            <a:prstGeom prst="ellipse">
              <a:avLst/>
            </a:prstGeom>
            <a:gradFill rotWithShape="0">
              <a:gsLst>
                <a:gs pos="0">
                  <a:srgbClr val="2d556e"/>
                </a:gs>
                <a:gs pos="50000">
                  <a:srgbClr val="4582a7"/>
                </a:gs>
                <a:gs pos="100000">
                  <a:srgbClr val="2d556e"/>
                </a:gs>
              </a:gsLst>
              <a:lin ang="135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3972240" y="2733120"/>
              <a:ext cx="1133280" cy="736920"/>
              <a:chOff x="3972240" y="2733120"/>
              <a:chExt cx="1133280" cy="73692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3972240" y="2733120"/>
                <a:ext cx="1133280" cy="736920"/>
                <a:chOff x="3972240" y="2733120"/>
                <a:chExt cx="1133280" cy="736920"/>
              </a:xfrm>
            </p:grpSpPr>
            <p:grpSp>
              <p:nvGrpSpPr>
                <p:cNvPr id="861" name=""/>
                <p:cNvGrpSpPr/>
                <p:nvPr/>
              </p:nvGrpSpPr>
              <p:grpSpPr>
                <a:xfrm>
                  <a:off x="4093560" y="2956680"/>
                  <a:ext cx="1011960" cy="503640"/>
                  <a:chOff x="4093560" y="2956680"/>
                  <a:chExt cx="1011960" cy="50364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 flipH="1" flipV="1" rot="5374200">
                    <a:off x="4640760" y="2892240"/>
                    <a:ext cx="190080" cy="73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 flipV="1" rot="6189600">
                    <a:off x="4518360" y="28875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 flipV="1" rot="6485400">
                    <a:off x="4450320" y="286668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 flipV="1" rot="7017600">
                    <a:off x="4369680" y="284004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3972240" y="2733120"/>
                  <a:ext cx="920160" cy="736920"/>
                  <a:chOff x="3972240" y="2733120"/>
                  <a:chExt cx="920160" cy="73692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 flipH="1" flipV="1" rot="6727200">
                    <a:off x="4419000" y="285804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 flipV="1" rot="7542600">
                    <a:off x="4307400" y="280728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 flipV="1" rot="7838400">
                    <a:off x="4252680" y="27630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 flipV="1" rot="8370600">
                    <a:off x="4188240" y="270648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1" name=""/>
              <p:cNvGrpSpPr/>
              <p:nvPr/>
            </p:nvGrpSpPr>
            <p:grpSpPr>
              <a:xfrm>
                <a:off x="4061880" y="2807640"/>
                <a:ext cx="928080" cy="603360"/>
                <a:chOff x="4061880" y="2807640"/>
                <a:chExt cx="928080" cy="603360"/>
              </a:xfrm>
            </p:grpSpPr>
            <p:grpSp>
              <p:nvGrpSpPr>
                <p:cNvPr id="872" name=""/>
                <p:cNvGrpSpPr/>
                <p:nvPr/>
              </p:nvGrpSpPr>
              <p:grpSpPr>
                <a:xfrm>
                  <a:off x="4160880" y="2990880"/>
                  <a:ext cx="829080" cy="412560"/>
                  <a:chOff x="4160880" y="2990880"/>
                  <a:chExt cx="829080" cy="41256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flipH="1" flipV="1" rot="5374200">
                    <a:off x="4609080" y="29365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H="1" flipV="1" rot="6189600">
                    <a:off x="4509000" y="29332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H="1" flipV="1" rot="6485400">
                    <a:off x="4452480" y="291744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H="1" flipV="1" rot="7017600">
                    <a:off x="4386960" y="28951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4061880" y="2807640"/>
                  <a:ext cx="753840" cy="603360"/>
                  <a:chOff x="4061880" y="2807640"/>
                  <a:chExt cx="753840" cy="60336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 flipH="1" flipV="1" rot="6727200">
                    <a:off x="4428000" y="29098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flipH="1" flipV="1" rot="7542600">
                    <a:off x="4336200" y="2868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 flipV="1" rot="7838400">
                    <a:off x="4291200" y="2831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H="1" flipV="1" rot="8370600">
                    <a:off x="4239000" y="2786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2" name=""/>
            <p:cNvGrpSpPr/>
            <p:nvPr/>
          </p:nvGrpSpPr>
          <p:grpSpPr>
            <a:xfrm>
              <a:off x="4459320" y="2007720"/>
              <a:ext cx="1043640" cy="857520"/>
              <a:chOff x="4459320" y="2007720"/>
              <a:chExt cx="1043640" cy="85752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4459320" y="2007720"/>
                <a:ext cx="1043640" cy="857520"/>
                <a:chOff x="4459320" y="2007720"/>
                <a:chExt cx="1043640" cy="857520"/>
              </a:xfrm>
            </p:grpSpPr>
            <p:grpSp>
              <p:nvGrpSpPr>
                <p:cNvPr id="884" name=""/>
                <p:cNvGrpSpPr/>
                <p:nvPr/>
              </p:nvGrpSpPr>
              <p:grpSpPr>
                <a:xfrm>
                  <a:off x="4459320" y="2007720"/>
                  <a:ext cx="980640" cy="625680"/>
                  <a:chOff x="4459320" y="2007720"/>
                  <a:chExt cx="980640" cy="62568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 flipH="1" flipV="1" rot="16891800">
                    <a:off x="4743720" y="1851480"/>
                    <a:ext cx="190080" cy="73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H="1" flipV="1" rot="17707200">
                    <a:off x="4862520" y="188100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H="1" flipV="1" rot="18003000">
                    <a:off x="4924800" y="19155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H="1" flipV="1" rot="18535200">
                    <a:off x="4997880" y="195912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4690080" y="2012760"/>
                  <a:ext cx="812880" cy="852480"/>
                  <a:chOff x="4690080" y="2012760"/>
                  <a:chExt cx="812880" cy="85248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 flipH="1" flipV="1" rot="18244800">
                    <a:off x="4953240" y="19296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H="1" flipV="1" rot="19060800">
                    <a:off x="5051160" y="200196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H="1" flipV="1" rot="19356000">
                    <a:off x="5095800" y="20581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flipH="1" flipV="1" rot="19888200">
                    <a:off x="5146920" y="2126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4571280" y="2077560"/>
                <a:ext cx="855000" cy="701640"/>
                <a:chOff x="4571280" y="2077560"/>
                <a:chExt cx="855000" cy="701640"/>
              </a:xfrm>
            </p:grpSpPr>
            <p:grpSp>
              <p:nvGrpSpPr>
                <p:cNvPr id="895" name=""/>
                <p:cNvGrpSpPr/>
                <p:nvPr/>
              </p:nvGrpSpPr>
              <p:grpSpPr>
                <a:xfrm>
                  <a:off x="4571280" y="2077560"/>
                  <a:ext cx="803520" cy="511560"/>
                  <a:chOff x="4571280" y="2077560"/>
                  <a:chExt cx="803520" cy="51156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 flipH="1" flipV="1" rot="16891800">
                    <a:off x="4804920" y="194940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H="1" flipV="1" rot="17707200">
                    <a:off x="4901760" y="19731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flipH="1" flipV="1" rot="18003000">
                    <a:off x="4953240" y="20008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 flipH="1" flipV="1" rot="18535200">
                    <a:off x="5012640" y="20365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4760280" y="2081160"/>
                  <a:ext cx="666000" cy="698040"/>
                  <a:chOff x="4760280" y="2081160"/>
                  <a:chExt cx="666000" cy="69804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 flipH="1" flipV="1" rot="18244800">
                    <a:off x="4975560" y="2012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 flipV="1" rot="19060800">
                    <a:off x="5056560" y="20728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 flipV="1" rot="19356000">
                    <a:off x="5093280" y="2118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 flipV="1" rot="19888200">
                    <a:off x="5133960" y="217332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05" name=""/>
          <p:cNvGrpSpPr/>
          <p:nvPr/>
        </p:nvGrpSpPr>
        <p:grpSpPr>
          <a:xfrm>
            <a:off x="5529600" y="3418200"/>
            <a:ext cx="1490400" cy="1482840"/>
            <a:chOff x="5529600" y="3418200"/>
            <a:chExt cx="1490400" cy="1482840"/>
          </a:xfrm>
        </p:grpSpPr>
        <p:sp>
          <p:nvSpPr>
            <p:cNvPr id="906" name=""/>
            <p:cNvSpPr/>
            <p:nvPr/>
          </p:nvSpPr>
          <p:spPr>
            <a:xfrm>
              <a:off x="5586480" y="348300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57398d"/>
                </a:gs>
                <a:gs pos="50000">
                  <a:srgbClr val="7e52cc"/>
                </a:gs>
                <a:gs pos="100000">
                  <a:srgbClr val="57398d"/>
                </a:gs>
              </a:gsLst>
              <a:lin ang="135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5529600" y="4163760"/>
              <a:ext cx="1134360" cy="737280"/>
              <a:chOff x="5529600" y="4163760"/>
              <a:chExt cx="1134360" cy="737280"/>
            </a:xfrm>
          </p:grpSpPr>
          <p:grpSp>
            <p:nvGrpSpPr>
              <p:cNvPr id="908" name=""/>
              <p:cNvGrpSpPr/>
              <p:nvPr/>
            </p:nvGrpSpPr>
            <p:grpSpPr>
              <a:xfrm>
                <a:off x="5529600" y="4163760"/>
                <a:ext cx="1134360" cy="737280"/>
                <a:chOff x="5529600" y="4163760"/>
                <a:chExt cx="1134360" cy="737280"/>
              </a:xfrm>
            </p:grpSpPr>
            <p:grpSp>
              <p:nvGrpSpPr>
                <p:cNvPr id="909" name=""/>
                <p:cNvGrpSpPr/>
                <p:nvPr/>
              </p:nvGrpSpPr>
              <p:grpSpPr>
                <a:xfrm>
                  <a:off x="5651640" y="4387680"/>
                  <a:ext cx="1012320" cy="504000"/>
                  <a:chOff x="5651640" y="4387680"/>
                  <a:chExt cx="1012320" cy="50400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flipH="1" flipV="1" rot="5374200">
                    <a:off x="6199560" y="432252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 flipV="1" rot="6189600">
                    <a:off x="6076440" y="43182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 flipV="1" rot="6485400">
                    <a:off x="6009120" y="42976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 flipV="1" rot="7017600">
                    <a:off x="5928480" y="42706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"/>
                <p:cNvGrpSpPr/>
                <p:nvPr/>
              </p:nvGrpSpPr>
              <p:grpSpPr>
                <a:xfrm>
                  <a:off x="5529600" y="4163760"/>
                  <a:ext cx="920880" cy="737280"/>
                  <a:chOff x="5529600" y="4163760"/>
                  <a:chExt cx="920880" cy="73728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 flipH="1" flipV="1" rot="6727200">
                    <a:off x="5976720" y="4289040"/>
                    <a:ext cx="19080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 flipV="1" rot="7542600">
                    <a:off x="5865480" y="4238640"/>
                    <a:ext cx="19080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 flipV="1" rot="7838400">
                    <a:off x="5810040" y="4194000"/>
                    <a:ext cx="19080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 flipV="1" rot="8370600">
                    <a:off x="5746320" y="4137120"/>
                    <a:ext cx="19080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9" name=""/>
              <p:cNvGrpSpPr/>
              <p:nvPr/>
            </p:nvGrpSpPr>
            <p:grpSpPr>
              <a:xfrm>
                <a:off x="5619240" y="4237920"/>
                <a:ext cx="928800" cy="603720"/>
                <a:chOff x="5619240" y="4237920"/>
                <a:chExt cx="928800" cy="603720"/>
              </a:xfrm>
            </p:grpSpPr>
            <p:grpSp>
              <p:nvGrpSpPr>
                <p:cNvPr id="920" name=""/>
                <p:cNvGrpSpPr/>
                <p:nvPr/>
              </p:nvGrpSpPr>
              <p:grpSpPr>
                <a:xfrm>
                  <a:off x="5718960" y="4421520"/>
                  <a:ext cx="829080" cy="412560"/>
                  <a:chOff x="5718960" y="4421520"/>
                  <a:chExt cx="829080" cy="41256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 flipH="1" flipV="1" rot="5374200">
                    <a:off x="6167160" y="43671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 flipV="1" rot="6189600">
                    <a:off x="6066720" y="43639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 flipV="1" rot="6485400">
                    <a:off x="6010560" y="43480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 flipV="1" rot="7017600">
                    <a:off x="5945040" y="43257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5619240" y="4237920"/>
                  <a:ext cx="754200" cy="603720"/>
                  <a:chOff x="5619240" y="4237920"/>
                  <a:chExt cx="754200" cy="60372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 flipH="1" flipV="1" rot="6727200">
                    <a:off x="5985360" y="4340880"/>
                    <a:ext cx="15624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H="1" flipV="1" rot="7542600">
                    <a:off x="5894280" y="429912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 flipV="1" rot="7838400">
                    <a:off x="5848560" y="4262760"/>
                    <a:ext cx="15624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 flipV="1" rot="8370600">
                    <a:off x="5796720" y="421596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0" name=""/>
            <p:cNvGrpSpPr/>
            <p:nvPr/>
          </p:nvGrpSpPr>
          <p:grpSpPr>
            <a:xfrm>
              <a:off x="6032160" y="3418200"/>
              <a:ext cx="987840" cy="921600"/>
              <a:chOff x="6032160" y="3418200"/>
              <a:chExt cx="987840" cy="921600"/>
            </a:xfrm>
          </p:grpSpPr>
          <p:grpSp>
            <p:nvGrpSpPr>
              <p:cNvPr id="931" name=""/>
              <p:cNvGrpSpPr/>
              <p:nvPr/>
            </p:nvGrpSpPr>
            <p:grpSpPr>
              <a:xfrm>
                <a:off x="6032160" y="3418200"/>
                <a:ext cx="987840" cy="921600"/>
                <a:chOff x="6032160" y="3418200"/>
                <a:chExt cx="987840" cy="921600"/>
              </a:xfrm>
            </p:grpSpPr>
            <p:grpSp>
              <p:nvGrpSpPr>
                <p:cNvPr id="932" name=""/>
                <p:cNvGrpSpPr/>
                <p:nvPr/>
              </p:nvGrpSpPr>
              <p:grpSpPr>
                <a:xfrm>
                  <a:off x="6032160" y="3418200"/>
                  <a:ext cx="953640" cy="690120"/>
                  <a:chOff x="6032160" y="3418200"/>
                  <a:chExt cx="953640" cy="69012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 flipH="1" flipV="1" rot="17235600">
                    <a:off x="6317640" y="3278160"/>
                    <a:ext cx="19008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 flipV="1" rot="18051600">
                    <a:off x="6433560" y="331848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H="1" flipV="1" rot="18346800">
                    <a:off x="6491880" y="3359520"/>
                    <a:ext cx="19008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flipH="1" flipV="1" rot="18879000">
                    <a:off x="6561000" y="341064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" name=""/>
                <p:cNvGrpSpPr/>
                <p:nvPr/>
              </p:nvGrpSpPr>
              <p:grpSpPr>
                <a:xfrm>
                  <a:off x="6269400" y="3436200"/>
                  <a:ext cx="750600" cy="903600"/>
                  <a:chOff x="6269400" y="3436200"/>
                  <a:chExt cx="750600" cy="90360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 flipH="1" flipV="1" rot="18588600">
                    <a:off x="6518880" y="337572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 flipH="1" flipV="1" rot="19404600">
                    <a:off x="6610320" y="34588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H="1" flipV="1" rot="19699800">
                    <a:off x="6648840" y="351828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H="1" flipV="1" rot="20232000">
                    <a:off x="6692400" y="35924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6140880" y="3494880"/>
                <a:ext cx="809280" cy="755280"/>
                <a:chOff x="6140880" y="3494880"/>
                <a:chExt cx="809280" cy="75528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6140880" y="3494880"/>
                  <a:ext cx="781920" cy="564840"/>
                  <a:chOff x="6140880" y="3494880"/>
                  <a:chExt cx="781920" cy="56484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 flipH="1" flipV="1" rot="17235600">
                    <a:off x="6374880" y="338004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H="1" flipV="1" rot="18051600">
                    <a:off x="6470280" y="341388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H="1" flipV="1" rot="18346800">
                    <a:off x="6518160" y="344700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 flipV="1" rot="18879000">
                    <a:off x="6574320" y="348840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"/>
                <p:cNvGrpSpPr/>
                <p:nvPr/>
              </p:nvGrpSpPr>
              <p:grpSpPr>
                <a:xfrm>
                  <a:off x="6335640" y="3509640"/>
                  <a:ext cx="614520" cy="740520"/>
                  <a:chOff x="6335640" y="3509640"/>
                  <a:chExt cx="614520" cy="74052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 flipH="1" flipV="1" rot="18588600">
                    <a:off x="6539760" y="345996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flipH="1" flipV="1" rot="19404600">
                    <a:off x="6614280" y="352764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flipH="1" flipV="1" rot="19699800">
                    <a:off x="6645960" y="3576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 flipV="1" rot="20232000">
                    <a:off x="6682680" y="3638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53" name=""/>
          <p:cNvGrpSpPr/>
          <p:nvPr/>
        </p:nvGrpSpPr>
        <p:grpSpPr>
          <a:xfrm>
            <a:off x="2366280" y="3382200"/>
            <a:ext cx="1505520" cy="1505520"/>
            <a:chOff x="2366280" y="3382200"/>
            <a:chExt cx="1505520" cy="1505520"/>
          </a:xfrm>
        </p:grpSpPr>
        <p:sp>
          <p:nvSpPr>
            <p:cNvPr id="954" name=""/>
            <p:cNvSpPr/>
            <p:nvPr/>
          </p:nvSpPr>
          <p:spPr>
            <a:xfrm>
              <a:off x="2439720" y="347184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6b6949"/>
                </a:gs>
                <a:gs pos="50000">
                  <a:srgbClr val="b2af7a"/>
                </a:gs>
                <a:gs pos="100000">
                  <a:srgbClr val="6b6949"/>
                </a:gs>
              </a:gsLst>
              <a:lin ang="135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2366280" y="4149360"/>
              <a:ext cx="1137240" cy="738360"/>
              <a:chOff x="2366280" y="4149360"/>
              <a:chExt cx="1137240" cy="73836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2366280" y="4149360"/>
                <a:ext cx="1137240" cy="738360"/>
                <a:chOff x="2366280" y="4149360"/>
                <a:chExt cx="1137240" cy="738360"/>
              </a:xfrm>
            </p:grpSpPr>
            <p:grpSp>
              <p:nvGrpSpPr>
                <p:cNvPr id="957" name=""/>
                <p:cNvGrpSpPr/>
                <p:nvPr/>
              </p:nvGrpSpPr>
              <p:grpSpPr>
                <a:xfrm>
                  <a:off x="2487960" y="4374000"/>
                  <a:ext cx="1015560" cy="504360"/>
                  <a:chOff x="2487960" y="4374000"/>
                  <a:chExt cx="1015560" cy="50436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 flipH="1" flipV="1" rot="5374200">
                    <a:off x="3038040" y="43074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 flipV="1" rot="6189600">
                    <a:off x="2914920" y="43034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 flipV="1" rot="6485400">
                    <a:off x="2846520" y="42822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H="1" flipV="1" rot="7017600">
                    <a:off x="2765520" y="4255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2366280" y="4149360"/>
                  <a:ext cx="922320" cy="738360"/>
                  <a:chOff x="2366280" y="4149360"/>
                  <a:chExt cx="922320" cy="73836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 flipH="1" flipV="1" rot="6727200">
                    <a:off x="2814480" y="4275720"/>
                    <a:ext cx="190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H="1" flipV="1" rot="7542600">
                    <a:off x="2702880" y="422388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H="1" flipV="1" rot="7838400">
                    <a:off x="2647440" y="417924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 flipV="1" rot="8370600">
                    <a:off x="2583720" y="412200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7" name=""/>
              <p:cNvGrpSpPr/>
              <p:nvPr/>
            </p:nvGrpSpPr>
            <p:grpSpPr>
              <a:xfrm>
                <a:off x="2455920" y="4223880"/>
                <a:ext cx="931320" cy="605520"/>
                <a:chOff x="2455920" y="4223880"/>
                <a:chExt cx="931320" cy="605520"/>
              </a:xfrm>
            </p:grpSpPr>
            <p:grpSp>
              <p:nvGrpSpPr>
                <p:cNvPr id="968" name=""/>
                <p:cNvGrpSpPr/>
                <p:nvPr/>
              </p:nvGrpSpPr>
              <p:grpSpPr>
                <a:xfrm>
                  <a:off x="2555280" y="4408200"/>
                  <a:ext cx="831960" cy="412560"/>
                  <a:chOff x="2555280" y="4408200"/>
                  <a:chExt cx="831960" cy="41256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 flipH="1" flipV="1" rot="5374200">
                    <a:off x="3005640" y="4353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 flipV="1" rot="6189600">
                    <a:off x="2904840" y="4350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flipH="1" flipV="1" rot="6485400">
                    <a:off x="2849040" y="4333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flipH="1" flipV="1" rot="7017600">
                    <a:off x="2783160" y="4311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2455920" y="4223880"/>
                  <a:ext cx="755640" cy="605520"/>
                  <a:chOff x="2455920" y="4223880"/>
                  <a:chExt cx="755640" cy="60552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 flipH="1" flipV="1" rot="6727200">
                    <a:off x="2822760" y="43264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flipH="1" flipV="1" rot="7542600">
                    <a:off x="2732040" y="4285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flipH="1" flipV="1" rot="7838400">
                    <a:off x="2686320" y="424728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H="1" flipV="1" rot="8370600">
                    <a:off x="2633400" y="420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78" name=""/>
            <p:cNvGrpSpPr/>
            <p:nvPr/>
          </p:nvGrpSpPr>
          <p:grpSpPr>
            <a:xfrm>
              <a:off x="2833200" y="3382200"/>
              <a:ext cx="1038600" cy="937440"/>
              <a:chOff x="2833200" y="3382200"/>
              <a:chExt cx="1038600" cy="93744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2833200" y="3382200"/>
                <a:ext cx="999000" cy="909720"/>
                <a:chOff x="2833200" y="3382200"/>
                <a:chExt cx="999000" cy="909720"/>
              </a:xfrm>
            </p:grpSpPr>
            <p:grpSp>
              <p:nvGrpSpPr>
                <p:cNvPr id="980" name=""/>
                <p:cNvGrpSpPr/>
                <p:nvPr/>
              </p:nvGrpSpPr>
              <p:grpSpPr>
                <a:xfrm>
                  <a:off x="2833200" y="3382200"/>
                  <a:ext cx="999000" cy="909720"/>
                  <a:chOff x="2833200" y="3382200"/>
                  <a:chExt cx="999000" cy="909720"/>
                </a:xfrm>
              </p:grpSpPr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833200" y="3382200"/>
                    <a:ext cx="959760" cy="677520"/>
                    <a:chOff x="2833200" y="3382200"/>
                    <a:chExt cx="959760" cy="67752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flipV="1" rot="17172600">
                      <a:off x="3119760" y="32389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flipV="1" rot="17988600">
                      <a:off x="3236040" y="3277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flipH="1" flipV="1" rot="18283800">
                      <a:off x="3295800" y="33163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 flipH="1" flipV="1" rot="18816000">
                      <a:off x="3365280" y="33667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3070440" y="3398040"/>
                    <a:ext cx="761760" cy="893880"/>
                    <a:chOff x="3070440" y="3398040"/>
                    <a:chExt cx="761760" cy="89388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 flipH="1" flipV="1" rot="18525600">
                      <a:off x="3322800" y="333324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flipH="1" flipV="1" rot="19341600">
                      <a:off x="3415680" y="34135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flipV="1" rot="19636800">
                      <a:off x="3455640" y="34729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 flipH="1" flipV="1" rot="20169000">
                      <a:off x="3500280" y="354528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2943000" y="3457800"/>
                  <a:ext cx="818280" cy="744840"/>
                  <a:chOff x="2943000" y="3457800"/>
                  <a:chExt cx="818280" cy="744840"/>
                </a:xfrm>
              </p:grpSpPr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2943000" y="3457800"/>
                    <a:ext cx="785880" cy="555120"/>
                    <a:chOff x="2943000" y="3457800"/>
                    <a:chExt cx="785880" cy="55512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 flipH="1" flipV="1" rot="17172600">
                      <a:off x="3177360" y="33404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flipH="1" flipV="1" rot="17988600">
                      <a:off x="3273840" y="337212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H="1" flipV="1" rot="18283800">
                      <a:off x="3322080" y="340416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 flipH="1" flipV="1" rot="18816000">
                      <a:off x="3378240" y="34448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3137760" y="3471120"/>
                    <a:ext cx="623520" cy="731520"/>
                    <a:chOff x="3137760" y="3471120"/>
                    <a:chExt cx="623520" cy="73152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flipH="1" flipV="1" rot="18525600">
                      <a:off x="3344040" y="3418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flipH="1" flipV="1" rot="19341600">
                      <a:off x="3420360" y="34833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 flipH="1" flipV="1" rot="19636800">
                      <a:off x="3453120" y="35312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flipH="1" flipV="1" rot="20169000">
                      <a:off x="3489480" y="359100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02" name=""/>
              <p:cNvGrpSpPr/>
              <p:nvPr/>
            </p:nvGrpSpPr>
            <p:grpSpPr>
              <a:xfrm>
                <a:off x="2872800" y="3410280"/>
                <a:ext cx="999000" cy="909360"/>
                <a:chOff x="2872800" y="3410280"/>
                <a:chExt cx="999000" cy="909360"/>
              </a:xfrm>
            </p:grpSpPr>
            <p:grpSp>
              <p:nvGrpSpPr>
                <p:cNvPr id="1003" name=""/>
                <p:cNvGrpSpPr/>
                <p:nvPr/>
              </p:nvGrpSpPr>
              <p:grpSpPr>
                <a:xfrm>
                  <a:off x="2872800" y="3410280"/>
                  <a:ext cx="999000" cy="909360"/>
                  <a:chOff x="2872800" y="3410280"/>
                  <a:chExt cx="999000" cy="909360"/>
                </a:xfrm>
              </p:grpSpPr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2872800" y="3410280"/>
                    <a:ext cx="959760" cy="677520"/>
                    <a:chOff x="2872800" y="3410280"/>
                    <a:chExt cx="959760" cy="677520"/>
                  </a:xfrm>
                </p:grpSpPr>
                <p:sp>
                  <p:nvSpPr>
                    <p:cNvPr id="1005" name=""/>
                    <p:cNvSpPr/>
                    <p:nvPr/>
                  </p:nvSpPr>
                  <p:spPr>
                    <a:xfrm flipH="1" flipV="1" rot="17172600">
                      <a:off x="3159360" y="32670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flipH="1" flipV="1" rot="17988600">
                      <a:off x="3276000" y="3305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 flipH="1" flipV="1" rot="18283800">
                      <a:off x="3335400" y="33444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flipH="1" flipV="1" rot="18816000">
                      <a:off x="3404880" y="3394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9" name=""/>
                  <p:cNvGrpSpPr/>
                  <p:nvPr/>
                </p:nvGrpSpPr>
                <p:grpSpPr>
                  <a:xfrm>
                    <a:off x="3110040" y="3426120"/>
                    <a:ext cx="761760" cy="893520"/>
                    <a:chOff x="3110040" y="3426120"/>
                    <a:chExt cx="761760" cy="893520"/>
                  </a:xfrm>
                </p:grpSpPr>
                <p:sp>
                  <p:nvSpPr>
                    <p:cNvPr id="1010" name=""/>
                    <p:cNvSpPr/>
                    <p:nvPr/>
                  </p:nvSpPr>
                  <p:spPr>
                    <a:xfrm flipH="1" flipV="1" rot="18525600">
                      <a:off x="3362400" y="336132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 flipH="1" flipV="1" rot="19341600">
                      <a:off x="3455280" y="34416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 flipH="1" flipV="1" rot="19636800">
                      <a:off x="3495240" y="35010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 flipH="1" flipV="1" rot="20169000">
                      <a:off x="3539880" y="35730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4" name=""/>
                <p:cNvGrpSpPr/>
                <p:nvPr/>
              </p:nvGrpSpPr>
              <p:grpSpPr>
                <a:xfrm>
                  <a:off x="2982600" y="3485520"/>
                  <a:ext cx="818640" cy="744840"/>
                  <a:chOff x="2982600" y="3485520"/>
                  <a:chExt cx="818640" cy="744840"/>
                </a:xfrm>
              </p:grpSpPr>
              <p:grpSp>
                <p:nvGrpSpPr>
                  <p:cNvPr id="1015" name=""/>
                  <p:cNvGrpSpPr/>
                  <p:nvPr/>
                </p:nvGrpSpPr>
                <p:grpSpPr>
                  <a:xfrm>
                    <a:off x="2982600" y="3485520"/>
                    <a:ext cx="786240" cy="555480"/>
                    <a:chOff x="2982600" y="3485520"/>
                    <a:chExt cx="786240" cy="555480"/>
                  </a:xfrm>
                </p:grpSpPr>
                <p:sp>
                  <p:nvSpPr>
                    <p:cNvPr id="1016" name=""/>
                    <p:cNvSpPr/>
                    <p:nvPr/>
                  </p:nvSpPr>
                  <p:spPr>
                    <a:xfrm flipH="1" flipV="1" rot="17172600">
                      <a:off x="3216960" y="336852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 flipH="1" flipV="1" rot="17988600">
                      <a:off x="3313440" y="339984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H="1" flipV="1" rot="18283800">
                      <a:off x="3361680" y="34322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 flipH="1" flipV="1" rot="18816000">
                      <a:off x="3418200" y="347292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0" name=""/>
                  <p:cNvGrpSpPr/>
                  <p:nvPr/>
                </p:nvGrpSpPr>
                <p:grpSpPr>
                  <a:xfrm>
                    <a:off x="3177720" y="3499200"/>
                    <a:ext cx="623520" cy="731160"/>
                    <a:chOff x="3177720" y="3499200"/>
                    <a:chExt cx="623520" cy="731160"/>
                  </a:xfrm>
                </p:grpSpPr>
                <p:sp>
                  <p:nvSpPr>
                    <p:cNvPr id="1021" name=""/>
                    <p:cNvSpPr/>
                    <p:nvPr/>
                  </p:nvSpPr>
                  <p:spPr>
                    <a:xfrm flipH="1" flipV="1" rot="18525600">
                      <a:off x="3384000" y="3446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 flipH="1" flipV="1" rot="19341600">
                      <a:off x="3459960" y="35110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flipH="1" flipV="1" rot="19636800">
                      <a:off x="3492720" y="35593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flipH="1" flipV="1" rot="20169000">
                      <a:off x="3529440" y="36187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025" name=""/>
          <p:cNvGrpSpPr/>
          <p:nvPr/>
        </p:nvGrpSpPr>
        <p:grpSpPr>
          <a:xfrm>
            <a:off x="4031640" y="4908960"/>
            <a:ext cx="1505520" cy="1505520"/>
            <a:chOff x="4031640" y="4908960"/>
            <a:chExt cx="1505520" cy="1505520"/>
          </a:xfrm>
        </p:grpSpPr>
        <p:sp>
          <p:nvSpPr>
            <p:cNvPr id="1026" name=""/>
            <p:cNvSpPr/>
            <p:nvPr/>
          </p:nvSpPr>
          <p:spPr>
            <a:xfrm>
              <a:off x="4105080" y="499896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22465e"/>
                </a:gs>
                <a:gs pos="50000">
                  <a:srgbClr val="4a9acc"/>
                </a:gs>
                <a:gs pos="100000">
                  <a:srgbClr val="22465e"/>
                </a:gs>
              </a:gsLst>
              <a:lin ang="135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4031640" y="5676480"/>
              <a:ext cx="1137960" cy="738000"/>
              <a:chOff x="4031640" y="5676480"/>
              <a:chExt cx="1137960" cy="738000"/>
            </a:xfrm>
          </p:grpSpPr>
          <p:grpSp>
            <p:nvGrpSpPr>
              <p:cNvPr id="1028" name=""/>
              <p:cNvGrpSpPr/>
              <p:nvPr/>
            </p:nvGrpSpPr>
            <p:grpSpPr>
              <a:xfrm>
                <a:off x="4031640" y="5676480"/>
                <a:ext cx="1137960" cy="738000"/>
                <a:chOff x="4031640" y="5676480"/>
                <a:chExt cx="1137960" cy="738000"/>
              </a:xfrm>
            </p:grpSpPr>
            <p:grpSp>
              <p:nvGrpSpPr>
                <p:cNvPr id="1029" name=""/>
                <p:cNvGrpSpPr/>
                <p:nvPr/>
              </p:nvGrpSpPr>
              <p:grpSpPr>
                <a:xfrm>
                  <a:off x="4154040" y="5901120"/>
                  <a:ext cx="1015560" cy="504360"/>
                  <a:chOff x="4154040" y="5901120"/>
                  <a:chExt cx="1015560" cy="50436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 flipV="1" rot="5374200">
                    <a:off x="4704120" y="58348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 flipH="1" flipV="1" rot="6189600">
                    <a:off x="4580280" y="583128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H="1" flipV="1" rot="6485400">
                    <a:off x="4511880" y="581040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 flipH="1" flipV="1" rot="7017600">
                    <a:off x="4431600" y="5783040"/>
                    <a:ext cx="18936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4" name=""/>
                <p:cNvGrpSpPr/>
                <p:nvPr/>
              </p:nvGrpSpPr>
              <p:grpSpPr>
                <a:xfrm>
                  <a:off x="4031640" y="5676480"/>
                  <a:ext cx="922320" cy="738000"/>
                  <a:chOff x="4031640" y="5676480"/>
                  <a:chExt cx="922320" cy="738000"/>
                </a:xfrm>
              </p:grpSpPr>
              <p:sp>
                <p:nvSpPr>
                  <p:cNvPr id="1035" name=""/>
                  <p:cNvSpPr/>
                  <p:nvPr/>
                </p:nvSpPr>
                <p:spPr>
                  <a:xfrm flipH="1" flipV="1" rot="6727200">
                    <a:off x="4479840" y="5802840"/>
                    <a:ext cx="19044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H="1" flipV="1" rot="7542600">
                    <a:off x="4368600" y="575064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 flipH="1" flipV="1" rot="7838400">
                    <a:off x="4312800" y="570636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H="1" flipV="1" rot="8370600">
                    <a:off x="4249080" y="564912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9" name=""/>
              <p:cNvGrpSpPr/>
              <p:nvPr/>
            </p:nvGrpSpPr>
            <p:grpSpPr>
              <a:xfrm>
                <a:off x="4121280" y="5751000"/>
                <a:ext cx="931320" cy="605160"/>
                <a:chOff x="4121280" y="5751000"/>
                <a:chExt cx="931320" cy="605160"/>
              </a:xfrm>
            </p:grpSpPr>
            <p:grpSp>
              <p:nvGrpSpPr>
                <p:cNvPr id="1040" name=""/>
                <p:cNvGrpSpPr/>
                <p:nvPr/>
              </p:nvGrpSpPr>
              <p:grpSpPr>
                <a:xfrm>
                  <a:off x="4220640" y="5935320"/>
                  <a:ext cx="831960" cy="412560"/>
                  <a:chOff x="4220640" y="5935320"/>
                  <a:chExt cx="831960" cy="412560"/>
                </a:xfrm>
              </p:grpSpPr>
              <p:sp>
                <p:nvSpPr>
                  <p:cNvPr id="1041" name=""/>
                  <p:cNvSpPr/>
                  <p:nvPr/>
                </p:nvSpPr>
                <p:spPr>
                  <a:xfrm flipH="1" flipV="1" rot="5374200">
                    <a:off x="4671000" y="58802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H="1" flipV="1" rot="6189600">
                    <a:off x="4570200" y="587736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H="1" flipV="1" rot="6485400">
                    <a:off x="4514400" y="5860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H="1" flipV="1" rot="7017600">
                    <a:off x="4448520" y="5838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4121280" y="5751000"/>
                  <a:ext cx="755640" cy="605160"/>
                  <a:chOff x="4121280" y="5751000"/>
                  <a:chExt cx="755640" cy="6051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 flipH="1" flipV="1" rot="6727200">
                    <a:off x="4488120" y="585324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 flipV="1" rot="7542600">
                    <a:off x="4397040" y="581220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H="1" flipV="1" rot="7838400">
                    <a:off x="4351680" y="577440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flipH="1" flipV="1" rot="8370600">
                    <a:off x="4298760" y="572868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0" name=""/>
            <p:cNvGrpSpPr/>
            <p:nvPr/>
          </p:nvGrpSpPr>
          <p:grpSpPr>
            <a:xfrm>
              <a:off x="4497840" y="4908960"/>
              <a:ext cx="1039320" cy="937800"/>
              <a:chOff x="4497840" y="4908960"/>
              <a:chExt cx="1039320" cy="9378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4497840" y="4908960"/>
                <a:ext cx="999720" cy="910080"/>
                <a:chOff x="4497840" y="4908960"/>
                <a:chExt cx="999720" cy="91008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4497840" y="4908960"/>
                  <a:ext cx="999720" cy="910080"/>
                  <a:chOff x="4497840" y="4908960"/>
                  <a:chExt cx="999720" cy="910080"/>
                </a:xfrm>
              </p:grpSpPr>
              <p:grpSp>
                <p:nvGrpSpPr>
                  <p:cNvPr id="1053" name=""/>
                  <p:cNvGrpSpPr/>
                  <p:nvPr/>
                </p:nvGrpSpPr>
                <p:grpSpPr>
                  <a:xfrm>
                    <a:off x="4497840" y="4908960"/>
                    <a:ext cx="959760" cy="677880"/>
                    <a:chOff x="4497840" y="4908960"/>
                    <a:chExt cx="959760" cy="677880"/>
                  </a:xfrm>
                </p:grpSpPr>
                <p:sp>
                  <p:nvSpPr>
                    <p:cNvPr id="1054" name=""/>
                    <p:cNvSpPr/>
                    <p:nvPr/>
                  </p:nvSpPr>
                  <p:spPr>
                    <a:xfrm flipH="1" flipV="1" rot="17172600">
                      <a:off x="4784400" y="47653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 flipH="1" flipV="1" rot="17988600">
                      <a:off x="4901040" y="48056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 flipH="1" flipV="1" rot="18283800">
                      <a:off x="4960800" y="48441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 flipH="1" flipV="1" rot="18816000">
                      <a:off x="5030280" y="4893840"/>
                      <a:ext cx="18900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4735800" y="4925160"/>
                    <a:ext cx="761760" cy="893880"/>
                    <a:chOff x="4735800" y="4925160"/>
                    <a:chExt cx="761760" cy="893880"/>
                  </a:xfrm>
                </p:grpSpPr>
                <p:sp>
                  <p:nvSpPr>
                    <p:cNvPr id="1059" name=""/>
                    <p:cNvSpPr/>
                    <p:nvPr/>
                  </p:nvSpPr>
                  <p:spPr>
                    <a:xfrm flipH="1" flipV="1" rot="18525600">
                      <a:off x="4988160" y="486036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 flipH="1" flipV="1" rot="19341600">
                      <a:off x="5081040" y="49406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flipH="1" flipV="1" rot="19636800">
                      <a:off x="5121000" y="50000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flipH="1" flipV="1" rot="20169000">
                      <a:off x="5165640" y="50724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4608000" y="4984920"/>
                  <a:ext cx="817920" cy="744480"/>
                  <a:chOff x="4608000" y="4984920"/>
                  <a:chExt cx="817920" cy="744480"/>
                </a:xfrm>
              </p:grpSpPr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4608000" y="4984920"/>
                    <a:ext cx="785520" cy="554400"/>
                    <a:chOff x="4608000" y="4984920"/>
                    <a:chExt cx="785520" cy="554400"/>
                  </a:xfrm>
                </p:grpSpPr>
                <p:sp>
                  <p:nvSpPr>
                    <p:cNvPr id="1065" name=""/>
                    <p:cNvSpPr/>
                    <p:nvPr/>
                  </p:nvSpPr>
                  <p:spPr>
                    <a:xfrm flipH="1" flipV="1" rot="17172600">
                      <a:off x="4842720" y="486792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 flipH="1" flipV="1" rot="17988600">
                      <a:off x="4938480" y="489924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 flipH="1" flipV="1" rot="18283800">
                      <a:off x="4987440" y="493128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 flipH="1" flipV="1" rot="18816000">
                      <a:off x="5042880" y="49712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9" name=""/>
                  <p:cNvGrpSpPr/>
                  <p:nvPr/>
                </p:nvGrpSpPr>
                <p:grpSpPr>
                  <a:xfrm>
                    <a:off x="4802400" y="4998240"/>
                    <a:ext cx="623520" cy="731160"/>
                    <a:chOff x="4802400" y="4998240"/>
                    <a:chExt cx="623520" cy="731160"/>
                  </a:xfrm>
                </p:grpSpPr>
                <p:sp>
                  <p:nvSpPr>
                    <p:cNvPr id="1070" name=""/>
                    <p:cNvSpPr/>
                    <p:nvPr/>
                  </p:nvSpPr>
                  <p:spPr>
                    <a:xfrm flipH="1" flipV="1" rot="18525600">
                      <a:off x="5008680" y="4945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 flipH="1" flipV="1" rot="19341600">
                      <a:off x="5085720" y="5011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 flipH="1" flipV="1" rot="19636800">
                      <a:off x="5118120" y="5059800"/>
                      <a:ext cx="1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 flipH="1" flipV="1" rot="20169000">
                      <a:off x="5154120" y="51177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4537440" y="4937040"/>
                <a:ext cx="999720" cy="909720"/>
                <a:chOff x="4537440" y="4937040"/>
                <a:chExt cx="999720" cy="90972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4537440" y="4937040"/>
                  <a:ext cx="999720" cy="909720"/>
                  <a:chOff x="4537440" y="4937040"/>
                  <a:chExt cx="999720" cy="909720"/>
                </a:xfrm>
              </p:grpSpPr>
              <p:grpSp>
                <p:nvGrpSpPr>
                  <p:cNvPr id="1076" name=""/>
                  <p:cNvGrpSpPr/>
                  <p:nvPr/>
                </p:nvGrpSpPr>
                <p:grpSpPr>
                  <a:xfrm>
                    <a:off x="4537440" y="4937040"/>
                    <a:ext cx="959760" cy="677880"/>
                    <a:chOff x="4537440" y="4937040"/>
                    <a:chExt cx="959760" cy="677880"/>
                  </a:xfrm>
                </p:grpSpPr>
                <p:sp>
                  <p:nvSpPr>
                    <p:cNvPr id="1077" name=""/>
                    <p:cNvSpPr/>
                    <p:nvPr/>
                  </p:nvSpPr>
                  <p:spPr>
                    <a:xfrm flipH="1" flipV="1" rot="17172600">
                      <a:off x="4824000" y="4793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 flipH="1" flipV="1" rot="17988600">
                      <a:off x="4941000" y="48337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 flipH="1" flipV="1" rot="18283800">
                      <a:off x="5000400" y="48722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 flipH="1" flipV="1" rot="18816000">
                      <a:off x="5069880" y="4921920"/>
                      <a:ext cx="18900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1" name=""/>
                  <p:cNvGrpSpPr/>
                  <p:nvPr/>
                </p:nvGrpSpPr>
                <p:grpSpPr>
                  <a:xfrm>
                    <a:off x="4775400" y="4953240"/>
                    <a:ext cx="761760" cy="893520"/>
                    <a:chOff x="4775400" y="4953240"/>
                    <a:chExt cx="761760" cy="893520"/>
                  </a:xfrm>
                </p:grpSpPr>
                <p:sp>
                  <p:nvSpPr>
                    <p:cNvPr id="1082" name=""/>
                    <p:cNvSpPr/>
                    <p:nvPr/>
                  </p:nvSpPr>
                  <p:spPr>
                    <a:xfrm flipH="1" flipV="1" rot="18525600">
                      <a:off x="5027760" y="4888440"/>
                      <a:ext cx="18936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 flipH="1" flipV="1" rot="19341600">
                      <a:off x="5120640" y="49687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 flipH="1" flipV="1" rot="19636800">
                      <a:off x="5160600" y="50281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 flipH="1" flipV="1" rot="20169000">
                      <a:off x="5205240" y="51001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86" name=""/>
                <p:cNvGrpSpPr/>
                <p:nvPr/>
              </p:nvGrpSpPr>
              <p:grpSpPr>
                <a:xfrm>
                  <a:off x="4647600" y="5012640"/>
                  <a:ext cx="817920" cy="744480"/>
                  <a:chOff x="4647600" y="5012640"/>
                  <a:chExt cx="817920" cy="744480"/>
                </a:xfrm>
              </p:grpSpPr>
              <p:grpSp>
                <p:nvGrpSpPr>
                  <p:cNvPr id="1087" name=""/>
                  <p:cNvGrpSpPr/>
                  <p:nvPr/>
                </p:nvGrpSpPr>
                <p:grpSpPr>
                  <a:xfrm>
                    <a:off x="4647600" y="5012640"/>
                    <a:ext cx="785520" cy="554760"/>
                    <a:chOff x="4647600" y="5012640"/>
                    <a:chExt cx="785520" cy="554760"/>
                  </a:xfrm>
                </p:grpSpPr>
                <p:sp>
                  <p:nvSpPr>
                    <p:cNvPr id="1088" name=""/>
                    <p:cNvSpPr/>
                    <p:nvPr/>
                  </p:nvSpPr>
                  <p:spPr>
                    <a:xfrm flipH="1" flipV="1" rot="17172600">
                      <a:off x="4882320" y="489600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 flipH="1" flipV="1" rot="17988600">
                      <a:off x="4978080" y="49269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 flipV="1" rot="18283800">
                      <a:off x="5027040" y="49593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 flipH="1" flipV="1" rot="18816000">
                      <a:off x="5082480" y="499932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2" name=""/>
                  <p:cNvGrpSpPr/>
                  <p:nvPr/>
                </p:nvGrpSpPr>
                <p:grpSpPr>
                  <a:xfrm>
                    <a:off x="4842360" y="5026320"/>
                    <a:ext cx="623160" cy="730800"/>
                    <a:chOff x="4842360" y="5026320"/>
                    <a:chExt cx="623160" cy="730800"/>
                  </a:xfrm>
                </p:grpSpPr>
                <p:sp>
                  <p:nvSpPr>
                    <p:cNvPr id="1093" name=""/>
                    <p:cNvSpPr/>
                    <p:nvPr/>
                  </p:nvSpPr>
                  <p:spPr>
                    <a:xfrm flipH="1" flipV="1" rot="18525600">
                      <a:off x="5048640" y="4973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 flipH="1" flipV="1" rot="19341600">
                      <a:off x="5125320" y="50389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 flipH="1" flipV="1" rot="19636800">
                      <a:off x="5157720" y="5087880"/>
                      <a:ext cx="1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flipH="1" flipV="1" rot="20169000">
                      <a:off x="5193720" y="51454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30311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97" name=""/>
          <p:cNvSpPr/>
          <p:nvPr/>
        </p:nvSpPr>
        <p:spPr>
          <a:xfrm>
            <a:off x="4041720" y="24192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419200" y="379080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632560" y="37908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108320" y="536112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641920" y="539100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202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825480" y="394164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</a:rPr>
              <a:t>- 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983280" y="38386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</a:rPr>
              <a:t>- 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265480" y="1285920"/>
            <a:ext cx="4876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6803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e36803"/>
                </a:solidFill>
                <a:latin typeface="Arial"/>
              </a:rPr>
              <a:t>A title about content”</a:t>
            </a:r>
            <a:endParaRPr b="0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598920" y="37908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2f6f"/>
                </a:solidFill>
                <a:latin typeface="Verdana"/>
              </a:rPr>
              <a:t>Company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2f6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553000" y="227484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</a:rPr>
              <a:t>- 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rot="17973000">
            <a:off x="5033160" y="264708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rot="3465600">
            <a:off x="5032800" y="455220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rot="14368800">
            <a:off x="3959640" y="271332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rot="7534800">
            <a:off x="3924720" y="4521960"/>
            <a:ext cx="698400" cy="255600"/>
          </a:xfrm>
          <a:prstGeom prst="rightArrow">
            <a:avLst>
              <a:gd name="adj1" fmla="val 35167"/>
              <a:gd name="adj2" fmla="val 110649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41840" y="363996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rot="10800000">
            <a:off x="3421080" y="3633840"/>
            <a:ext cx="760320" cy="255600"/>
          </a:xfrm>
          <a:prstGeom prst="rightArrow">
            <a:avLst>
              <a:gd name="adj1" fmla="val 35167"/>
              <a:gd name="adj2" fmla="val 120459"/>
            </a:avLst>
          </a:prstGeom>
          <a:gradFill rotWithShape="0">
            <a:gsLst>
              <a:gs pos="0">
                <a:srgbClr val="003366"/>
              </a:gs>
              <a:gs pos="100000">
                <a:srgbClr val="002d5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197160" y="2082960"/>
            <a:ext cx="3295800" cy="329724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3854520" y="2808360"/>
            <a:ext cx="1901880" cy="1901880"/>
            <a:chOff x="3854520" y="2808360"/>
            <a:chExt cx="1901880" cy="1901880"/>
          </a:xfrm>
        </p:grpSpPr>
        <p:sp>
          <p:nvSpPr>
            <p:cNvPr id="1116" name=""/>
            <p:cNvSpPr/>
            <p:nvPr/>
          </p:nvSpPr>
          <p:spPr>
            <a:xfrm>
              <a:off x="3854520" y="2808360"/>
              <a:ext cx="1901880" cy="1901880"/>
            </a:xfrm>
            <a:prstGeom prst="ellipse">
              <a:avLst/>
            </a:prstGeom>
            <a:gradFill rotWithShape="0">
              <a:gsLst>
                <a:gs pos="0">
                  <a:srgbClr val="92d2e8"/>
                </a:gs>
                <a:gs pos="50000">
                  <a:srgbClr val="0099cc"/>
                </a:gs>
                <a:gs pos="100000">
                  <a:srgbClr val="92d2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78720" y="2932560"/>
              <a:ext cx="1653120" cy="165312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80160" y="2935080"/>
              <a:ext cx="1653120" cy="165312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068360" y="3015000"/>
              <a:ext cx="1487880" cy="1487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4094640" y="3031920"/>
              <a:ext cx="1440720" cy="1440360"/>
              <a:chOff x="4094640" y="3031920"/>
              <a:chExt cx="1440720" cy="1440360"/>
            </a:xfrm>
          </p:grpSpPr>
          <p:sp>
            <p:nvSpPr>
              <p:cNvPr id="1121" name=""/>
              <p:cNvSpPr/>
              <p:nvPr/>
            </p:nvSpPr>
            <p:spPr>
              <a:xfrm>
                <a:off x="4094640" y="3031920"/>
                <a:ext cx="1440720" cy="14403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113000" y="3039840"/>
                <a:ext cx="14058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127760" y="3053520"/>
                <a:ext cx="1337040" cy="1312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206240" y="3090600"/>
                <a:ext cx="118872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4433760" y="356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126" name=""/>
          <p:cNvSpPr/>
          <p:nvPr/>
        </p:nvSpPr>
        <p:spPr>
          <a:xfrm>
            <a:off x="1103400" y="356868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3b4c"/>
              </a:gs>
              <a:gs pos="100000">
                <a:srgbClr val="4582a7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706400" y="2158920"/>
            <a:ext cx="22813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255e"/>
              </a:gs>
              <a:gs pos="100000">
                <a:srgbClr val="7e52cc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706400" y="484344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25038"/>
              </a:gs>
              <a:gs pos="100000">
                <a:srgbClr val="b2af7a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335640" y="356868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582a7"/>
              </a:gs>
              <a:gs pos="100000">
                <a:srgbClr val="1f3b4c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664240" y="2158920"/>
            <a:ext cx="23479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52cc"/>
              </a:gs>
              <a:gs pos="100000">
                <a:srgbClr val="3a255e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664240" y="484344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f7a"/>
              </a:gs>
              <a:gs pos="100000">
                <a:srgbClr val="525038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1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89400" y="3097080"/>
            <a:ext cx="608040" cy="0"/>
          </a:xfrm>
          <a:prstGeom prst="line">
            <a:avLst/>
          </a:prstGeom>
          <a:ln w="1260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6000" y="3773520"/>
            <a:ext cx="541440" cy="0"/>
          </a:xfrm>
          <a:prstGeom prst="line">
            <a:avLst/>
          </a:prstGeom>
          <a:ln w="1260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89400" y="4381560"/>
            <a:ext cx="608040" cy="0"/>
          </a:xfrm>
          <a:prstGeom prst="line">
            <a:avLst/>
          </a:prstGeom>
          <a:ln w="1260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117960" y="2420640"/>
            <a:ext cx="879120" cy="338040"/>
            <a:chOff x="3117960" y="2420640"/>
            <a:chExt cx="879120" cy="338040"/>
          </a:xfrm>
        </p:grpSpPr>
        <p:sp>
          <p:nvSpPr>
            <p:cNvPr id="122" name=""/>
            <p:cNvSpPr/>
            <p:nvPr/>
          </p:nvSpPr>
          <p:spPr>
            <a:xfrm>
              <a:off x="3456000" y="2421000"/>
              <a:ext cx="541080" cy="0"/>
            </a:xfrm>
            <a:prstGeom prst="line">
              <a:avLst/>
            </a:prstGeom>
            <a:ln w="12600">
              <a:solidFill>
                <a:srgbClr val="303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117960" y="2420640"/>
              <a:ext cx="338040" cy="338040"/>
            </a:xfrm>
            <a:prstGeom prst="line">
              <a:avLst/>
            </a:prstGeom>
            <a:ln w="12600">
              <a:solidFill>
                <a:srgbClr val="303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051000" y="4788000"/>
            <a:ext cx="946080" cy="269640"/>
            <a:chOff x="3051000" y="4788000"/>
            <a:chExt cx="946080" cy="269640"/>
          </a:xfrm>
        </p:grpSpPr>
        <p:sp>
          <p:nvSpPr>
            <p:cNvPr id="125" name=""/>
            <p:cNvSpPr/>
            <p:nvPr/>
          </p:nvSpPr>
          <p:spPr>
            <a:xfrm>
              <a:off x="3456360" y="5057640"/>
              <a:ext cx="540720" cy="0"/>
            </a:xfrm>
            <a:prstGeom prst="line">
              <a:avLst/>
            </a:prstGeom>
            <a:ln w="12600">
              <a:solidFill>
                <a:srgbClr val="303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1000" y="4788000"/>
              <a:ext cx="405360" cy="269640"/>
            </a:xfrm>
            <a:prstGeom prst="line">
              <a:avLst/>
            </a:prstGeom>
            <a:ln w="12600">
              <a:solidFill>
                <a:srgbClr val="3031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992400" y="221760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41240" y="2286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2400" y="288288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41240" y="2951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89520" y="3541680"/>
            <a:ext cx="453204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38000" y="36100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13200" y="2322360"/>
            <a:ext cx="203040" cy="20160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336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3000240"/>
            <a:ext cx="203040" cy="203400"/>
          </a:xfrm>
          <a:prstGeom prst="ellipse">
            <a:avLst/>
          </a:prstGeom>
          <a:gradFill rotWithShape="0">
            <a:gsLst>
              <a:gs pos="0">
                <a:srgbClr val="4a9acc"/>
              </a:gs>
              <a:gs pos="100000">
                <a:srgbClr val="3166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672000"/>
            <a:ext cx="203040" cy="20304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336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2400" y="4191120"/>
            <a:ext cx="453240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41240" y="42591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13200" y="4314960"/>
            <a:ext cx="203040" cy="203040"/>
          </a:xfrm>
          <a:prstGeom prst="ellipse">
            <a:avLst/>
          </a:prstGeom>
          <a:gradFill rotWithShape="0">
            <a:gsLst>
              <a:gs pos="0">
                <a:srgbClr val="4a9acc"/>
              </a:gs>
              <a:gs pos="100000">
                <a:srgbClr val="3166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2400" y="4892760"/>
            <a:ext cx="4532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41240" y="4959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5010120"/>
            <a:ext cx="203040" cy="203400"/>
          </a:xfrm>
          <a:prstGeom prst="ellipse">
            <a:avLst/>
          </a:prstGeom>
          <a:gradFill rotWithShape="0">
            <a:gsLst>
              <a:gs pos="0">
                <a:srgbClr val="7e52cc"/>
              </a:gs>
              <a:gs pos="100000">
                <a:srgbClr val="533687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285920" y="2550960"/>
            <a:ext cx="2373120" cy="2372040"/>
            <a:chOff x="1285920" y="2550960"/>
            <a:chExt cx="2373120" cy="2372040"/>
          </a:xfrm>
        </p:grpSpPr>
        <p:sp>
          <p:nvSpPr>
            <p:cNvPr id="143" name=""/>
            <p:cNvSpPr/>
            <p:nvPr/>
          </p:nvSpPr>
          <p:spPr>
            <a:xfrm>
              <a:off x="1285920" y="2550960"/>
              <a:ext cx="2373120" cy="2372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582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2160" y="2704680"/>
              <a:ext cx="2058840" cy="2061720"/>
            </a:xfrm>
            <a:prstGeom prst="ellipse">
              <a:avLst/>
            </a:prstGeom>
            <a:gradFill rotWithShape="0">
              <a:gsLst>
                <a:gs pos="0">
                  <a:srgbClr val="25465a"/>
                </a:gs>
                <a:gs pos="50000">
                  <a:srgbClr val="4582a7"/>
                </a:gs>
                <a:gs pos="100000">
                  <a:srgbClr val="2546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20920" y="2724120"/>
              <a:ext cx="2058840" cy="2060280"/>
            </a:xfrm>
            <a:prstGeom prst="ellipse">
              <a:avLst/>
            </a:prstGeom>
            <a:gradFill rotWithShape="0">
              <a:gsLst>
                <a:gs pos="0">
                  <a:srgbClr val="4582a7">
                    <a:alpha val="0"/>
                  </a:srgbClr>
                </a:gs>
                <a:gs pos="100000">
                  <a:srgbClr val="2b52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3680" y="2808720"/>
              <a:ext cx="1855800" cy="1854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73200" y="2838600"/>
              <a:ext cx="1797840" cy="17996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95880" y="2847960"/>
              <a:ext cx="1755720" cy="1756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15680" y="2864880"/>
              <a:ext cx="1668240" cy="16401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91640" y="2890440"/>
              <a:ext cx="1483560" cy="133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54840" y="3296520"/>
              <a:ext cx="18277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Company </a:t>
              </a:r>
              <a:endParaRPr b="0" lang="en-US" sz="2500" spc="-1" strike="noStrike">
                <a:solidFill>
                  <a:srgbClr val="30311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L/O/G/O</a:t>
              </a:r>
              <a:endParaRPr b="0" lang="en-US" sz="25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409360" y="5473800"/>
            <a:ext cx="2514600" cy="806400"/>
          </a:xfrm>
          <a:prstGeom prst="rect">
            <a:avLst/>
          </a:prstGeom>
          <a:gradFill rotWithShape="0">
            <a:gsLst>
              <a:gs pos="0">
                <a:srgbClr val="b2af7a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410080" y="6275520"/>
            <a:ext cx="18543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410080" y="5464080"/>
            <a:ext cx="23925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190520" y="22496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190520" y="2967120"/>
            <a:ext cx="4267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190520" y="3795840"/>
            <a:ext cx="38102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190520" y="4635360"/>
            <a:ext cx="3200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190520" y="54738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190160" y="6275520"/>
            <a:ext cx="18543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1190520" y="5464080"/>
            <a:ext cx="23925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190520" y="4622760"/>
            <a:ext cx="28101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1190160" y="3794040"/>
            <a:ext cx="328788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0520" y="2960640"/>
            <a:ext cx="376560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190520" y="2249640"/>
            <a:ext cx="418464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428840" y="2249640"/>
            <a:ext cx="1440" cy="7110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28840" y="296064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428840" y="380196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428840" y="4643280"/>
            <a:ext cx="1440" cy="8416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428840" y="5484960"/>
            <a:ext cx="1440" cy="7761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481760" y="24480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481760" y="3270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481760" y="4091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481760" y="4913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481760" y="57355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3073320" y="2249640"/>
            <a:ext cx="5079600" cy="4030200"/>
            <a:chOff x="3073320" y="2249640"/>
            <a:chExt cx="5079600" cy="4030200"/>
          </a:xfrm>
        </p:grpSpPr>
        <p:sp>
          <p:nvSpPr>
            <p:cNvPr id="1158" name="未知"/>
            <p:cNvSpPr/>
            <p:nvPr/>
          </p:nvSpPr>
          <p:spPr>
            <a:xfrm>
              <a:off x="7257240" y="5043240"/>
              <a:ext cx="895680" cy="123552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582a7"/>
                </a:gs>
                <a:gs pos="100000">
                  <a:srgbClr val="2f5a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59" name="未知"/>
            <p:cNvSpPr/>
            <p:nvPr/>
          </p:nvSpPr>
          <p:spPr>
            <a:xfrm>
              <a:off x="3479040" y="5043240"/>
              <a:ext cx="417456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2b5269"/>
                </a:gs>
                <a:gs pos="100000">
                  <a:srgbClr val="4582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0" name="未知"/>
            <p:cNvSpPr/>
            <p:nvPr/>
          </p:nvSpPr>
          <p:spPr>
            <a:xfrm>
              <a:off x="3073320" y="5567040"/>
              <a:ext cx="4608360" cy="712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1" name="未知"/>
            <p:cNvSpPr/>
            <p:nvPr/>
          </p:nvSpPr>
          <p:spPr>
            <a:xfrm>
              <a:off x="6789240" y="4343760"/>
              <a:ext cx="792000" cy="111852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4a9acc"/>
                </a:gs>
                <a:gs pos="100000">
                  <a:srgbClr val="356f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2" name="未知"/>
            <p:cNvSpPr/>
            <p:nvPr/>
          </p:nvSpPr>
          <p:spPr>
            <a:xfrm>
              <a:off x="3953520" y="4343760"/>
              <a:ext cx="313632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20435a"/>
                </a:gs>
                <a:gs pos="100000">
                  <a:srgbClr val="4a9a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3" name="未知"/>
            <p:cNvSpPr/>
            <p:nvPr/>
          </p:nvSpPr>
          <p:spPr>
            <a:xfrm>
              <a:off x="3556800" y="4736520"/>
              <a:ext cx="3641040" cy="72612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4" name="未知"/>
            <p:cNvSpPr/>
            <p:nvPr/>
          </p:nvSpPr>
          <p:spPr>
            <a:xfrm>
              <a:off x="6321600" y="3652200"/>
              <a:ext cx="693000" cy="97164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4582a7"/>
                </a:gs>
                <a:gs pos="100000">
                  <a:srgbClr val="325e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5" name="未知"/>
            <p:cNvSpPr/>
            <p:nvPr/>
          </p:nvSpPr>
          <p:spPr>
            <a:xfrm>
              <a:off x="4425120" y="3652200"/>
              <a:ext cx="2093760" cy="2620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203d4e"/>
                </a:gs>
                <a:gs pos="100000">
                  <a:srgbClr val="4582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6" name="未知"/>
            <p:cNvSpPr/>
            <p:nvPr/>
          </p:nvSpPr>
          <p:spPr>
            <a:xfrm>
              <a:off x="4021920" y="3913200"/>
              <a:ext cx="270900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7" name="未知"/>
            <p:cNvSpPr/>
            <p:nvPr/>
          </p:nvSpPr>
          <p:spPr>
            <a:xfrm>
              <a:off x="5848560" y="2949840"/>
              <a:ext cx="59652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4a9acc"/>
                </a:gs>
                <a:gs pos="100000">
                  <a:srgbClr val="3a79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8" name="未知"/>
            <p:cNvSpPr/>
            <p:nvPr/>
          </p:nvSpPr>
          <p:spPr>
            <a:xfrm>
              <a:off x="4905000" y="2949840"/>
              <a:ext cx="1044720" cy="1270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254e67"/>
                </a:gs>
                <a:gs pos="100000">
                  <a:srgbClr val="4a9a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69" name="未知"/>
            <p:cNvSpPr/>
            <p:nvPr/>
          </p:nvSpPr>
          <p:spPr>
            <a:xfrm>
              <a:off x="4493880" y="3075480"/>
              <a:ext cx="176436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0" name="未知"/>
            <p:cNvSpPr/>
            <p:nvPr/>
          </p:nvSpPr>
          <p:spPr>
            <a:xfrm>
              <a:off x="5371560" y="2249640"/>
              <a:ext cx="50436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4582a7"/>
                </a:gs>
                <a:gs pos="100000">
                  <a:srgbClr val="3666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1" name="未知"/>
            <p:cNvSpPr/>
            <p:nvPr/>
          </p:nvSpPr>
          <p:spPr>
            <a:xfrm>
              <a:off x="4962960" y="2249640"/>
              <a:ext cx="81792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77440" y="26035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77440" y="3358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51520" y="4154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25240" y="4951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973400" y="57265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3024360" y="153360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72240" y="222084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6845c"/>
              </a:gs>
              <a:gs pos="100000">
                <a:srgbClr val="b2af7a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549600" y="2220840"/>
            <a:ext cx="2855880" cy="116388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8" y="0"/>
                </a:lnTo>
                <a:lnTo>
                  <a:pt x="21600" y="10800"/>
                </a:lnTo>
                <a:lnTo>
                  <a:pt x="17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4627e"/>
              </a:gs>
              <a:gs pos="100000">
                <a:srgbClr val="4582a7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1614600" y="222084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8749a"/>
              </a:gs>
              <a:gs pos="100000">
                <a:srgbClr val="4a9acc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1212840" y="3989520"/>
            <a:ext cx="7613640" cy="2017080"/>
            <a:chOff x="1212840" y="3989520"/>
            <a:chExt cx="7613640" cy="2017080"/>
          </a:xfrm>
        </p:grpSpPr>
        <p:grpSp>
          <p:nvGrpSpPr>
            <p:cNvPr id="1183" name=""/>
            <p:cNvGrpSpPr/>
            <p:nvPr/>
          </p:nvGrpSpPr>
          <p:grpSpPr>
            <a:xfrm>
              <a:off x="1212840" y="3989520"/>
              <a:ext cx="7613640" cy="2017080"/>
              <a:chOff x="1212840" y="3989520"/>
              <a:chExt cx="7613640" cy="2017080"/>
            </a:xfrm>
          </p:grpSpPr>
          <p:sp>
            <p:nvSpPr>
              <p:cNvPr id="1184" name=""/>
              <p:cNvSpPr/>
              <p:nvPr/>
            </p:nvSpPr>
            <p:spPr>
              <a:xfrm flipV="1">
                <a:off x="1324080" y="3989160"/>
                <a:ext cx="7386480" cy="344160"/>
              </a:xfrm>
              <a:custGeom>
                <a:avLst/>
                <a:gdLst>
                  <a:gd name="textAreaLeft" fmla="*/ 1008360 w 7386480"/>
                  <a:gd name="textAreaRight" fmla="*/ 6378120 w 7386480"/>
                  <a:gd name="textAreaTop" fmla="*/ 46800 h 344160"/>
                  <a:gd name="textAreaBottom" fmla="*/ 29736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2" y="21600"/>
                    </a:lnTo>
                    <a:lnTo>
                      <a:pt x="215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8d7e1"/>
                  </a:gs>
                  <a:gs pos="100000">
                    <a:srgbClr val="9db9c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212840" y="4340160"/>
                <a:ext cx="7613640" cy="1666440"/>
              </a:xfrm>
              <a:prstGeom prst="roundRect">
                <a:avLst>
                  <a:gd name="adj" fmla="val 9514"/>
                </a:avLst>
              </a:prstGeom>
              <a:gradFill rotWithShape="0">
                <a:gsLst>
                  <a:gs pos="0">
                    <a:srgbClr val="8097a5"/>
                  </a:gs>
                  <a:gs pos="50000">
                    <a:srgbClr val="9db9cb"/>
                  </a:gs>
                  <a:gs pos="100000">
                    <a:srgbClr val="8097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1376280" y="4786200"/>
              <a:ext cx="7191360" cy="1032840"/>
            </a:xfrm>
            <a:prstGeom prst="roundRect">
              <a:avLst>
                <a:gd name="adj" fmla="val 9782"/>
              </a:avLst>
            </a:prstGeom>
            <a:solidFill>
              <a:srgbClr val="b2af7a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1874880" y="2405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690560" y="4968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275000" y="2405160"/>
            <a:ext cx="14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467400" y="2405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04960" y="153504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title about content”</a:t>
            </a:r>
            <a:endParaRPr b="0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898720" y="432432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[ Description of the contents ]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1209600" y="3619440"/>
            <a:ext cx="3833640" cy="536400"/>
            <a:chOff x="1209600" y="3619440"/>
            <a:chExt cx="3833640" cy="536400"/>
          </a:xfrm>
        </p:grpSpPr>
        <p:sp>
          <p:nvSpPr>
            <p:cNvPr id="1194" name=""/>
            <p:cNvSpPr/>
            <p:nvPr/>
          </p:nvSpPr>
          <p:spPr>
            <a:xfrm>
              <a:off x="1209600" y="3619440"/>
              <a:ext cx="383364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195" name="" descr=""/>
            <p:cNvPicPr/>
            <p:nvPr/>
          </p:nvPicPr>
          <p:blipFill>
            <a:blip r:embed="rId1"/>
            <a:stretch/>
          </p:blipFill>
          <p:spPr>
            <a:xfrm>
              <a:off x="1241280" y="3637080"/>
              <a:ext cx="3772080" cy="23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6" name=""/>
          <p:cNvGrpSpPr/>
          <p:nvPr/>
        </p:nvGrpSpPr>
        <p:grpSpPr>
          <a:xfrm>
            <a:off x="5195880" y="3622680"/>
            <a:ext cx="3556080" cy="536400"/>
            <a:chOff x="5195880" y="3622680"/>
            <a:chExt cx="3556080" cy="536400"/>
          </a:xfrm>
        </p:grpSpPr>
        <p:sp>
          <p:nvSpPr>
            <p:cNvPr id="1197" name=""/>
            <p:cNvSpPr/>
            <p:nvPr/>
          </p:nvSpPr>
          <p:spPr>
            <a:xfrm>
              <a:off x="5195880" y="3622680"/>
              <a:ext cx="355608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198" name="" descr=""/>
            <p:cNvPicPr/>
            <p:nvPr/>
          </p:nvPicPr>
          <p:blipFill>
            <a:blip r:embed="rId2"/>
            <a:stretch/>
          </p:blipFill>
          <p:spPr>
            <a:xfrm>
              <a:off x="5229360" y="3638520"/>
              <a:ext cx="3508200" cy="2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"/>
          <p:cNvSpPr/>
          <p:nvPr/>
        </p:nvSpPr>
        <p:spPr>
          <a:xfrm>
            <a:off x="5589720" y="36781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690560" y="367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1"/>
          <a:stretch/>
        </p:blipFill>
        <p:spPr>
          <a:xfrm>
            <a:off x="1523880" y="4495680"/>
            <a:ext cx="1621080" cy="54468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2"/>
          <a:stretch/>
        </p:blipFill>
        <p:spPr>
          <a:xfrm>
            <a:off x="5486400" y="6172200"/>
            <a:ext cx="2038320" cy="68580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/>
          <p:cNvPicPr/>
          <p:nvPr/>
        </p:nvPicPr>
        <p:blipFill>
          <a:blip r:embed="rId3"/>
          <a:stretch/>
        </p:blipFill>
        <p:spPr>
          <a:xfrm>
            <a:off x="4133880" y="3867120"/>
            <a:ext cx="1276200" cy="42876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4"/>
          <a:stretch/>
        </p:blipFill>
        <p:spPr>
          <a:xfrm>
            <a:off x="5486400" y="2133720"/>
            <a:ext cx="704880" cy="23796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 rot="13770000">
            <a:off x="4996800" y="3798360"/>
            <a:ext cx="1103400" cy="2174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8c8c8"/>
              </a:gs>
              <a:gs pos="100000">
                <a:srgbClr val="969696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rot="20856000">
            <a:off x="2743200" y="3276360"/>
            <a:ext cx="1146240" cy="198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cbcbcb"/>
              </a:gs>
              <a:gs pos="100000">
                <a:srgbClr val="969696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8394200">
            <a:off x="5066640" y="2172240"/>
            <a:ext cx="685800" cy="1508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dedede"/>
              </a:gs>
              <a:gs pos="100000">
                <a:srgbClr val="969696"/>
              </a:gs>
            </a:gsLst>
            <a:lin ang="86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3809880" y="2057400"/>
            <a:ext cx="1828800" cy="1828800"/>
            <a:chOff x="3809880" y="2057400"/>
            <a:chExt cx="1828800" cy="1828800"/>
          </a:xfrm>
        </p:grpSpPr>
        <p:grpSp>
          <p:nvGrpSpPr>
            <p:cNvPr id="1210" name=""/>
            <p:cNvGrpSpPr/>
            <p:nvPr/>
          </p:nvGrpSpPr>
          <p:grpSpPr>
            <a:xfrm>
              <a:off x="3809880" y="2057400"/>
              <a:ext cx="1828800" cy="1828800"/>
              <a:chOff x="3809880" y="2057400"/>
              <a:chExt cx="1828800" cy="1828800"/>
            </a:xfrm>
          </p:grpSpPr>
          <p:sp>
            <p:nvSpPr>
              <p:cNvPr id="1211" name=""/>
              <p:cNvSpPr/>
              <p:nvPr/>
            </p:nvSpPr>
            <p:spPr>
              <a:xfrm>
                <a:off x="3809880" y="2057400"/>
                <a:ext cx="1828800" cy="1828800"/>
              </a:xfrm>
              <a:prstGeom prst="ellipse">
                <a:avLst/>
              </a:prstGeom>
              <a:gradFill rotWithShape="0">
                <a:gsLst>
                  <a:gs pos="0">
                    <a:srgbClr val="4582a7"/>
                  </a:gs>
                  <a:gs pos="100000">
                    <a:srgbClr val="101f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12" name="未知"/>
              <p:cNvSpPr/>
              <p:nvPr/>
            </p:nvSpPr>
            <p:spPr>
              <a:xfrm>
                <a:off x="4018680" y="2087640"/>
                <a:ext cx="1410840" cy="690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582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4001400" y="2852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5334120" y="1143000"/>
            <a:ext cx="990360" cy="990720"/>
            <a:chOff x="5334120" y="1143000"/>
            <a:chExt cx="990360" cy="990720"/>
          </a:xfrm>
        </p:grpSpPr>
        <p:grpSp>
          <p:nvGrpSpPr>
            <p:cNvPr id="1215" name=""/>
            <p:cNvGrpSpPr/>
            <p:nvPr/>
          </p:nvGrpSpPr>
          <p:grpSpPr>
            <a:xfrm>
              <a:off x="5334120" y="1143000"/>
              <a:ext cx="990360" cy="990720"/>
              <a:chOff x="5334120" y="1143000"/>
              <a:chExt cx="990360" cy="990720"/>
            </a:xfrm>
          </p:grpSpPr>
          <p:sp>
            <p:nvSpPr>
              <p:cNvPr id="1216" name=""/>
              <p:cNvSpPr/>
              <p:nvPr/>
            </p:nvSpPr>
            <p:spPr>
              <a:xfrm>
                <a:off x="5334120" y="1143000"/>
                <a:ext cx="990360" cy="990720"/>
              </a:xfrm>
              <a:prstGeom prst="ellipse">
                <a:avLst/>
              </a:prstGeom>
              <a:gradFill rotWithShape="0">
                <a:gsLst>
                  <a:gs pos="0">
                    <a:srgbClr val="b2af7a"/>
                  </a:gs>
                  <a:gs pos="100000">
                    <a:srgbClr val="2b2a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17" name="未知"/>
              <p:cNvSpPr/>
              <p:nvPr/>
            </p:nvSpPr>
            <p:spPr>
              <a:xfrm>
                <a:off x="5447160" y="1159200"/>
                <a:ext cx="763920" cy="373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2af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5415480" y="152388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1295280" y="2438280"/>
            <a:ext cx="1981080" cy="2057400"/>
            <a:chOff x="1295280" y="2438280"/>
            <a:chExt cx="1981080" cy="2057400"/>
          </a:xfrm>
        </p:grpSpPr>
        <p:grpSp>
          <p:nvGrpSpPr>
            <p:cNvPr id="1220" name=""/>
            <p:cNvGrpSpPr/>
            <p:nvPr/>
          </p:nvGrpSpPr>
          <p:grpSpPr>
            <a:xfrm>
              <a:off x="1295280" y="2438280"/>
              <a:ext cx="1981080" cy="2057400"/>
              <a:chOff x="1295280" y="2438280"/>
              <a:chExt cx="1981080" cy="2057400"/>
            </a:xfrm>
          </p:grpSpPr>
          <p:sp>
            <p:nvSpPr>
              <p:cNvPr id="1221" name=""/>
              <p:cNvSpPr/>
              <p:nvPr/>
            </p:nvSpPr>
            <p:spPr>
              <a:xfrm>
                <a:off x="1295280" y="2438280"/>
                <a:ext cx="1981080" cy="2057400"/>
              </a:xfrm>
              <a:prstGeom prst="ellipse">
                <a:avLst/>
              </a:prstGeom>
              <a:gradFill rotWithShape="0">
                <a:gsLst>
                  <a:gs pos="0">
                    <a:srgbClr val="4a9acc"/>
                  </a:gs>
                  <a:gs pos="100000">
                    <a:srgbClr val="2e61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22" name="未知"/>
              <p:cNvSpPr/>
              <p:nvPr/>
            </p:nvSpPr>
            <p:spPr>
              <a:xfrm>
                <a:off x="1521720" y="2472120"/>
                <a:ext cx="1528200" cy="776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a9a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223" name=""/>
            <p:cNvSpPr/>
            <p:nvPr/>
          </p:nvSpPr>
          <p:spPr>
            <a:xfrm>
              <a:off x="1505520" y="335268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5334120" y="3962520"/>
            <a:ext cx="2286000" cy="2286000"/>
            <a:chOff x="5334120" y="3962520"/>
            <a:chExt cx="2286000" cy="2286000"/>
          </a:xfrm>
        </p:grpSpPr>
        <p:grpSp>
          <p:nvGrpSpPr>
            <p:cNvPr id="1225" name=""/>
            <p:cNvGrpSpPr/>
            <p:nvPr/>
          </p:nvGrpSpPr>
          <p:grpSpPr>
            <a:xfrm>
              <a:off x="5334120" y="3962520"/>
              <a:ext cx="2286000" cy="2286000"/>
              <a:chOff x="5334120" y="3962520"/>
              <a:chExt cx="2286000" cy="22860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334120" y="396252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e52cc"/>
                  </a:gs>
                  <a:gs pos="100000">
                    <a:srgbClr val="4029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227" name="未知"/>
              <p:cNvSpPr/>
              <p:nvPr/>
            </p:nvSpPr>
            <p:spPr>
              <a:xfrm>
                <a:off x="5595480" y="4000320"/>
                <a:ext cx="1763280" cy="8625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e52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768640" y="495324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114720" y="1914480"/>
            <a:ext cx="382104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230" name=""/>
          <p:cNvGrpSpPr/>
          <p:nvPr/>
        </p:nvGrpSpPr>
        <p:grpSpPr>
          <a:xfrm>
            <a:off x="2224080" y="1195560"/>
            <a:ext cx="5222880" cy="5051880"/>
            <a:chOff x="2224080" y="1195560"/>
            <a:chExt cx="5222880" cy="5051880"/>
          </a:xfrm>
        </p:grpSpPr>
        <p:sp>
          <p:nvSpPr>
            <p:cNvPr id="1231" name=""/>
            <p:cNvSpPr/>
            <p:nvPr/>
          </p:nvSpPr>
          <p:spPr>
            <a:xfrm rot="19366800">
              <a:off x="2891520" y="1982160"/>
              <a:ext cx="3773520" cy="3477960"/>
            </a:xfrm>
            <a:custGeom>
              <a:avLst/>
              <a:gdLst>
                <a:gd name="textAreaLeft" fmla="*/ 0 w 3773520"/>
                <a:gd name="textAreaRight" fmla="*/ 3773880 w 3773520"/>
                <a:gd name="textAreaTop" fmla="*/ 0 h 3477960"/>
                <a:gd name="textAreaBottom" fmla="*/ 3478320 h 34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45" y="5563"/>
                  </a:moveTo>
                  <a:arcTo wR="-7349" hR="-7349" stAng="-8072880" swAng="-5200094"/>
                  <a:lnTo>
                    <a:pt x="18924" y="3684"/>
                  </a:lnTo>
                  <a:arcTo wR="10800" hR="10800" stAng="-2472974" swAng="5200094"/>
                  <a:lnTo>
                    <a:pt x="20270" y="20421"/>
                  </a:lnTo>
                  <a:lnTo>
                    <a:pt x="14012" y="20372"/>
                  </a:lnTo>
                  <a:lnTo>
                    <a:pt x="14061" y="14113"/>
                  </a:lnTo>
                  <a:close/>
                </a:path>
              </a:pathLst>
            </a:custGeom>
            <a:gradFill rotWithShape="0">
              <a:gsLst>
                <a:gs pos="0">
                  <a:srgbClr val="1f3b4c"/>
                </a:gs>
                <a:gs pos="100000">
                  <a:srgbClr val="4582a7"/>
                </a:gs>
              </a:gsLst>
              <a:lin ang="110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5077800">
              <a:off x="2998080" y="1751400"/>
              <a:ext cx="3764520" cy="3486600"/>
            </a:xfrm>
            <a:custGeom>
              <a:avLst/>
              <a:gdLst>
                <a:gd name="textAreaLeft" fmla="*/ 0 w 3764520"/>
                <a:gd name="textAreaRight" fmla="*/ 3764880 w 3764520"/>
                <a:gd name="textAreaTop" fmla="*/ 0 h 3486600"/>
                <a:gd name="textAreaBottom" fmla="*/ 3486960 h 34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45" y="5563"/>
                  </a:moveTo>
                  <a:arcTo wR="-7349" hR="-7349" stAng="-8072880" swAng="-5200210"/>
                  <a:lnTo>
                    <a:pt x="18924" y="3684"/>
                  </a:lnTo>
                  <a:arcTo wR="10800" hR="10800" stAng="-2473090" swAng="5200210"/>
                  <a:lnTo>
                    <a:pt x="20270" y="20421"/>
                  </a:lnTo>
                  <a:lnTo>
                    <a:pt x="14012" y="20372"/>
                  </a:lnTo>
                  <a:lnTo>
                    <a:pt x="14061" y="14113"/>
                  </a:lnTo>
                  <a:close/>
                </a:path>
              </a:pathLst>
            </a:custGeom>
            <a:gradFill rotWithShape="0">
              <a:gsLst>
                <a:gs pos="0">
                  <a:srgbClr val="b2af7a"/>
                </a:gs>
                <a:gs pos="100000">
                  <a:srgbClr val="636144"/>
                </a:gs>
              </a:gsLst>
              <a:lin ang="37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2147000">
              <a:off x="3159360" y="1955520"/>
              <a:ext cx="3764520" cy="3486600"/>
            </a:xfrm>
            <a:custGeom>
              <a:avLst/>
              <a:gdLst>
                <a:gd name="textAreaLeft" fmla="*/ 0 w 3764520"/>
                <a:gd name="textAreaRight" fmla="*/ 3764880 w 3764520"/>
                <a:gd name="textAreaTop" fmla="*/ 0 h 3486600"/>
                <a:gd name="textAreaBottom" fmla="*/ 3486960 h 34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45" y="5563"/>
                  </a:moveTo>
                  <a:arcTo wR="-7349" hR="-7349" stAng="-8072880" swAng="-5047094"/>
                  <a:lnTo>
                    <a:pt x="19233" y="4052"/>
                  </a:lnTo>
                  <a:arcTo wR="10800" hR="10800" stAng="-2319974" swAng="5047094"/>
                  <a:lnTo>
                    <a:pt x="20270" y="20421"/>
                  </a:lnTo>
                  <a:lnTo>
                    <a:pt x="14012" y="20372"/>
                  </a:lnTo>
                  <a:lnTo>
                    <a:pt x="14061" y="14113"/>
                  </a:lnTo>
                  <a:close/>
                </a:path>
              </a:pathLst>
            </a:custGeom>
            <a:gradFill rotWithShape="0">
              <a:gsLst>
                <a:gs pos="0">
                  <a:srgbClr val="5f3e9a"/>
                </a:gs>
                <a:gs pos="100000">
                  <a:srgbClr val="7e52cc"/>
                </a:gs>
              </a:gsLst>
              <a:lin ang="182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34" name=""/>
          <p:cNvSpPr txBox="1"/>
          <p:nvPr/>
        </p:nvSpPr>
        <p:spPr>
          <a:xfrm rot="3394200">
            <a:off x="4271760" y="2476080"/>
            <a:ext cx="210492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5" name=""/>
          <p:cNvSpPr txBox="1"/>
          <p:nvPr/>
        </p:nvSpPr>
        <p:spPr>
          <a:xfrm rot="79200">
            <a:off x="3645000" y="3249360"/>
            <a:ext cx="247464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6" name=""/>
          <p:cNvSpPr txBox="1"/>
          <p:nvPr/>
        </p:nvSpPr>
        <p:spPr>
          <a:xfrm rot="17984400">
            <a:off x="3383280" y="2536200"/>
            <a:ext cx="2105280" cy="176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065480" y="3160800"/>
            <a:ext cx="1636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0808"/>
                </a:solidFill>
                <a:latin typeface="Arial"/>
              </a:rPr>
              <a:t>Click to add Title</a:t>
            </a:r>
            <a:endParaRPr b="0" lang="en-US" sz="2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273320" y="2197080"/>
            <a:ext cx="1888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52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e52cc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25360" y="2544840"/>
            <a:ext cx="236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99120" y="4849920"/>
            <a:ext cx="1994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af7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2af7a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11920" y="5240160"/>
            <a:ext cx="241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40480" y="2190600"/>
            <a:ext cx="2063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82a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582a7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281640" y="2554200"/>
            <a:ext cx="236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228680" y="2521080"/>
            <a:ext cx="2405160" cy="0"/>
          </a:xfrm>
          <a:prstGeom prst="line">
            <a:avLst/>
          </a:prstGeom>
          <a:ln w="19080">
            <a:solidFill>
              <a:srgbClr val="7e52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5851080" y="5221440"/>
            <a:ext cx="2405160" cy="0"/>
          </a:xfrm>
          <a:prstGeom prst="line">
            <a:avLst/>
          </a:prstGeom>
          <a:ln w="19080">
            <a:solidFill>
              <a:srgbClr val="b2af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6234120" y="2521080"/>
            <a:ext cx="2403360" cy="0"/>
          </a:xfrm>
          <a:prstGeom prst="line">
            <a:avLst/>
          </a:prstGeom>
          <a:ln w="19080">
            <a:solidFill>
              <a:srgbClr val="4582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1182600" y="1887480"/>
            <a:ext cx="3652920" cy="1503360"/>
          </a:xfrm>
          <a:prstGeom prst="rect">
            <a:avLst/>
          </a:prstGeom>
          <a:solidFill>
            <a:srgbClr val="4a9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071880" y="20271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106960" y="1882800"/>
            <a:ext cx="3786120" cy="1503360"/>
          </a:xfrm>
          <a:prstGeom prst="rect">
            <a:avLst/>
          </a:prstGeom>
          <a:solidFill>
            <a:srgbClr val="b2af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637240" y="200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81160" y="3678120"/>
            <a:ext cx="3652920" cy="1503360"/>
          </a:xfrm>
          <a:prstGeom prst="rect">
            <a:avLst/>
          </a:prstGeom>
          <a:solidFill>
            <a:srgbClr val="7e5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041640" y="477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111640" y="3679920"/>
            <a:ext cx="3791160" cy="1493640"/>
          </a:xfrm>
          <a:prstGeom prst="rect">
            <a:avLst/>
          </a:prstGeom>
          <a:solidFill>
            <a:srgbClr val="45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640480" y="47577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230480" y="385776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244520" y="20066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039080" y="204948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104240" y="390060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5827680" y="3840120"/>
            <a:ext cx="812520" cy="812520"/>
            <a:chOff x="5827680" y="3840120"/>
            <a:chExt cx="812520" cy="812520"/>
          </a:xfrm>
        </p:grpSpPr>
        <p:sp>
          <p:nvSpPr>
            <p:cNvPr id="1261" name="未知"/>
            <p:cNvSpPr/>
            <p:nvPr/>
          </p:nvSpPr>
          <p:spPr>
            <a:xfrm>
              <a:off x="5827680" y="384012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2" name="未知"/>
            <p:cNvSpPr/>
            <p:nvPr/>
          </p:nvSpPr>
          <p:spPr>
            <a:xfrm>
              <a:off x="6033600" y="409644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3233880" y="2457360"/>
            <a:ext cx="834480" cy="819000"/>
            <a:chOff x="3233880" y="2457360"/>
            <a:chExt cx="834480" cy="819000"/>
          </a:xfrm>
        </p:grpSpPr>
        <p:sp>
          <p:nvSpPr>
            <p:cNvPr id="1264" name="未知"/>
            <p:cNvSpPr/>
            <p:nvPr/>
          </p:nvSpPr>
          <p:spPr>
            <a:xfrm>
              <a:off x="3659400" y="2481480"/>
              <a:ext cx="39060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5" name="未知"/>
            <p:cNvSpPr/>
            <p:nvPr/>
          </p:nvSpPr>
          <p:spPr>
            <a:xfrm>
              <a:off x="3326040" y="2954880"/>
              <a:ext cx="224280" cy="26460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6" name="未知"/>
            <p:cNvSpPr/>
            <p:nvPr/>
          </p:nvSpPr>
          <p:spPr>
            <a:xfrm>
              <a:off x="3326040" y="2516040"/>
              <a:ext cx="224280" cy="26280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7" name="未知"/>
            <p:cNvSpPr/>
            <p:nvPr/>
          </p:nvSpPr>
          <p:spPr>
            <a:xfrm>
              <a:off x="3659400" y="2946600"/>
              <a:ext cx="39060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68" name="未知"/>
            <p:cNvSpPr/>
            <p:nvPr/>
          </p:nvSpPr>
          <p:spPr>
            <a:xfrm>
              <a:off x="3233880" y="2457360"/>
              <a:ext cx="834480" cy="81900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3220920" y="3849840"/>
            <a:ext cx="812520" cy="809280"/>
            <a:chOff x="3220920" y="3849840"/>
            <a:chExt cx="812520" cy="809280"/>
          </a:xfrm>
        </p:grpSpPr>
        <p:sp>
          <p:nvSpPr>
            <p:cNvPr id="1270" name="未知"/>
            <p:cNvSpPr/>
            <p:nvPr/>
          </p:nvSpPr>
          <p:spPr>
            <a:xfrm>
              <a:off x="3220920" y="384984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1" name="未知"/>
            <p:cNvSpPr/>
            <p:nvPr/>
          </p:nvSpPr>
          <p:spPr>
            <a:xfrm>
              <a:off x="3576960" y="4010040"/>
              <a:ext cx="27900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2" name="未知"/>
            <p:cNvSpPr/>
            <p:nvPr/>
          </p:nvSpPr>
          <p:spPr>
            <a:xfrm>
              <a:off x="3343320" y="4136400"/>
              <a:ext cx="201600" cy="22392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5818320" y="2467080"/>
            <a:ext cx="809280" cy="809280"/>
            <a:chOff x="5818320" y="2467080"/>
            <a:chExt cx="809280" cy="809280"/>
          </a:xfrm>
        </p:grpSpPr>
        <p:sp>
          <p:nvSpPr>
            <p:cNvPr id="1274" name="未知"/>
            <p:cNvSpPr/>
            <p:nvPr/>
          </p:nvSpPr>
          <p:spPr>
            <a:xfrm>
              <a:off x="5818320" y="246708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5" name="未知"/>
            <p:cNvSpPr/>
            <p:nvPr/>
          </p:nvSpPr>
          <p:spPr>
            <a:xfrm>
              <a:off x="5918040" y="2601000"/>
              <a:ext cx="304560" cy="5407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76" name="未知"/>
            <p:cNvSpPr/>
            <p:nvPr/>
          </p:nvSpPr>
          <p:spPr>
            <a:xfrm>
              <a:off x="5818320" y="2871720"/>
              <a:ext cx="809280" cy="4046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1271520" y="5448240"/>
            <a:ext cx="75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11d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4154400" y="2784600"/>
            <a:ext cx="1660320" cy="1694880"/>
            <a:chOff x="4154400" y="2784600"/>
            <a:chExt cx="1660320" cy="1694880"/>
          </a:xfrm>
        </p:grpSpPr>
        <p:pic>
          <p:nvPicPr>
            <p:cNvPr id="1279" name="" descr=""/>
            <p:cNvPicPr/>
            <p:nvPr/>
          </p:nvPicPr>
          <p:blipFill>
            <a:blip r:embed="rId1"/>
            <a:stretch/>
          </p:blipFill>
          <p:spPr>
            <a:xfrm>
              <a:off x="4154400" y="2784600"/>
              <a:ext cx="1660320" cy="160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4154400" y="2784600"/>
              <a:ext cx="1649520" cy="161244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81" name="未知"/>
            <p:cNvSpPr/>
            <p:nvPr/>
          </p:nvSpPr>
          <p:spPr>
            <a:xfrm>
              <a:off x="4325760" y="2817000"/>
              <a:ext cx="1295640" cy="559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4272480" y="3898800"/>
              <a:ext cx="1456200" cy="580680"/>
              <a:chOff x="4272480" y="3898800"/>
              <a:chExt cx="1456200" cy="580680"/>
            </a:xfrm>
          </p:grpSpPr>
          <p:grpSp>
            <p:nvGrpSpPr>
              <p:cNvPr id="1283" name=""/>
              <p:cNvGrpSpPr/>
              <p:nvPr/>
            </p:nvGrpSpPr>
            <p:grpSpPr>
              <a:xfrm>
                <a:off x="4526640" y="3898800"/>
                <a:ext cx="1202040" cy="544680"/>
                <a:chOff x="4526640" y="3898800"/>
                <a:chExt cx="1202040" cy="544680"/>
              </a:xfrm>
            </p:grpSpPr>
            <p:sp>
              <p:nvSpPr>
                <p:cNvPr id="1284" name=""/>
                <p:cNvSpPr/>
                <p:nvPr/>
              </p:nvSpPr>
              <p:spPr>
                <a:xfrm flipH="1" flipV="1" rot="3964800">
                  <a:off x="5182200" y="373392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 flipV="1" rot="4780200">
                  <a:off x="5046840" y="378756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 flipV="1" rot="5076000">
                  <a:off x="4963320" y="3798360"/>
                  <a:ext cx="20880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 flipV="1" rot="5608200">
                  <a:off x="4863960" y="380844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272480" y="3907440"/>
                <a:ext cx="1200600" cy="572040"/>
                <a:chOff x="4272480" y="3907440"/>
                <a:chExt cx="1200600" cy="572040"/>
              </a:xfrm>
            </p:grpSpPr>
            <p:sp>
              <p:nvSpPr>
                <p:cNvPr id="1289" name=""/>
                <p:cNvSpPr/>
                <p:nvPr/>
              </p:nvSpPr>
              <p:spPr>
                <a:xfrm flipH="1" flipV="1" rot="5317800">
                  <a:off x="4928760" y="380880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 flipV="1" rot="6133800">
                  <a:off x="4782960" y="380808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H="1" flipV="1" rot="6429000">
                  <a:off x="4701960" y="378504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 flipV="1" rot="6961200">
                  <a:off x="4605840" y="375660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93" name=""/>
          <p:cNvSpPr/>
          <p:nvPr/>
        </p:nvSpPr>
        <p:spPr>
          <a:xfrm>
            <a:off x="4334040" y="32796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 flipV="1">
            <a:off x="2349360" y="2738160"/>
            <a:ext cx="478476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2309760" y="5622120"/>
            <a:ext cx="216000" cy="219600"/>
            <a:chOff x="2309760" y="5622120"/>
            <a:chExt cx="216000" cy="219600"/>
          </a:xfrm>
        </p:grpSpPr>
        <p:pic>
          <p:nvPicPr>
            <p:cNvPr id="1297" name="" descr=""/>
            <p:cNvPicPr/>
            <p:nvPr/>
          </p:nvPicPr>
          <p:blipFill>
            <a:blip r:embed="rId1"/>
            <a:stretch/>
          </p:blipFill>
          <p:spPr>
            <a:xfrm>
              <a:off x="2332440" y="564192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2332440" y="564192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172f"/>
                </a:gs>
                <a:gs pos="50000">
                  <a:srgbClr val="003366">
                    <a:alpha val="50196"/>
                  </a:srgbClr>
                </a:gs>
                <a:gs pos="100000">
                  <a:srgbClr val="001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2345400" y="5773320"/>
              <a:ext cx="170280" cy="68400"/>
              <a:chOff x="2345400" y="5773320"/>
              <a:chExt cx="170280" cy="68400"/>
            </a:xfrm>
          </p:grpSpPr>
          <p:grpSp>
            <p:nvGrpSpPr>
              <p:cNvPr id="1300" name=""/>
              <p:cNvGrpSpPr/>
              <p:nvPr/>
            </p:nvGrpSpPr>
            <p:grpSpPr>
              <a:xfrm>
                <a:off x="2375640" y="5773320"/>
                <a:ext cx="140040" cy="64080"/>
                <a:chOff x="2375640" y="5773320"/>
                <a:chExt cx="140040" cy="64080"/>
              </a:xfrm>
            </p:grpSpPr>
            <p:sp>
              <p:nvSpPr>
                <p:cNvPr id="1301" name=""/>
                <p:cNvSpPr/>
                <p:nvPr/>
              </p:nvSpPr>
              <p:spPr>
                <a:xfrm flipH="1" flipV="1" rot="3964800">
                  <a:off x="2451240" y="57542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H="1" flipV="1" rot="4780200">
                  <a:off x="2435760" y="57607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 flipV="1" rot="5076000">
                  <a:off x="2426040" y="57621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 flipV="1" rot="5608200">
                  <a:off x="2414880" y="57632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2345400" y="5774040"/>
                <a:ext cx="140760" cy="67680"/>
                <a:chOff x="2345400" y="5774040"/>
                <a:chExt cx="140760" cy="67680"/>
              </a:xfrm>
            </p:grpSpPr>
            <p:sp>
              <p:nvSpPr>
                <p:cNvPr id="1306" name=""/>
                <p:cNvSpPr/>
                <p:nvPr/>
              </p:nvSpPr>
              <p:spPr>
                <a:xfrm flipH="1" flipV="1" rot="5317800">
                  <a:off x="2421720" y="5762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H="1" flipV="1" rot="6133800">
                  <a:off x="2404800" y="576324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H="1" flipV="1" rot="6429000">
                  <a:off x="2395440" y="5760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H="1" flipV="1" rot="6961200">
                  <a:off x="2383560" y="57567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10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19029600">
              <a:off x="2322000" y="565848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1" name=""/>
          <p:cNvGrpSpPr/>
          <p:nvPr/>
        </p:nvGrpSpPr>
        <p:grpSpPr>
          <a:xfrm>
            <a:off x="3992760" y="4526640"/>
            <a:ext cx="215280" cy="220320"/>
            <a:chOff x="3992760" y="4526640"/>
            <a:chExt cx="215280" cy="220320"/>
          </a:xfrm>
        </p:grpSpPr>
        <p:pic>
          <p:nvPicPr>
            <p:cNvPr id="1312" name="" descr=""/>
            <p:cNvPicPr/>
            <p:nvPr/>
          </p:nvPicPr>
          <p:blipFill>
            <a:blip r:embed="rId3"/>
            <a:stretch/>
          </p:blipFill>
          <p:spPr>
            <a:xfrm>
              <a:off x="4015080" y="4546440"/>
              <a:ext cx="19296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4015080" y="4546440"/>
              <a:ext cx="191880" cy="190800"/>
            </a:xfrm>
            <a:prstGeom prst="ellipse">
              <a:avLst/>
            </a:prstGeom>
            <a:gradFill rotWithShape="0">
              <a:gsLst>
                <a:gs pos="0">
                  <a:srgbClr val="00172f"/>
                </a:gs>
                <a:gs pos="50000">
                  <a:srgbClr val="003366">
                    <a:alpha val="50196"/>
                  </a:srgbClr>
                </a:gs>
                <a:gs pos="100000">
                  <a:srgbClr val="001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314" name=""/>
            <p:cNvGrpSpPr/>
            <p:nvPr/>
          </p:nvGrpSpPr>
          <p:grpSpPr>
            <a:xfrm>
              <a:off x="4028040" y="4679280"/>
              <a:ext cx="170280" cy="67680"/>
              <a:chOff x="4028040" y="4679280"/>
              <a:chExt cx="170280" cy="67680"/>
            </a:xfrm>
          </p:grpSpPr>
          <p:grpSp>
            <p:nvGrpSpPr>
              <p:cNvPr id="1315" name=""/>
              <p:cNvGrpSpPr/>
              <p:nvPr/>
            </p:nvGrpSpPr>
            <p:grpSpPr>
              <a:xfrm>
                <a:off x="4057920" y="4679280"/>
                <a:ext cx="140400" cy="63720"/>
                <a:chOff x="4057920" y="4679280"/>
                <a:chExt cx="140400" cy="63720"/>
              </a:xfrm>
            </p:grpSpPr>
            <p:sp>
              <p:nvSpPr>
                <p:cNvPr id="1316" name=""/>
                <p:cNvSpPr/>
                <p:nvPr/>
              </p:nvSpPr>
              <p:spPr>
                <a:xfrm flipH="1" flipV="1" rot="3964800">
                  <a:off x="4133880" y="465984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H="1" flipV="1" rot="4780200">
                  <a:off x="4118040" y="4665240"/>
                  <a:ext cx="2520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H="1" flipV="1" rot="5076000">
                  <a:off x="4108320" y="46670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H="1" flipV="1" rot="5608200">
                  <a:off x="4097160" y="4667760"/>
                  <a:ext cx="2520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4028040" y="4679280"/>
                <a:ext cx="140400" cy="67680"/>
                <a:chOff x="4028040" y="4679280"/>
                <a:chExt cx="140400" cy="67680"/>
              </a:xfrm>
            </p:grpSpPr>
            <p:sp>
              <p:nvSpPr>
                <p:cNvPr id="1321" name=""/>
                <p:cNvSpPr/>
                <p:nvPr/>
              </p:nvSpPr>
              <p:spPr>
                <a:xfrm flipH="1" flipV="1" rot="5317800">
                  <a:off x="4104000" y="4668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 flipV="1" rot="6133800">
                  <a:off x="4086720" y="466812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H="1" flipV="1" rot="6429000">
                  <a:off x="4077720" y="46652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H="1" flipV="1" rot="6961200">
                  <a:off x="4066200" y="4662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25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19029600">
              <a:off x="4005360" y="456264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6" name=""/>
          <p:cNvGrpSpPr/>
          <p:nvPr/>
        </p:nvGrpSpPr>
        <p:grpSpPr>
          <a:xfrm>
            <a:off x="5600880" y="3528360"/>
            <a:ext cx="215280" cy="219600"/>
            <a:chOff x="5600880" y="3528360"/>
            <a:chExt cx="215280" cy="219600"/>
          </a:xfrm>
        </p:grpSpPr>
        <p:pic>
          <p:nvPicPr>
            <p:cNvPr id="1327" name="" descr=""/>
            <p:cNvPicPr/>
            <p:nvPr/>
          </p:nvPicPr>
          <p:blipFill>
            <a:blip r:embed="rId5"/>
            <a:stretch/>
          </p:blipFill>
          <p:spPr>
            <a:xfrm>
              <a:off x="5623200" y="354816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5623200" y="354816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0172f"/>
                </a:gs>
                <a:gs pos="50000">
                  <a:srgbClr val="003366">
                    <a:alpha val="50196"/>
                  </a:srgbClr>
                </a:gs>
                <a:gs pos="100000">
                  <a:srgbClr val="001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329" name=""/>
            <p:cNvGrpSpPr/>
            <p:nvPr/>
          </p:nvGrpSpPr>
          <p:grpSpPr>
            <a:xfrm>
              <a:off x="5636160" y="3679920"/>
              <a:ext cx="169920" cy="68040"/>
              <a:chOff x="5636160" y="3679920"/>
              <a:chExt cx="169920" cy="68040"/>
            </a:xfrm>
          </p:grpSpPr>
          <p:grpSp>
            <p:nvGrpSpPr>
              <p:cNvPr id="1330" name=""/>
              <p:cNvGrpSpPr/>
              <p:nvPr/>
            </p:nvGrpSpPr>
            <p:grpSpPr>
              <a:xfrm>
                <a:off x="5666400" y="3679920"/>
                <a:ext cx="139680" cy="64080"/>
                <a:chOff x="5666400" y="3679920"/>
                <a:chExt cx="139680" cy="64080"/>
              </a:xfrm>
            </p:grpSpPr>
            <p:sp>
              <p:nvSpPr>
                <p:cNvPr id="1331" name=""/>
                <p:cNvSpPr/>
                <p:nvPr/>
              </p:nvSpPr>
              <p:spPr>
                <a:xfrm flipH="1" flipV="1" rot="3964800">
                  <a:off x="5741640" y="36608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 flipV="1" rot="4780200">
                  <a:off x="5726160" y="36669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 flipV="1" rot="5076000">
                  <a:off x="5716440" y="36684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 flipV="1" rot="5608200">
                  <a:off x="5705640" y="36694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5636160" y="3680280"/>
                <a:ext cx="140400" cy="67680"/>
                <a:chOff x="5636160" y="3680280"/>
                <a:chExt cx="140400" cy="67680"/>
              </a:xfrm>
            </p:grpSpPr>
            <p:sp>
              <p:nvSpPr>
                <p:cNvPr id="1336" name=""/>
                <p:cNvSpPr/>
                <p:nvPr/>
              </p:nvSpPr>
              <p:spPr>
                <a:xfrm flipH="1" flipV="1" rot="5317800">
                  <a:off x="5712120" y="3669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H="1" flipV="1" rot="6133800">
                  <a:off x="5694840" y="366912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H="1" flipV="1" rot="6429000">
                  <a:off x="5685840" y="36662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H="1" flipV="1" rot="6961200">
                  <a:off x="5674320" y="3663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40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19029600">
              <a:off x="5613480" y="356436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1" name=""/>
          <p:cNvGrpSpPr/>
          <p:nvPr/>
        </p:nvGrpSpPr>
        <p:grpSpPr>
          <a:xfrm>
            <a:off x="6956640" y="2644200"/>
            <a:ext cx="215280" cy="219600"/>
            <a:chOff x="6956640" y="2644200"/>
            <a:chExt cx="215280" cy="219600"/>
          </a:xfrm>
        </p:grpSpPr>
        <p:pic>
          <p:nvPicPr>
            <p:cNvPr id="1342" name="" descr=""/>
            <p:cNvPicPr/>
            <p:nvPr/>
          </p:nvPicPr>
          <p:blipFill>
            <a:blip r:embed="rId7"/>
            <a:stretch/>
          </p:blipFill>
          <p:spPr>
            <a:xfrm>
              <a:off x="6978960" y="266400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6978960" y="266400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05675"/>
                </a:gs>
                <a:gs pos="50000">
                  <a:srgbClr val="01bcff">
                    <a:alpha val="50196"/>
                  </a:srgbClr>
                </a:gs>
                <a:gs pos="100000">
                  <a:srgbClr val="005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6991920" y="2795760"/>
              <a:ext cx="169920" cy="68040"/>
              <a:chOff x="6991920" y="2795760"/>
              <a:chExt cx="169920" cy="6804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7022160" y="2795760"/>
                <a:ext cx="139680" cy="64080"/>
                <a:chOff x="7022160" y="2795760"/>
                <a:chExt cx="139680" cy="64080"/>
              </a:xfrm>
            </p:grpSpPr>
            <p:sp>
              <p:nvSpPr>
                <p:cNvPr id="1346" name=""/>
                <p:cNvSpPr/>
                <p:nvPr/>
              </p:nvSpPr>
              <p:spPr>
                <a:xfrm flipH="1" flipV="1" rot="3964800">
                  <a:off x="7097400" y="27766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 flipV="1" rot="4780200">
                  <a:off x="7081920" y="27828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H="1" flipV="1" rot="5076000">
                  <a:off x="7072200" y="278424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H="1" flipV="1" rot="5608200">
                  <a:off x="7061400" y="278532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6991920" y="2796120"/>
                <a:ext cx="140400" cy="67680"/>
                <a:chOff x="6991920" y="2796120"/>
                <a:chExt cx="140400" cy="67680"/>
              </a:xfrm>
            </p:grpSpPr>
            <p:sp>
              <p:nvSpPr>
                <p:cNvPr id="1351" name=""/>
                <p:cNvSpPr/>
                <p:nvPr/>
              </p:nvSpPr>
              <p:spPr>
                <a:xfrm flipH="1" flipV="1" rot="5317800">
                  <a:off x="7067880" y="27849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H="1" flipV="1" rot="6133800">
                  <a:off x="7050600" y="278496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H="1" flipV="1" rot="6429000">
                  <a:off x="7041600" y="27820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H="1" flipV="1" rot="6961200">
                  <a:off x="7030080" y="27788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55" name="" descr=""/>
            <p:cNvPicPr/>
            <p:nvPr/>
          </p:nvPicPr>
          <p:blipFill>
            <a:blip r:embed="rId8"/>
            <a:srcRect l="0" t="23740" r="0" b="0"/>
            <a:stretch/>
          </p:blipFill>
          <p:spPr>
            <a:xfrm rot="19029600">
              <a:off x="6969240" y="268020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6" name=""/>
          <p:cNvSpPr/>
          <p:nvPr/>
        </p:nvSpPr>
        <p:spPr>
          <a:xfrm>
            <a:off x="950760" y="53150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665440" y="421956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208400" y="322092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4582a7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224000" y="53150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919240" y="4216320"/>
            <a:ext cx="8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94240" y="32130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9"/>
          <a:stretch/>
        </p:blipFill>
        <p:spPr>
          <a:xfrm>
            <a:off x="7120080" y="149220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>
            <a:off x="2428920" y="575136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148280" y="465624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761080" y="369108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158840" y="6373800"/>
            <a:ext cx="6120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582a7"/>
                </a:solidFill>
                <a:uFillTx/>
                <a:latin typeface="Arial"/>
                <a:hlinkClick r:id="rId10"/>
              </a:rPr>
              <a:t>外国ppt模板</a:t>
            </a:r>
            <a:r>
              <a:rPr b="0" lang="en-US" sz="1800" spc="-1" strike="noStrike">
                <a:solidFill>
                  <a:srgbClr val="30311d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 flipV="1">
            <a:off x="2149560" y="399420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f2967"/>
              </a:gs>
              <a:gs pos="100000">
                <a:srgbClr val="7e52cc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943520" y="211788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582a7"/>
              </a:gs>
              <a:gs pos="100000">
                <a:srgbClr val="386a88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151000" y="211788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4627e"/>
              </a:gs>
              <a:gs pos="100000">
                <a:srgbClr val="4582a7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3549600" y="2114640"/>
            <a:ext cx="26560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94e64"/>
              </a:gs>
              <a:gs pos="100000">
                <a:srgbClr val="4582a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544920" y="3990960"/>
            <a:ext cx="265572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f3e9a"/>
              </a:gs>
              <a:gs pos="100000">
                <a:srgbClr val="7e52c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4940280" y="3994200"/>
            <a:ext cx="2654280" cy="183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e52cc"/>
              </a:gs>
              <a:gs pos="100000">
                <a:srgbClr val="5b3b94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152960" y="222084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763720" y="425916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504040" y="425916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152960" y="494496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1170000" y="2581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7043760" y="2581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147680" y="471636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099200" y="471636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887640" y="140796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887640" y="59356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Description of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he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763720" y="290052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504040" y="2900520"/>
            <a:ext cx="14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887640" y="3314880"/>
            <a:ext cx="1920960" cy="1288800"/>
            <a:chOff x="3887640" y="3314880"/>
            <a:chExt cx="1920960" cy="1288800"/>
          </a:xfrm>
        </p:grpSpPr>
        <p:sp>
          <p:nvSpPr>
            <p:cNvPr id="1387" name=""/>
            <p:cNvSpPr/>
            <p:nvPr/>
          </p:nvSpPr>
          <p:spPr>
            <a:xfrm>
              <a:off x="3887640" y="3314880"/>
              <a:ext cx="1920960" cy="1288800"/>
            </a:xfrm>
            <a:prstGeom prst="hexagon">
              <a:avLst>
                <a:gd name="adj" fmla="val 37263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938400" y="3346200"/>
              <a:ext cx="1806480" cy="1212480"/>
            </a:xfrm>
            <a:prstGeom prst="hexagon">
              <a:avLst>
                <a:gd name="adj" fmla="val 37248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4202280" y="3525840"/>
            <a:ext cx="128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" descr=""/>
          <p:cNvPicPr/>
          <p:nvPr/>
        </p:nvPicPr>
        <p:blipFill>
          <a:blip r:embed="rId1"/>
          <a:stretch/>
        </p:blipFill>
        <p:spPr>
          <a:xfrm>
            <a:off x="1474920" y="744480"/>
            <a:ext cx="6194160" cy="536904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 rot="5400000">
            <a:off x="5201280" y="3583800"/>
            <a:ext cx="327636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99">
                  <a:alpha val="80000"/>
                </a:srgbClr>
              </a:gs>
              <a:gs pos="100000">
                <a:srgbClr val="38385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 rot="16200000">
            <a:off x="1662480" y="154152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4582a7"/>
              </a:gs>
              <a:gs pos="100000">
                <a:srgbClr val="bcd2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 rot="16200000">
            <a:off x="1662120" y="2377080"/>
            <a:ext cx="1067040" cy="157644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b2af7a"/>
              </a:gs>
              <a:gs pos="100000">
                <a:srgbClr val="e2e1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 rot="16200000">
            <a:off x="1662480" y="321156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4a9acc"/>
              </a:gs>
              <a:gs pos="100000">
                <a:srgbClr val="beda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 rot="16200000">
            <a:off x="1662120" y="4039200"/>
            <a:ext cx="1067040" cy="1576440"/>
          </a:xfrm>
          <a:custGeom>
            <a:avLst/>
            <a:gdLst>
              <a:gd name="textAreaLeft" fmla="*/ 0 w 1067040"/>
              <a:gd name="textAreaRight" fmla="*/ 1067400 w 106704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501920" y="210024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2006~2007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501920" y="293040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2005 ~ 2004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501920" y="377352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2003 ~ 2002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501920" y="459756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2001 ~ 2000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963880" y="204624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056040" y="2360520"/>
            <a:ext cx="372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963880" y="28954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105000" y="3209760"/>
            <a:ext cx="372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963880" y="37432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105000" y="4057560"/>
            <a:ext cx="372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963880" y="4576680"/>
            <a:ext cx="35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105000" y="4890960"/>
            <a:ext cx="372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2"/>
          <a:stretch/>
        </p:blipFill>
        <p:spPr>
          <a:xfrm>
            <a:off x="6256440" y="2227320"/>
            <a:ext cx="2736720" cy="3085920"/>
          </a:xfrm>
          <a:prstGeom prst="rect">
            <a:avLst/>
          </a:prstGeom>
          <a:ln w="0">
            <a:noFill/>
          </a:ln>
        </p:spPr>
      </p:pic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2316240" y="2403360"/>
            <a:ext cx="5045400" cy="1364040"/>
            <a:chOff x="2316240" y="2403360"/>
            <a:chExt cx="5045400" cy="1364040"/>
          </a:xfrm>
        </p:grpSpPr>
        <p:cxnSp>
          <p:nvCxnSpPr>
            <p:cNvPr id="1413" name=""/>
            <p:cNvCxnSpPr>
              <a:stCxn id="1414" idx="2"/>
            </p:cNvCxnSpPr>
            <p:nvPr/>
          </p:nvCxnSpPr>
          <p:spPr>
            <a:xfrm flipH="1">
              <a:off x="4828680" y="2403360"/>
              <a:ext cx="5400" cy="373680"/>
            </a:xfrm>
            <a:prstGeom prst="straightConnector1">
              <a:avLst/>
            </a:prstGeom>
            <a:ln w="19080">
              <a:solidFill>
                <a:srgbClr val="30311d"/>
              </a:solidFill>
              <a:miter/>
            </a:ln>
          </p:spPr>
        </p:cxnSp>
        <p:cxnSp>
          <p:nvCxnSpPr>
            <p:cNvPr id="1415" name=""/>
            <p:cNvCxnSpPr/>
            <p:nvPr/>
          </p:nvCxnSpPr>
          <p:spPr>
            <a:xfrm>
              <a:off x="4829040" y="3233520"/>
              <a:ext cx="1080" cy="534240"/>
            </a:xfrm>
            <a:prstGeom prst="straightConnector1">
              <a:avLst/>
            </a:prstGeom>
            <a:ln w="19080">
              <a:solidFill>
                <a:srgbClr val="30311d"/>
              </a:solidFill>
              <a:miter/>
            </a:ln>
          </p:spPr>
        </p:cxnSp>
        <p:cxnSp>
          <p:nvCxnSpPr>
            <p:cNvPr id="1416" name=""/>
            <p:cNvCxnSpPr>
              <a:stCxn id="1417" idx="0"/>
              <a:endCxn id="1418" idx="0"/>
            </p:cNvCxnSpPr>
            <p:nvPr/>
          </p:nvCxnSpPr>
          <p:spPr>
            <a:xfrm flipH="1" rot="16200000">
              <a:off x="4838040" y="1209960"/>
              <a:ext cx="2160" cy="5045760"/>
            </a:xfrm>
            <a:prstGeom prst="bentConnector3">
              <a:avLst>
                <a:gd name="adj1" fmla="val -14400000"/>
              </a:avLst>
            </a:prstGeom>
            <a:ln w="19080">
              <a:solidFill>
                <a:srgbClr val="30311d"/>
              </a:solidFill>
              <a:miter/>
            </a:ln>
          </p:spPr>
        </p:cxnSp>
      </p:grpSp>
      <p:sp>
        <p:nvSpPr>
          <p:cNvPr id="1419" name=""/>
          <p:cNvSpPr/>
          <p:nvPr/>
        </p:nvSpPr>
        <p:spPr>
          <a:xfrm>
            <a:off x="740556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356f9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24204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4a9acc"/>
              </a:gs>
              <a:gs pos="100000">
                <a:srgbClr val="356f9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179360" y="3741840"/>
            <a:ext cx="2273400" cy="536400"/>
          </a:xfrm>
          <a:prstGeom prst="roundRect">
            <a:avLst>
              <a:gd name="adj" fmla="val 16667"/>
            </a:avLst>
          </a:prstGeom>
          <a:solidFill>
            <a:srgbClr val="b2af7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182600" y="3753000"/>
            <a:ext cx="2257560" cy="2188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b2af7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224760" y="3741840"/>
            <a:ext cx="2273040" cy="536400"/>
          </a:xfrm>
          <a:prstGeom prst="roundRect">
            <a:avLst>
              <a:gd name="adj" fmla="val 16667"/>
            </a:avLst>
          </a:prstGeom>
          <a:solidFill>
            <a:srgbClr val="4a9a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6237360" y="3751200"/>
            <a:ext cx="2236680" cy="21924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4a9acc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699000" y="3751200"/>
            <a:ext cx="2273040" cy="536760"/>
          </a:xfrm>
          <a:prstGeom prst="roundRect">
            <a:avLst>
              <a:gd name="adj" fmla="val 16667"/>
            </a:avLst>
          </a:prstGeom>
          <a:solidFill>
            <a:srgbClr val="7e52cc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710160" y="3765600"/>
            <a:ext cx="2252520" cy="21888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e52cc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19844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b2af7a"/>
              </a:gs>
              <a:gs pos="100000">
                <a:srgbClr val="807e58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6232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b2af7a"/>
              </a:gs>
              <a:gs pos="100000">
                <a:srgbClr val="807e58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265800" y="38433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206360" y="38336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098720" y="4859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257560" y="485928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728880" y="38401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716280" y="4524480"/>
            <a:ext cx="1085760" cy="1263600"/>
          </a:xfrm>
          <a:prstGeom prst="rect">
            <a:avLst/>
          </a:prstGeom>
          <a:gradFill rotWithShape="0">
            <a:gsLst>
              <a:gs pos="0">
                <a:srgbClr val="7e52cc"/>
              </a:gs>
              <a:gs pos="100000">
                <a:srgbClr val="5b3b9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79800" y="4524480"/>
            <a:ext cx="1086120" cy="1263600"/>
          </a:xfrm>
          <a:prstGeom prst="rect">
            <a:avLst/>
          </a:prstGeom>
          <a:gradFill rotWithShape="0">
            <a:gsLst>
              <a:gs pos="0">
                <a:srgbClr val="7e52cc"/>
              </a:gs>
              <a:gs pos="100000">
                <a:srgbClr val="5b3b9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61620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77504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14196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300800" y="48592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3705120" y="2739960"/>
            <a:ext cx="2273400" cy="536400"/>
            <a:chOff x="3705120" y="2739960"/>
            <a:chExt cx="2273400" cy="536400"/>
          </a:xfrm>
        </p:grpSpPr>
        <p:sp>
          <p:nvSpPr>
            <p:cNvPr id="1439" name=""/>
            <p:cNvSpPr/>
            <p:nvPr/>
          </p:nvSpPr>
          <p:spPr>
            <a:xfrm>
              <a:off x="3705120" y="273996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4582a7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740040" y="27723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582a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441" name=""/>
          <p:cNvSpPr/>
          <p:nvPr/>
        </p:nvSpPr>
        <p:spPr>
          <a:xfrm>
            <a:off x="3732120" y="28209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3686040" y="1866960"/>
            <a:ext cx="2273400" cy="536040"/>
            <a:chOff x="3686040" y="1866960"/>
            <a:chExt cx="2273400" cy="536040"/>
          </a:xfrm>
        </p:grpSpPr>
        <p:sp>
          <p:nvSpPr>
            <p:cNvPr id="1414" name=""/>
            <p:cNvSpPr/>
            <p:nvPr/>
          </p:nvSpPr>
          <p:spPr>
            <a:xfrm>
              <a:off x="3686040" y="18669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720960" y="18993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00336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3727440" y="19782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O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 txBox="1"/>
          <p:nvPr/>
        </p:nvSpPr>
        <p:spPr>
          <a:xfrm>
            <a:off x="3556080" y="1739880"/>
            <a:ext cx="52228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a255e"/>
                    </a:gs>
                    <a:gs pos="100000">
                      <a:srgbClr val="7e52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a255e"/>
                  </a:gs>
                  <a:gs pos="100000">
                    <a:srgbClr val="7e52cc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5932440" y="5632560"/>
            <a:ext cx="669960" cy="654120"/>
            <a:chOff x="5932440" y="5632560"/>
            <a:chExt cx="669960" cy="654120"/>
          </a:xfrm>
        </p:grpSpPr>
        <p:sp>
          <p:nvSpPr>
            <p:cNvPr id="1447" name=""/>
            <p:cNvSpPr/>
            <p:nvPr/>
          </p:nvSpPr>
          <p:spPr>
            <a:xfrm>
              <a:off x="5932440" y="5632560"/>
              <a:ext cx="669960" cy="654120"/>
            </a:xfrm>
            <a:prstGeom prst="ellipse">
              <a:avLst/>
            </a:prstGeom>
            <a:gradFill rotWithShape="0">
              <a:gsLst>
                <a:gs pos="0">
                  <a:srgbClr val="1e3949"/>
                </a:gs>
                <a:gs pos="50000">
                  <a:srgbClr val="4582a7"/>
                </a:gs>
                <a:gs pos="100000">
                  <a:srgbClr val="1e39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448" name="" descr=""/>
            <p:cNvPicPr/>
            <p:nvPr/>
          </p:nvPicPr>
          <p:blipFill>
            <a:blip r:embed="rId1"/>
            <a:stretch/>
          </p:blipFill>
          <p:spPr>
            <a:xfrm>
              <a:off x="5956920" y="5635080"/>
              <a:ext cx="6112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"/>
          <p:cNvGrpSpPr/>
          <p:nvPr/>
        </p:nvGrpSpPr>
        <p:grpSpPr>
          <a:xfrm>
            <a:off x="7323120" y="5181480"/>
            <a:ext cx="349200" cy="339840"/>
            <a:chOff x="7323120" y="5181480"/>
            <a:chExt cx="349200" cy="339840"/>
          </a:xfrm>
        </p:grpSpPr>
        <p:sp>
          <p:nvSpPr>
            <p:cNvPr id="1450" name=""/>
            <p:cNvSpPr/>
            <p:nvPr/>
          </p:nvSpPr>
          <p:spPr>
            <a:xfrm>
              <a:off x="7323120" y="5181480"/>
              <a:ext cx="349200" cy="339840"/>
            </a:xfrm>
            <a:prstGeom prst="ellipse">
              <a:avLst/>
            </a:prstGeom>
            <a:gradFill rotWithShape="0">
              <a:gsLst>
                <a:gs pos="0">
                  <a:srgbClr val="4e4d35"/>
                </a:gs>
                <a:gs pos="50000">
                  <a:srgbClr val="b2af7a"/>
                </a:gs>
                <a:gs pos="100000">
                  <a:srgbClr val="4e4d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pic>
          <p:nvPicPr>
            <p:cNvPr id="1451" name="" descr=""/>
            <p:cNvPicPr/>
            <p:nvPr/>
          </p:nvPicPr>
          <p:blipFill>
            <a:blip r:embed="rId2"/>
            <a:stretch/>
          </p:blipFill>
          <p:spPr>
            <a:xfrm>
              <a:off x="7335720" y="5182560"/>
              <a:ext cx="31860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2" name=""/>
          <p:cNvSpPr/>
          <p:nvPr/>
        </p:nvSpPr>
        <p:spPr>
          <a:xfrm>
            <a:off x="4113360" y="5138640"/>
            <a:ext cx="1082520" cy="1071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81040" y="723960"/>
            <a:ext cx="2759040" cy="2730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003400" y="3657600"/>
            <a:ext cx="1911240" cy="1892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>
                <a:alpha val="63000"/>
              </a:srgbClr>
            </a:solidFill>
            <a:miter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37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559 -0.10479 C 0.0559 -0.10456 0.05156 -0.05136 0.0401 -0.02661 C 0.02864 -0.00185 -0.00226 0.00462 -0.0184 -0.00579 E">
                                      <p:cBhvr>
                                        <p:cTn id="44" dur="1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37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4236 -0.15476 C 0.14236 -0.15452 0.12535 -0.04603 0.10382 -0.01758 C 0.08229 0.01087 0.00382 0.02244 -0.0342 0.01874 E">
                                      <p:cBhvr>
                                        <p:cTn id="51" dur="1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8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8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8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44600" y="4465800"/>
            <a:ext cx="6572160" cy="107604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44600" y="301788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4a9a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600" y="1547640"/>
            <a:ext cx="657216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35160" y="4541760"/>
            <a:ext cx="6689520" cy="1076400"/>
          </a:xfrm>
          <a:prstGeom prst="roundRect">
            <a:avLst>
              <a:gd name="adj" fmla="val 16667"/>
            </a:avLst>
          </a:prstGeom>
          <a:solidFill>
            <a:srgbClr val="4582a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35160" y="1636560"/>
            <a:ext cx="6646680" cy="1076400"/>
          </a:xfrm>
          <a:prstGeom prst="roundRect">
            <a:avLst>
              <a:gd name="adj" fmla="val 16667"/>
            </a:avLst>
          </a:prstGeom>
          <a:solidFill>
            <a:srgbClr val="7e52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25440" y="2886120"/>
            <a:ext cx="3319560" cy="401760"/>
            <a:chOff x="1225440" y="2886120"/>
            <a:chExt cx="3319560" cy="401760"/>
          </a:xfrm>
        </p:grpSpPr>
        <p:sp>
          <p:nvSpPr>
            <p:cNvPr id="159" name=""/>
            <p:cNvSpPr/>
            <p:nvPr/>
          </p:nvSpPr>
          <p:spPr>
            <a:xfrm>
              <a:off x="1225440" y="288612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a9acc"/>
                </a:gs>
                <a:gs pos="50000">
                  <a:srgbClr val="438dbb"/>
                </a:gs>
                <a:gs pos="100000">
                  <a:srgbClr val="4a9a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233360" y="2898360"/>
              <a:ext cx="3307320" cy="371520"/>
              <a:chOff x="1233360" y="2898360"/>
              <a:chExt cx="3307320" cy="371520"/>
            </a:xfrm>
          </p:grpSpPr>
          <p:sp>
            <p:nvSpPr>
              <p:cNvPr id="161" name=""/>
              <p:cNvSpPr/>
              <p:nvPr/>
            </p:nvSpPr>
            <p:spPr>
              <a:xfrm>
                <a:off x="1233360" y="31737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9acc">
                      <a:alpha val="0"/>
                    </a:srgbClr>
                  </a:gs>
                  <a:gs pos="100000">
                    <a:srgbClr val="dbea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33360" y="28983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eef6"/>
                  </a:gs>
                  <a:gs pos="100000">
                    <a:srgbClr val="4a9a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198440" y="4354560"/>
            <a:ext cx="3319560" cy="401760"/>
            <a:chOff x="1198440" y="4354560"/>
            <a:chExt cx="3319560" cy="401760"/>
          </a:xfrm>
        </p:grpSpPr>
        <p:sp>
          <p:nvSpPr>
            <p:cNvPr id="164" name=""/>
            <p:cNvSpPr/>
            <p:nvPr/>
          </p:nvSpPr>
          <p:spPr>
            <a:xfrm>
              <a:off x="1198440" y="435456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582a7"/>
                </a:gs>
                <a:gs pos="50000">
                  <a:srgbClr val="3f7799"/>
                </a:gs>
                <a:gs pos="100000">
                  <a:srgbClr val="4582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206360" y="4366800"/>
              <a:ext cx="3307320" cy="371520"/>
              <a:chOff x="1206360" y="4366800"/>
              <a:chExt cx="3307320" cy="371520"/>
            </a:xfrm>
          </p:grpSpPr>
          <p:sp>
            <p:nvSpPr>
              <p:cNvPr id="166" name=""/>
              <p:cNvSpPr/>
              <p:nvPr/>
            </p:nvSpPr>
            <p:spPr>
              <a:xfrm>
                <a:off x="1206360" y="46422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582a7">
                      <a:alpha val="0"/>
                    </a:srgbClr>
                  </a:gs>
                  <a:gs pos="100000">
                    <a:srgbClr val="ced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06360" y="436680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ae6ed"/>
                  </a:gs>
                  <a:gs pos="100000">
                    <a:srgbClr val="4582a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1228680" y="1433520"/>
            <a:ext cx="3319560" cy="401760"/>
            <a:chOff x="1228680" y="1433520"/>
            <a:chExt cx="3319560" cy="401760"/>
          </a:xfrm>
        </p:grpSpPr>
        <p:sp>
          <p:nvSpPr>
            <p:cNvPr id="169" name=""/>
            <p:cNvSpPr/>
            <p:nvPr/>
          </p:nvSpPr>
          <p:spPr>
            <a:xfrm>
              <a:off x="1228680" y="143352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e52cc"/>
                </a:gs>
                <a:gs pos="50000">
                  <a:srgbClr val="734bbb"/>
                </a:gs>
                <a:gs pos="100000">
                  <a:srgbClr val="7e52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236600" y="1445760"/>
              <a:ext cx="3307320" cy="371520"/>
              <a:chOff x="1236600" y="1445760"/>
              <a:chExt cx="3307320" cy="371520"/>
            </a:xfrm>
          </p:grpSpPr>
          <p:sp>
            <p:nvSpPr>
              <p:cNvPr id="171" name=""/>
              <p:cNvSpPr/>
              <p:nvPr/>
            </p:nvSpPr>
            <p:spPr>
              <a:xfrm>
                <a:off x="1236600" y="17211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e52cc">
                      <a:alpha val="0"/>
                    </a:srgbClr>
                  </a:gs>
                  <a:gs pos="100000">
                    <a:srgbClr val="e4db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36600" y="14457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d7f2"/>
                  </a:gs>
                  <a:gs pos="100000">
                    <a:srgbClr val="7e52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1707120" y="1446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7120" y="291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07120" y="43783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24160" y="19191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88960" y="4834080"/>
            <a:ext cx="578196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36760" y="5757840"/>
            <a:ext cx="6165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95440" y="3371760"/>
            <a:ext cx="5781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4582a7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e52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e52cc"/>
              </a:solidFill>
              <a:latin typeface="Arial"/>
            </a:endParaRPr>
          </a:p>
        </p:txBody>
      </p:sp>
      <p:sp>
        <p:nvSpPr>
          <p:cNvPr id="14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658-DF73-43E0-9B5D-989267E87E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876920" y="1905120"/>
            <a:ext cx="397980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19760" y="2583000"/>
            <a:ext cx="4127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0311d"/>
                </a:solidFill>
                <a:latin typeface="Arial"/>
              </a:rPr>
              <a:t>- 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54240" y="1525680"/>
          <a:ext cx="418284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1525680"/>
                    <a:ext cx="418284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"/>
          <p:cNvGrpSpPr/>
          <p:nvPr/>
        </p:nvGrpSpPr>
        <p:grpSpPr>
          <a:xfrm>
            <a:off x="2800440" y="5149800"/>
            <a:ext cx="431280" cy="361800"/>
            <a:chOff x="2800440" y="5149800"/>
            <a:chExt cx="431280" cy="361800"/>
          </a:xfrm>
        </p:grpSpPr>
        <p:sp>
          <p:nvSpPr>
            <p:cNvPr id="185" name="未知"/>
            <p:cNvSpPr/>
            <p:nvPr/>
          </p:nvSpPr>
          <p:spPr>
            <a:xfrm flipH="1">
              <a:off x="2800440" y="5223240"/>
              <a:ext cx="217440" cy="2883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878560" y="5149800"/>
              <a:ext cx="57960" cy="75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3024000" y="5228640"/>
              <a:ext cx="207720" cy="2764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01400" y="5159160"/>
              <a:ext cx="54720" cy="71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79800" y="5184720"/>
            <a:ext cx="447840" cy="383760"/>
            <a:chOff x="3979800" y="5184720"/>
            <a:chExt cx="447840" cy="383760"/>
          </a:xfrm>
        </p:grpSpPr>
        <p:sp>
          <p:nvSpPr>
            <p:cNvPr id="190" name=""/>
            <p:cNvSpPr/>
            <p:nvPr/>
          </p:nvSpPr>
          <p:spPr>
            <a:xfrm>
              <a:off x="4071240" y="5184720"/>
              <a:ext cx="266760" cy="266040"/>
            </a:xfrm>
            <a:prstGeom prst="roundRect">
              <a:avLst>
                <a:gd name="adj" fmla="val 6250"/>
              </a:avLst>
            </a:prstGeom>
            <a:noFill/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79800" y="5450760"/>
              <a:ext cx="44784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94640" y="5209920"/>
              <a:ext cx="220680" cy="209160"/>
            </a:xfrm>
            <a:prstGeom prst="roundRect">
              <a:avLst>
                <a:gd name="adj" fmla="val 7972"/>
              </a:avLst>
            </a:prstGeom>
            <a:solidFill>
              <a:srgbClr val="ffffff">
                <a:alpha val="40000"/>
              </a:srgbClr>
            </a:solidFill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295160" y="5507280"/>
              <a:ext cx="67320" cy="0"/>
            </a:xfrm>
            <a:prstGeom prst="line">
              <a:avLst/>
            </a:prstGeom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176000" y="5264280"/>
              <a:ext cx="111960" cy="0"/>
            </a:xfrm>
            <a:prstGeom prst="line">
              <a:avLst/>
            </a:prstGeom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204440" y="5292720"/>
              <a:ext cx="68760" cy="0"/>
            </a:xfrm>
            <a:prstGeom prst="line">
              <a:avLst/>
            </a:prstGeom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223520" y="5380920"/>
              <a:ext cx="48600" cy="0"/>
            </a:xfrm>
            <a:prstGeom prst="line">
              <a:avLst/>
            </a:prstGeom>
            <a:ln w="1584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368520" y="5168880"/>
            <a:ext cx="374760" cy="374760"/>
            <a:chOff x="3368520" y="5168880"/>
            <a:chExt cx="374760" cy="374760"/>
          </a:xfrm>
        </p:grpSpPr>
        <p:sp>
          <p:nvSpPr>
            <p:cNvPr id="198" name=""/>
            <p:cNvSpPr/>
            <p:nvPr/>
          </p:nvSpPr>
          <p:spPr>
            <a:xfrm>
              <a:off x="3368520" y="5168880"/>
              <a:ext cx="374760" cy="3722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57160" y="5168880"/>
              <a:ext cx="0" cy="369720"/>
            </a:xfrm>
            <a:prstGeom prst="line">
              <a:avLst/>
            </a:prstGeom>
            <a:ln w="19080">
              <a:solidFill>
                <a:srgbClr val="ffffff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68520" y="5353560"/>
              <a:ext cx="374760" cy="0"/>
            </a:xfrm>
            <a:prstGeom prst="line">
              <a:avLst/>
            </a:prstGeom>
            <a:ln w="19080">
              <a:solidFill>
                <a:srgbClr val="ffffff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3582360" y="5171040"/>
              <a:ext cx="77760" cy="3672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3455280" y="5173920"/>
              <a:ext cx="84240" cy="369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 rot="5400000">
              <a:off x="3523320" y="5319000"/>
              <a:ext cx="48240" cy="279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 flipV="1" rot="16200000">
              <a:off x="3526560" y="5108040"/>
              <a:ext cx="48240" cy="279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362320" y="5157360"/>
            <a:ext cx="365040" cy="282600"/>
            <a:chOff x="2362320" y="5157360"/>
            <a:chExt cx="365040" cy="282600"/>
          </a:xfrm>
        </p:grpSpPr>
        <p:sp>
          <p:nvSpPr>
            <p:cNvPr id="206" name=""/>
            <p:cNvSpPr/>
            <p:nvPr/>
          </p:nvSpPr>
          <p:spPr>
            <a:xfrm flipV="1">
              <a:off x="2635920" y="5157360"/>
              <a:ext cx="0" cy="72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20360" y="5361480"/>
              <a:ext cx="52200" cy="687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66720" y="5297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3440" y="5297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2320" y="5169600"/>
              <a:ext cx="365040" cy="270360"/>
            </a:xfrm>
            <a:prstGeom prst="upArrow">
              <a:avLst>
                <a:gd name="adj1" fmla="val 63676"/>
                <a:gd name="adj2" fmla="val 44657"/>
              </a:avLst>
            </a:prstGeom>
            <a:solidFill>
              <a:srgbClr val="ffffff">
                <a:alpha val="35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06560" y="192564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11d"/>
                </a:solidFill>
                <a:latin typeface="Arial"/>
              </a:rPr>
              <a:t>Chart Title in here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6478560" y="2168640"/>
            <a:ext cx="2169720" cy="2993760"/>
            <a:chOff x="6478560" y="2168640"/>
            <a:chExt cx="2169720" cy="2993760"/>
          </a:xfrm>
        </p:grpSpPr>
        <p:sp>
          <p:nvSpPr>
            <p:cNvPr id="214" name=""/>
            <p:cNvSpPr/>
            <p:nvPr/>
          </p:nvSpPr>
          <p:spPr>
            <a:xfrm>
              <a:off x="6481440" y="2168640"/>
              <a:ext cx="2166840" cy="29937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993760"/>
                <a:gd name="textAreaBottom" fmla="*/ 2914200 h 2993760"/>
              </a:gdLst>
              <a:ahLst/>
              <a:rect l="textAreaLeft" t="textAreaTop" r="textAreaRight" b="textAreaBottom"/>
              <a:pathLst>
                <a:path w="21600" h="29842">
                  <a:moveTo>
                    <a:pt x="2716" y="0"/>
                  </a:moveTo>
                  <a:arcTo wR="2716" hR="2716" stAng="16200000" swAng="-5400000"/>
                  <a:lnTo>
                    <a:pt x="0" y="27126"/>
                  </a:lnTo>
                  <a:arcTo wR="2716" hR="2716" stAng="10800000" swAng="-5400000"/>
                  <a:lnTo>
                    <a:pt x="18884" y="29842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b2a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8560" y="4385160"/>
              <a:ext cx="2158200" cy="770760"/>
            </a:xfrm>
            <a:prstGeom prst="roundRect">
              <a:avLst>
                <a:gd name="adj" fmla="val 32134"/>
              </a:avLst>
            </a:prstGeom>
            <a:gradFill rotWithShape="0">
              <a:gsLst>
                <a:gs pos="0">
                  <a:srgbClr val="b2af7a">
                    <a:alpha val="0"/>
                  </a:srgbClr>
                </a:gs>
                <a:gs pos="100000">
                  <a:srgbClr val="dedd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97280" y="2176920"/>
              <a:ext cx="2130480" cy="772560"/>
            </a:xfrm>
            <a:prstGeom prst="roundRect">
              <a:avLst>
                <a:gd name="adj" fmla="val 31319"/>
              </a:avLst>
            </a:prstGeom>
            <a:gradFill rotWithShape="0">
              <a:gsLst>
                <a:gs pos="0">
                  <a:srgbClr val="e4e3d1"/>
                </a:gs>
                <a:gs pos="100000">
                  <a:srgbClr val="b2af7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141800" y="2449440"/>
            <a:ext cx="2169720" cy="2712960"/>
            <a:chOff x="4141800" y="2449440"/>
            <a:chExt cx="2169720" cy="2712960"/>
          </a:xfrm>
        </p:grpSpPr>
        <p:sp>
          <p:nvSpPr>
            <p:cNvPr id="218" name=""/>
            <p:cNvSpPr/>
            <p:nvPr/>
          </p:nvSpPr>
          <p:spPr>
            <a:xfrm>
              <a:off x="4144680" y="244944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4a9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1800" y="4458600"/>
              <a:ext cx="2168640" cy="6976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4a9acc">
                    <a:alpha val="0"/>
                  </a:srgbClr>
                </a:gs>
                <a:gs pos="100000">
                  <a:srgbClr val="b3d4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51880" y="2457720"/>
              <a:ext cx="2149560" cy="6980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c1dced"/>
                </a:gs>
                <a:gs pos="100000">
                  <a:srgbClr val="4a9a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835280" y="2854440"/>
            <a:ext cx="2169720" cy="2307960"/>
            <a:chOff x="1835280" y="2854440"/>
            <a:chExt cx="2169720" cy="2307960"/>
          </a:xfrm>
        </p:grpSpPr>
        <p:sp>
          <p:nvSpPr>
            <p:cNvPr id="222" name=""/>
            <p:cNvSpPr/>
            <p:nvPr/>
          </p:nvSpPr>
          <p:spPr>
            <a:xfrm>
              <a:off x="1838160" y="2854440"/>
              <a:ext cx="2166840" cy="2307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7">
                  <a:moveTo>
                    <a:pt x="2716" y="0"/>
                  </a:moveTo>
                  <a:arcTo wR="2716" hR="2716" stAng="16200000" swAng="-5400000"/>
                  <a:lnTo>
                    <a:pt x="0" y="20291"/>
                  </a:lnTo>
                  <a:arcTo wR="2716" hR="2716" stAng="10800000" swAng="-5400000"/>
                  <a:lnTo>
                    <a:pt x="18884" y="23007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458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35280" y="4563360"/>
              <a:ext cx="216864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4582a7">
                    <a:alpha val="0"/>
                  </a:srgbClr>
                </a:gs>
                <a:gs pos="100000">
                  <a:srgbClr val="b1ca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64080" y="286164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c0d4e0"/>
                </a:gs>
                <a:gs pos="100000">
                  <a:srgbClr val="4582a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1962000" y="2946240"/>
            <a:ext cx="45252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60960" y="2523960"/>
            <a:ext cx="453960" cy="4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66040" y="2249640"/>
            <a:ext cx="45396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1935000" y="3646440"/>
            <a:ext cx="1959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40080" y="3186000"/>
            <a:ext cx="195768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8640" y="28209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68480" y="226368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68960" y="175896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24800" y="151920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11d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52640" y="5443560"/>
            <a:ext cx="653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52960" y="2192400"/>
            <a:ext cx="370224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c7ad7"/>
              </a:gs>
              <a:gs pos="100000">
                <a:srgbClr val="7e52cc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119560" y="2243160"/>
            <a:ext cx="792360" cy="673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056200" y="3519360"/>
            <a:ext cx="370188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99ab7"/>
              </a:gs>
              <a:gs pos="100000">
                <a:srgbClr val="4582a7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116680" y="3573360"/>
            <a:ext cx="793440" cy="673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059440" y="484992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0be94"/>
              </a:gs>
              <a:gs pos="100000">
                <a:srgbClr val="b2af7a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114880" y="4897440"/>
            <a:ext cx="792360" cy="67320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1860480" y="1959120"/>
            <a:ext cx="1879200" cy="1917720"/>
            <a:chOff x="1860480" y="1959120"/>
            <a:chExt cx="1879200" cy="1917720"/>
          </a:xfrm>
        </p:grpSpPr>
        <p:pic>
          <p:nvPicPr>
            <p:cNvPr id="244" name="" descr=""/>
            <p:cNvPicPr/>
            <p:nvPr/>
          </p:nvPicPr>
          <p:blipFill>
            <a:blip r:embed="rId4"/>
            <a:stretch/>
          </p:blipFill>
          <p:spPr>
            <a:xfrm>
              <a:off x="1860480" y="195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860480" y="1959120"/>
              <a:ext cx="186696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2054160" y="1995840"/>
              <a:ext cx="1466280" cy="633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993680" y="3220200"/>
              <a:ext cx="1648080" cy="656640"/>
              <a:chOff x="1993680" y="3220200"/>
              <a:chExt cx="1648080" cy="65664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2281320" y="3220200"/>
                <a:ext cx="1360440" cy="616680"/>
                <a:chOff x="2281320" y="3220200"/>
                <a:chExt cx="1360440" cy="616680"/>
              </a:xfrm>
            </p:grpSpPr>
            <p:sp>
              <p:nvSpPr>
                <p:cNvPr id="249" name=""/>
                <p:cNvSpPr/>
                <p:nvPr/>
              </p:nvSpPr>
              <p:spPr>
                <a:xfrm flipH="1" flipV="1" rot="3964800">
                  <a:off x="3023280" y="303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 rot="4780200">
                  <a:off x="2869920" y="309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 rot="5076000">
                  <a:off x="2776320" y="310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 rot="5608200">
                  <a:off x="2664000" y="311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993680" y="3229920"/>
                <a:ext cx="1359000" cy="646920"/>
                <a:chOff x="1993680" y="3229920"/>
                <a:chExt cx="1359000" cy="646920"/>
              </a:xfrm>
            </p:grpSpPr>
            <p:sp>
              <p:nvSpPr>
                <p:cNvPr id="254" name=""/>
                <p:cNvSpPr/>
                <p:nvPr/>
              </p:nvSpPr>
              <p:spPr>
                <a:xfrm flipH="1" flipV="1" rot="5317800">
                  <a:off x="2736720" y="311832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 rot="6133800">
                  <a:off x="2571120" y="311652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 rot="6429000">
                  <a:off x="2479680" y="309132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6961200">
                  <a:off x="2370960" y="3058560"/>
                  <a:ext cx="23724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8" name=""/>
          <p:cNvGrpSpPr/>
          <p:nvPr/>
        </p:nvGrpSpPr>
        <p:grpSpPr>
          <a:xfrm>
            <a:off x="1908000" y="4314960"/>
            <a:ext cx="1879560" cy="1918080"/>
            <a:chOff x="1908000" y="4314960"/>
            <a:chExt cx="1879560" cy="1918080"/>
          </a:xfrm>
        </p:grpSpPr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1908000" y="4314960"/>
              <a:ext cx="187956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908000" y="4314960"/>
              <a:ext cx="186732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2101680" y="4351680"/>
              <a:ext cx="1466640" cy="633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2041200" y="5575680"/>
              <a:ext cx="1648800" cy="657360"/>
              <a:chOff x="2041200" y="5575680"/>
              <a:chExt cx="1648800" cy="65736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329560" y="5575680"/>
                <a:ext cx="1360440" cy="616680"/>
                <a:chOff x="2329560" y="5575680"/>
                <a:chExt cx="1360440" cy="616680"/>
              </a:xfrm>
            </p:grpSpPr>
            <p:sp>
              <p:nvSpPr>
                <p:cNvPr id="264" name=""/>
                <p:cNvSpPr/>
                <p:nvPr/>
              </p:nvSpPr>
              <p:spPr>
                <a:xfrm flipH="1" flipV="1" rot="3964800">
                  <a:off x="3071520" y="53892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 rot="4780200">
                  <a:off x="2918160" y="544932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 rot="5076000">
                  <a:off x="2824200" y="5462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 flipV="1" rot="5608200">
                  <a:off x="2712240" y="54741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041200" y="5585760"/>
                <a:ext cx="1359000" cy="647280"/>
                <a:chOff x="2041200" y="5585760"/>
                <a:chExt cx="1359000" cy="647280"/>
              </a:xfrm>
            </p:grpSpPr>
            <p:sp>
              <p:nvSpPr>
                <p:cNvPr id="269" name=""/>
                <p:cNvSpPr/>
                <p:nvPr/>
              </p:nvSpPr>
              <p:spPr>
                <a:xfrm flipH="1" flipV="1" rot="5317800">
                  <a:off x="2783520" y="547380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flipV="1" rot="6133800">
                  <a:off x="2619360" y="5471280"/>
                  <a:ext cx="23724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 rot="6429000">
                  <a:off x="2527920" y="544644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6961200">
                  <a:off x="2418840" y="5414040"/>
                  <a:ext cx="23724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3" name=""/>
          <p:cNvSpPr/>
          <p:nvPr/>
        </p:nvSpPr>
        <p:spPr>
          <a:xfrm>
            <a:off x="5187960" y="365112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87960" y="231624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7960" y="4964040"/>
            <a:ext cx="3425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Description of the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company’s sub conten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55800" y="256860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32120" y="4923000"/>
            <a:ext cx="19047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8" name="未知"/>
          <p:cNvSpPr/>
          <p:nvPr/>
        </p:nvSpPr>
        <p:spPr>
          <a:xfrm rot="16200000">
            <a:off x="3664440" y="4856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9" name="未知"/>
          <p:cNvSpPr/>
          <p:nvPr/>
        </p:nvSpPr>
        <p:spPr>
          <a:xfrm rot="16200000">
            <a:off x="4231440" y="3508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 flipH="1" rot="16200000">
            <a:off x="3624840" y="2292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52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33440" y="2133720"/>
            <a:ext cx="3381480" cy="3124080"/>
            <a:chOff x="1333440" y="2133720"/>
            <a:chExt cx="3381480" cy="3124080"/>
          </a:xfrm>
        </p:grpSpPr>
        <p:sp>
          <p:nvSpPr>
            <p:cNvPr id="283" name=""/>
            <p:cNvSpPr/>
            <p:nvPr/>
          </p:nvSpPr>
          <p:spPr>
            <a:xfrm>
              <a:off x="1333440" y="2971800"/>
              <a:ext cx="3352680" cy="2286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cecff"/>
                </a:gs>
              </a:gsLst>
              <a:lin ang="81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924360" y="2133720"/>
              <a:ext cx="790560" cy="1976400"/>
              <a:chOff x="3924360" y="2133720"/>
              <a:chExt cx="790560" cy="1976400"/>
            </a:xfrm>
          </p:grpSpPr>
          <p:sp>
            <p:nvSpPr>
              <p:cNvPr id="285" name="未知"/>
              <p:cNvSpPr/>
              <p:nvPr/>
            </p:nvSpPr>
            <p:spPr>
              <a:xfrm>
                <a:off x="4116600" y="2133720"/>
                <a:ext cx="369720" cy="40320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3924360" y="2579760"/>
                <a:ext cx="790560" cy="15303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1562040" y="320040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38760" y="2133720"/>
            <a:ext cx="3375000" cy="3124080"/>
            <a:chOff x="4838760" y="2133720"/>
            <a:chExt cx="3375000" cy="3124080"/>
          </a:xfrm>
        </p:grpSpPr>
        <p:sp>
          <p:nvSpPr>
            <p:cNvPr id="289" name=""/>
            <p:cNvSpPr/>
            <p:nvPr/>
          </p:nvSpPr>
          <p:spPr>
            <a:xfrm>
              <a:off x="4861080" y="2971800"/>
              <a:ext cx="3352680" cy="2286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d8f4be"/>
                </a:gs>
                <a:gs pos="100000">
                  <a:srgbClr val="fefefe"/>
                </a:gs>
              </a:gsLst>
              <a:lin ang="135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00880" y="3200400"/>
              <a:ext cx="25905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6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838760" y="2133720"/>
              <a:ext cx="790560" cy="1976400"/>
              <a:chOff x="4838760" y="2133720"/>
              <a:chExt cx="790560" cy="1976400"/>
            </a:xfrm>
          </p:grpSpPr>
          <p:sp>
            <p:nvSpPr>
              <p:cNvPr id="292" name="未知"/>
              <p:cNvSpPr/>
              <p:nvPr/>
            </p:nvSpPr>
            <p:spPr>
              <a:xfrm>
                <a:off x="5031000" y="2133720"/>
                <a:ext cx="369720" cy="40320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4838760" y="2579760"/>
                <a:ext cx="790560" cy="15303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582a7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30311d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582a7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370160" y="1092240"/>
            <a:ext cx="6319800" cy="5369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14400" y="1954080"/>
            <a:ext cx="8083440" cy="3665520"/>
            <a:chOff x="914400" y="1954080"/>
            <a:chExt cx="8083440" cy="3665520"/>
          </a:xfrm>
        </p:grpSpPr>
        <p:sp>
          <p:nvSpPr>
            <p:cNvPr id="298" name=""/>
            <p:cNvSpPr/>
            <p:nvPr/>
          </p:nvSpPr>
          <p:spPr>
            <a:xfrm>
              <a:off x="5699160" y="2390760"/>
              <a:ext cx="2738520" cy="2835000"/>
            </a:xfrm>
            <a:prstGeom prst="ellipse">
              <a:avLst/>
            </a:prstGeom>
            <a:noFill/>
            <a:ln w="57240">
              <a:solidFill>
                <a:srgbClr val="003366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12720" y="2390760"/>
              <a:ext cx="2738520" cy="2835000"/>
            </a:xfrm>
            <a:prstGeom prst="ellipse">
              <a:avLst/>
            </a:prstGeom>
            <a:noFill/>
            <a:ln w="57240">
              <a:solidFill>
                <a:srgbClr val="003366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537000" y="3222360"/>
              <a:ext cx="1306080" cy="1209600"/>
              <a:chOff x="3537000" y="3222360"/>
              <a:chExt cx="1306080" cy="1209600"/>
            </a:xfrm>
          </p:grpSpPr>
          <p:sp>
            <p:nvSpPr>
              <p:cNvPr id="301" name=""/>
              <p:cNvSpPr/>
              <p:nvPr/>
            </p:nvSpPr>
            <p:spPr>
              <a:xfrm>
                <a:off x="3537000" y="3222360"/>
                <a:ext cx="1306080" cy="1209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2af7a"/>
                  </a:gs>
                  <a:gs pos="100000">
                    <a:srgbClr val="817f58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>
                <a:off x="3585960" y="3282480"/>
                <a:ext cx="649800" cy="604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cdad"/>
                  </a:gs>
                  <a:gs pos="50000">
                    <a:srgbClr val="b2af7a">
                      <a:alpha val="0"/>
                    </a:srgbClr>
                  </a:gs>
                  <a:gs pos="100000">
                    <a:srgbClr val="cfcda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3533760" y="3446280"/>
              <a:ext cx="13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Title in here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06640" y="3490920"/>
              <a:ext cx="1571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92640" y="2681280"/>
              <a:ext cx="1272960" cy="450720"/>
            </a:xfrm>
            <a:custGeom>
              <a:avLst/>
              <a:gdLst>
                <a:gd name="textAreaLeft" fmla="*/ 246960 w 1272960"/>
                <a:gd name="textAreaRight" fmla="*/ 898560 w 1272960"/>
                <a:gd name="textAreaTop" fmla="*/ 60120 h 450720"/>
                <a:gd name="textAreaBottom" fmla="*/ 390600 h 45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83" hR="21600" stAng="10800000" swAng="5400000"/>
                  <a:lnTo>
                    <a:pt x="11057" y="0"/>
                  </a:lnTo>
                  <a:arcTo wR="8383" hR="21600" stAng="-5400000" swAng="1835256"/>
                  <a:lnTo>
                    <a:pt x="20225" y="9745"/>
                  </a:lnTo>
                  <a:lnTo>
                    <a:pt x="18103" y="21600"/>
                  </a:lnTo>
                  <a:lnTo>
                    <a:pt x="13231" y="9745"/>
                  </a:lnTo>
                  <a:lnTo>
                    <a:pt x="15391" y="9745"/>
                  </a:lnTo>
                  <a:arcTo wR="8383" hR="21600" stAng="-3564744" swAng="-1619989"/>
                  <a:lnTo>
                    <a:pt x="9720" y="276"/>
                  </a:lnTo>
                  <a:arcTo wR="8383" hR="21600" stAng="-5615267" swAng="-5184733"/>
                  <a:close/>
                </a:path>
                <a:path fill="darkenLess" w="21600" h="21600">
                  <a:moveTo>
                    <a:pt x="0" y="21600"/>
                  </a:moveTo>
                  <a:arcTo wR="8383" hR="21600" stAng="10800000" swAng="5400000"/>
                  <a:lnTo>
                    <a:pt x="8383" y="0"/>
                  </a:lnTo>
                  <a:arcTo wR="8383" hR="21600" stAng="-5400000" swAng="215267"/>
                  <a:lnTo>
                    <a:pt x="9720" y="276"/>
                  </a:lnTo>
                  <a:arcTo wR="8383" hR="21600" stAng="-5615267" swAng="-5184733"/>
                  <a:close/>
                </a:path>
              </a:pathLst>
            </a:custGeom>
            <a:solidFill>
              <a:srgbClr val="30311d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987800" y="3222360"/>
              <a:ext cx="1306440" cy="1209600"/>
              <a:chOff x="4987800" y="3222360"/>
              <a:chExt cx="1306440" cy="1209600"/>
            </a:xfrm>
          </p:grpSpPr>
          <p:sp>
            <p:nvSpPr>
              <p:cNvPr id="307" name=""/>
              <p:cNvSpPr/>
              <p:nvPr/>
            </p:nvSpPr>
            <p:spPr>
              <a:xfrm>
                <a:off x="4987800" y="3222360"/>
                <a:ext cx="1306440" cy="1209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a9acc"/>
                  </a:gs>
                  <a:gs pos="100000">
                    <a:srgbClr val="356f94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>
                <a:off x="5036760" y="3282480"/>
                <a:ext cx="650160" cy="604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c1df"/>
                  </a:gs>
                  <a:gs pos="50000">
                    <a:srgbClr val="4a9acc">
                      <a:alpha val="0"/>
                    </a:srgbClr>
                  </a:gs>
                  <a:gs pos="100000">
                    <a:srgbClr val="91c1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984920" y="3446280"/>
              <a:ext cx="13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Title in here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736640" y="1954080"/>
              <a:ext cx="1143000" cy="1119240"/>
              <a:chOff x="1736640" y="1954080"/>
              <a:chExt cx="1143000" cy="11192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1736640" y="1954080"/>
                <a:ext cx="1143000" cy="1119240"/>
                <a:chOff x="1736640" y="1954080"/>
                <a:chExt cx="1143000" cy="1119240"/>
              </a:xfrm>
            </p:grpSpPr>
            <p:pic>
              <p:nvPicPr>
                <p:cNvPr id="3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36640" y="195408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3" name=""/>
                <p:cNvSpPr/>
                <p:nvPr/>
              </p:nvSpPr>
              <p:spPr>
                <a:xfrm>
                  <a:off x="1736640" y="195408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0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50760" y="196488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5" name=""/>
            <p:cNvGrpSpPr/>
            <p:nvPr/>
          </p:nvGrpSpPr>
          <p:grpSpPr>
            <a:xfrm>
              <a:off x="914400" y="3263760"/>
              <a:ext cx="1143000" cy="1119240"/>
              <a:chOff x="914400" y="3263760"/>
              <a:chExt cx="1143000" cy="111924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914400" y="3263760"/>
                <a:ext cx="1143000" cy="1119240"/>
                <a:chOff x="914400" y="3263760"/>
                <a:chExt cx="1143000" cy="1119240"/>
              </a:xfrm>
            </p:grpSpPr>
            <p:pic>
              <p:nvPicPr>
                <p:cNvPr id="31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32637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8" name=""/>
                <p:cNvSpPr/>
                <p:nvPr/>
              </p:nvSpPr>
              <p:spPr>
                <a:xfrm>
                  <a:off x="914400" y="32637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0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028520" y="32745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0" name=""/>
            <p:cNvGrpSpPr/>
            <p:nvPr/>
          </p:nvGrpSpPr>
          <p:grpSpPr>
            <a:xfrm>
              <a:off x="1736640" y="4500360"/>
              <a:ext cx="1143000" cy="1119240"/>
              <a:chOff x="1736640" y="4500360"/>
              <a:chExt cx="1143000" cy="111924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736640" y="4500360"/>
                <a:ext cx="1143000" cy="1119240"/>
                <a:chOff x="1736640" y="4500360"/>
                <a:chExt cx="1143000" cy="1119240"/>
              </a:xfrm>
            </p:grpSpPr>
            <p:pic>
              <p:nvPicPr>
                <p:cNvPr id="32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36640" y="45003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>
                  <a:off x="1736640" y="45003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af7a">
                        <a:alpha val="55294"/>
                      </a:srgbClr>
                    </a:gs>
                    <a:gs pos="50000">
                      <a:srgbClr val="525038">
                        <a:alpha val="90196"/>
                      </a:srgbClr>
                    </a:gs>
                    <a:gs pos="100000">
                      <a:srgbClr val="b2af7a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850760" y="45111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1798560" y="2246040"/>
              <a:ext cx="101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54000" y="3571920"/>
              <a:ext cx="101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01800" y="477972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000920" y="1954080"/>
              <a:ext cx="1143000" cy="1119240"/>
              <a:chOff x="7000920" y="1954080"/>
              <a:chExt cx="1143000" cy="111924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7000920" y="1954080"/>
                <a:ext cx="1143000" cy="1119240"/>
                <a:chOff x="7000920" y="1954080"/>
                <a:chExt cx="1143000" cy="1119240"/>
              </a:xfrm>
            </p:grpSpPr>
            <p:pic>
              <p:nvPicPr>
                <p:cNvPr id="33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000920" y="195408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1" name=""/>
                <p:cNvSpPr/>
                <p:nvPr/>
              </p:nvSpPr>
              <p:spPr>
                <a:xfrm>
                  <a:off x="7000920" y="195408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06586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15040" y="196488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3" name=""/>
            <p:cNvSpPr/>
            <p:nvPr/>
          </p:nvSpPr>
          <p:spPr>
            <a:xfrm>
              <a:off x="7062840" y="224604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7854840" y="3263760"/>
              <a:ext cx="1143000" cy="1119240"/>
              <a:chOff x="7854840" y="3263760"/>
              <a:chExt cx="1143000" cy="11192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7854840" y="3263760"/>
                <a:ext cx="1143000" cy="1119240"/>
                <a:chOff x="7854840" y="3263760"/>
                <a:chExt cx="1143000" cy="1119240"/>
              </a:xfrm>
            </p:grpSpPr>
            <p:pic>
              <p:nvPicPr>
                <p:cNvPr id="33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4840" y="3263760"/>
                  <a:ext cx="1143000" cy="111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7" name=""/>
                <p:cNvSpPr/>
                <p:nvPr/>
              </p:nvSpPr>
              <p:spPr>
                <a:xfrm>
                  <a:off x="7854840" y="3263760"/>
                  <a:ext cx="113508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06586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968960" y="3274560"/>
                <a:ext cx="902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9" name=""/>
            <p:cNvSpPr/>
            <p:nvPr/>
          </p:nvSpPr>
          <p:spPr>
            <a:xfrm>
              <a:off x="7894800" y="357192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7000920" y="4484520"/>
              <a:ext cx="1143000" cy="1117800"/>
              <a:chOff x="7000920" y="4484520"/>
              <a:chExt cx="1143000" cy="111780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7000920" y="4484520"/>
                <a:ext cx="1143000" cy="1117800"/>
                <a:chOff x="7000920" y="4484520"/>
                <a:chExt cx="1143000" cy="1117800"/>
              </a:xfrm>
            </p:grpSpPr>
            <p:pic>
              <p:nvPicPr>
                <p:cNvPr id="34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000920" y="4484520"/>
                  <a:ext cx="1143000" cy="111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>
                  <a:off x="7000920" y="4484520"/>
                  <a:ext cx="1135080" cy="111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9acc">
                        <a:alpha val="55294"/>
                      </a:srgbClr>
                    </a:gs>
                    <a:gs pos="50000">
                      <a:srgbClr val="306586">
                        <a:alpha val="90196"/>
                      </a:srgbClr>
                    </a:gs>
                    <a:gs pos="100000">
                      <a:srgbClr val="4a9acc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5040" y="4495320"/>
                <a:ext cx="902520" cy="39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5" name=""/>
            <p:cNvSpPr/>
            <p:nvPr/>
          </p:nvSpPr>
          <p:spPr>
            <a:xfrm>
              <a:off x="7062840" y="4776480"/>
              <a:ext cx="101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 rot="10800000">
              <a:off x="4314960" y="4578120"/>
              <a:ext cx="1272960" cy="471600"/>
            </a:xfrm>
            <a:custGeom>
              <a:avLst/>
              <a:gdLst>
                <a:gd name="textAreaLeft" fmla="*/ 241920 w 1272960"/>
                <a:gd name="textAreaRight" fmla="*/ 903600 w 1272960"/>
                <a:gd name="textAreaTop" fmla="*/ 63000 h 471600"/>
                <a:gd name="textAreaBottom" fmla="*/ 40860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16" hR="21600" stAng="10800000" swAng="-5400000"/>
                  <a:lnTo>
                    <a:pt x="11225" y="21600"/>
                  </a:lnTo>
                  <a:arcTo wR="8216" hR="21600" stAng="5400000" swAng="-2825452"/>
                  <a:lnTo>
                    <a:pt x="21130" y="7200"/>
                  </a:lnTo>
                  <a:lnTo>
                    <a:pt x="17936" y="0"/>
                  </a:lnTo>
                  <a:lnTo>
                    <a:pt x="13801" y="7200"/>
                  </a:lnTo>
                  <a:lnTo>
                    <a:pt x="15961" y="7200"/>
                  </a:lnTo>
                  <a:arcTo wR="8216" hR="21600" stAng="2574548" swAng="2582291"/>
                  <a:lnTo>
                    <a:pt x="9720" y="21235"/>
                  </a:lnTo>
                  <a:arcTo wR="8216" hR="21600" stAng="5643161" swAng="5156839"/>
                  <a:close/>
                </a:path>
                <a:path fill="darkenLess" w="21600" h="21600">
                  <a:moveTo>
                    <a:pt x="0" y="0"/>
                  </a:moveTo>
                  <a:arcTo wR="8216" hR="21600" stAng="10800000" swAng="-5400000"/>
                  <a:lnTo>
                    <a:pt x="11225" y="21600"/>
                  </a:lnTo>
                  <a:arcTo wR="8216" hR="21600" stAng="5400000" swAng="243161"/>
                  <a:lnTo>
                    <a:pt x="9720" y="21235"/>
                  </a:lnTo>
                  <a:arcTo wR="8216" hR="21600" stAng="5643161" swAng="5156839"/>
                  <a:close/>
                </a:path>
              </a:pathLst>
            </a:custGeom>
            <a:solidFill>
              <a:srgbClr val="30311d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27720" y="3490920"/>
              <a:ext cx="157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32080" y="6004080"/>
            <a:ext cx="7253280" cy="404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66760" y="1932120"/>
            <a:ext cx="5985000" cy="385596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50000">
                <a:srgbClr val="dddddd"/>
              </a:gs>
              <a:gs pos="100000">
                <a:srgbClr val="fbfb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149560" y="2433600"/>
            <a:ext cx="5776920" cy="2930400"/>
            <a:chOff x="2149560" y="2433600"/>
            <a:chExt cx="5776920" cy="2930400"/>
          </a:xfrm>
        </p:grpSpPr>
        <p:sp>
          <p:nvSpPr>
            <p:cNvPr id="351" name=""/>
            <p:cNvSpPr/>
            <p:nvPr/>
          </p:nvSpPr>
          <p:spPr>
            <a:xfrm>
              <a:off x="2149560" y="243360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49560" y="292572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49560" y="340344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49560" y="389556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49560" y="437364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49560" y="486576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49560" y="5364000"/>
              <a:ext cx="5776920" cy="0"/>
            </a:xfrm>
            <a:prstGeom prst="line">
              <a:avLst/>
            </a:prstGeom>
            <a:ln w="936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358" name="未知"/>
          <p:cNvSpPr/>
          <p:nvPr/>
        </p:nvSpPr>
        <p:spPr>
          <a:xfrm>
            <a:off x="2201760" y="2593800"/>
            <a:ext cx="5666040" cy="33069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1edf9">
                  <a:alpha val="80000"/>
                </a:srgbClr>
              </a:gs>
              <a:gs pos="100000">
                <a:srgbClr val="7e52cc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27400" y="602604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33320" y="5005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53760" y="4844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82160" y="4006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68120" y="33735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17200" y="49500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04640" y="4078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553080" y="21747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80%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82440" y="339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81160" y="1236600"/>
            <a:ext cx="596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68440" y="6462720"/>
            <a:ext cx="2300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 in here  (unit: %)</a:t>
            </a: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717640" y="5307120"/>
            <a:ext cx="186840" cy="188640"/>
            <a:chOff x="2717640" y="5307120"/>
            <a:chExt cx="186840" cy="188640"/>
          </a:xfrm>
        </p:grpSpPr>
        <p:sp>
          <p:nvSpPr>
            <p:cNvPr id="371" name=""/>
            <p:cNvSpPr/>
            <p:nvPr/>
          </p:nvSpPr>
          <p:spPr>
            <a:xfrm>
              <a:off x="2717640" y="530712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2723040" y="5312880"/>
              <a:ext cx="180000" cy="182880"/>
              <a:chOff x="2723040" y="5312880"/>
              <a:chExt cx="180000" cy="182880"/>
            </a:xfrm>
          </p:grpSpPr>
          <p:pic>
            <p:nvPicPr>
              <p:cNvPr id="3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23040" y="531288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2723040" y="531288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375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724480" y="532008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6" name=""/>
              <p:cNvGrpSpPr/>
              <p:nvPr/>
            </p:nvGrpSpPr>
            <p:grpSpPr>
              <a:xfrm>
                <a:off x="2779200" y="5383080"/>
                <a:ext cx="123840" cy="112680"/>
                <a:chOff x="2779200" y="5383080"/>
                <a:chExt cx="123840" cy="1126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2807640" y="5383080"/>
                  <a:ext cx="95400" cy="111600"/>
                  <a:chOff x="2807640" y="5383080"/>
                  <a:chExt cx="95400" cy="1116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flipV="1" rot="1528800">
                    <a:off x="2859840" y="53834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flipV="1" rot="2344200">
                    <a:off x="2853360" y="5396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flipV="1" rot="2640000">
                    <a:off x="2847600" y="540396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flipV="1" rot="3172200">
                    <a:off x="2839320" y="5411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779200" y="5413680"/>
                  <a:ext cx="119880" cy="82080"/>
                  <a:chOff x="2779200" y="5413680"/>
                  <a:chExt cx="119880" cy="820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flipV="1" rot="2881800">
                    <a:off x="2845440" y="54061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flipV="1" rot="3697200">
                    <a:off x="2833200" y="5415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flipV="1" rot="3993000">
                    <a:off x="2825640" y="5420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 flipV="1" rot="4525200">
                    <a:off x="2815560" y="5423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7" name=""/>
            <p:cNvGrpSpPr/>
            <p:nvPr/>
          </p:nvGrpSpPr>
          <p:grpSpPr>
            <a:xfrm>
              <a:off x="2795040" y="5385960"/>
              <a:ext cx="109440" cy="99360"/>
              <a:chOff x="2795040" y="5385960"/>
              <a:chExt cx="109440" cy="9936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2819880" y="5385960"/>
                <a:ext cx="84600" cy="98640"/>
                <a:chOff x="2819880" y="5385960"/>
                <a:chExt cx="84600" cy="98640"/>
              </a:xfrm>
            </p:grpSpPr>
            <p:sp>
              <p:nvSpPr>
                <p:cNvPr id="389" name=""/>
                <p:cNvSpPr/>
                <p:nvPr/>
              </p:nvSpPr>
              <p:spPr>
                <a:xfrm flipH="1" flipV="1" rot="1528800">
                  <a:off x="2866320" y="53859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 rot="2344200">
                  <a:off x="2860200" y="539748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 rot="2640000">
                  <a:off x="2855520" y="54043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 rot="3172200">
                  <a:off x="2847960" y="5410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795040" y="5413680"/>
                <a:ext cx="105840" cy="71640"/>
                <a:chOff x="2795040" y="5413680"/>
                <a:chExt cx="105840" cy="71640"/>
              </a:xfrm>
            </p:grpSpPr>
            <p:sp>
              <p:nvSpPr>
                <p:cNvPr id="394" name=""/>
                <p:cNvSpPr/>
                <p:nvPr/>
              </p:nvSpPr>
              <p:spPr>
                <a:xfrm flipH="1" flipV="1" rot="2881800">
                  <a:off x="2853000" y="54068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flipV="1" rot="3697200">
                  <a:off x="2843280" y="5414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 rot="3993000">
                  <a:off x="2835720" y="5418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flipV="1" rot="4525200">
                  <a:off x="2827080" y="5422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8" name=""/>
          <p:cNvGrpSpPr/>
          <p:nvPr/>
        </p:nvGrpSpPr>
        <p:grpSpPr>
          <a:xfrm>
            <a:off x="3543480" y="5180040"/>
            <a:ext cx="186840" cy="188640"/>
            <a:chOff x="3543480" y="5180040"/>
            <a:chExt cx="186840" cy="188640"/>
          </a:xfrm>
        </p:grpSpPr>
        <p:sp>
          <p:nvSpPr>
            <p:cNvPr id="399" name=""/>
            <p:cNvSpPr/>
            <p:nvPr/>
          </p:nvSpPr>
          <p:spPr>
            <a:xfrm>
              <a:off x="3543480" y="51800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3548880" y="5185800"/>
              <a:ext cx="180000" cy="182880"/>
              <a:chOff x="3548880" y="5185800"/>
              <a:chExt cx="180000" cy="182880"/>
            </a:xfrm>
          </p:grpSpPr>
          <p:pic>
            <p:nvPicPr>
              <p:cNvPr id="4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8880" y="5185800"/>
                <a:ext cx="17244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3548880" y="5185800"/>
                <a:ext cx="17352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03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3550320" y="5193000"/>
                <a:ext cx="12708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4" name=""/>
              <p:cNvGrpSpPr/>
              <p:nvPr/>
            </p:nvGrpSpPr>
            <p:grpSpPr>
              <a:xfrm>
                <a:off x="3605040" y="5256000"/>
                <a:ext cx="123840" cy="112680"/>
                <a:chOff x="3605040" y="5256000"/>
                <a:chExt cx="123840" cy="112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3633480" y="5256000"/>
                  <a:ext cx="95400" cy="111600"/>
                  <a:chOff x="3633480" y="5256000"/>
                  <a:chExt cx="95400" cy="1116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 flipV="1" rot="1528800">
                    <a:off x="3685680" y="5256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 rot="2344200">
                    <a:off x="3679200" y="5269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 rot="2640000">
                    <a:off x="3673440" y="52768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 rot="3172200">
                    <a:off x="3665160" y="5284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3605040" y="5286600"/>
                  <a:ext cx="119880" cy="82080"/>
                  <a:chOff x="3605040" y="5286600"/>
                  <a:chExt cx="119880" cy="8208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flipV="1" rot="2881800">
                    <a:off x="3671280" y="5279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 rot="3697200">
                    <a:off x="3659040" y="528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 rot="3993000">
                    <a:off x="3651480" y="5293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 rot="4525200">
                    <a:off x="3641400" y="5295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5" name=""/>
            <p:cNvGrpSpPr/>
            <p:nvPr/>
          </p:nvGrpSpPr>
          <p:grpSpPr>
            <a:xfrm>
              <a:off x="3621240" y="5258880"/>
              <a:ext cx="109080" cy="99360"/>
              <a:chOff x="3621240" y="5258880"/>
              <a:chExt cx="109080" cy="9936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3646080" y="5258880"/>
                <a:ext cx="84240" cy="98640"/>
                <a:chOff x="3646080" y="5258880"/>
                <a:chExt cx="84240" cy="98640"/>
              </a:xfrm>
            </p:grpSpPr>
            <p:sp>
              <p:nvSpPr>
                <p:cNvPr id="417" name=""/>
                <p:cNvSpPr/>
                <p:nvPr/>
              </p:nvSpPr>
              <p:spPr>
                <a:xfrm flipH="1" flipV="1" rot="1528800">
                  <a:off x="3692160" y="52588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flipV="1" rot="2344200">
                  <a:off x="3686040" y="52704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 flipV="1" rot="2640000">
                  <a:off x="3681360" y="52772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 flipV="1" rot="3172200">
                  <a:off x="3674160" y="5283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3621240" y="5286600"/>
                <a:ext cx="105480" cy="71640"/>
                <a:chOff x="3621240" y="5286600"/>
                <a:chExt cx="105480" cy="7164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flipV="1" rot="2881800">
                  <a:off x="3678840" y="52797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flipV="1" rot="3697200">
                  <a:off x="3669120" y="5287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flipV="1" rot="3993000">
                  <a:off x="3661560" y="5291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 flipV="1" rot="4525200">
                  <a:off x="3653280" y="5295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6" name=""/>
          <p:cNvGrpSpPr/>
          <p:nvPr/>
        </p:nvGrpSpPr>
        <p:grpSpPr>
          <a:xfrm>
            <a:off x="4213080" y="4302000"/>
            <a:ext cx="187200" cy="188640"/>
            <a:chOff x="4213080" y="4302000"/>
            <a:chExt cx="187200" cy="188640"/>
          </a:xfrm>
        </p:grpSpPr>
        <p:sp>
          <p:nvSpPr>
            <p:cNvPr id="427" name=""/>
            <p:cNvSpPr/>
            <p:nvPr/>
          </p:nvSpPr>
          <p:spPr>
            <a:xfrm>
              <a:off x="4213080" y="4302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4218480" y="4307760"/>
              <a:ext cx="180360" cy="182880"/>
              <a:chOff x="4218480" y="4307760"/>
              <a:chExt cx="180360" cy="182880"/>
            </a:xfrm>
          </p:grpSpPr>
          <p:pic>
            <p:nvPicPr>
              <p:cNvPr id="42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18480" y="430776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218480" y="4307760"/>
                <a:ext cx="17388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4219920" y="431496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2" name=""/>
              <p:cNvGrpSpPr/>
              <p:nvPr/>
            </p:nvGrpSpPr>
            <p:grpSpPr>
              <a:xfrm>
                <a:off x="4275000" y="4377600"/>
                <a:ext cx="123840" cy="113040"/>
                <a:chOff x="4275000" y="4377600"/>
                <a:chExt cx="123840" cy="11304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4303080" y="4377600"/>
                  <a:ext cx="95760" cy="111960"/>
                  <a:chOff x="4303080" y="4377600"/>
                  <a:chExt cx="95760" cy="1119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H="1" flipV="1" rot="1528800">
                    <a:off x="4356000" y="4377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 rot="2344200">
                    <a:off x="4348440" y="43916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 rot="2640000">
                    <a:off x="4343400" y="43981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 rot="3172200">
                    <a:off x="4335480" y="4404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4275000" y="4408560"/>
                  <a:ext cx="119520" cy="82080"/>
                  <a:chOff x="4275000" y="4408560"/>
                  <a:chExt cx="119520" cy="820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 flipV="1" rot="2881800">
                    <a:off x="4340880" y="4401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 rot="3697200">
                    <a:off x="4329000" y="44103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 rot="3993000">
                    <a:off x="4321080" y="4415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 rot="4525200">
                    <a:off x="4311000" y="44182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3" name=""/>
            <p:cNvGrpSpPr/>
            <p:nvPr/>
          </p:nvGrpSpPr>
          <p:grpSpPr>
            <a:xfrm>
              <a:off x="4290480" y="4380840"/>
              <a:ext cx="109800" cy="99360"/>
              <a:chOff x="4290480" y="4380840"/>
              <a:chExt cx="109800" cy="9936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4315320" y="4380840"/>
                <a:ext cx="84960" cy="98640"/>
                <a:chOff x="4315320" y="4380840"/>
                <a:chExt cx="84960" cy="98640"/>
              </a:xfrm>
            </p:grpSpPr>
            <p:sp>
              <p:nvSpPr>
                <p:cNvPr id="445" name=""/>
                <p:cNvSpPr/>
                <p:nvPr/>
              </p:nvSpPr>
              <p:spPr>
                <a:xfrm flipH="1" flipV="1" rot="1528800">
                  <a:off x="4362120" y="4380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 rot="2344200">
                  <a:off x="4356000" y="43923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flipV="1" rot="2640000">
                  <a:off x="4350960" y="4399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 rot="3172200">
                  <a:off x="4343400" y="4405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4290480" y="4408560"/>
                <a:ext cx="106200" cy="71640"/>
                <a:chOff x="4290480" y="4408560"/>
                <a:chExt cx="106200" cy="71640"/>
              </a:xfrm>
            </p:grpSpPr>
            <p:sp>
              <p:nvSpPr>
                <p:cNvPr id="450" name=""/>
                <p:cNvSpPr/>
                <p:nvPr/>
              </p:nvSpPr>
              <p:spPr>
                <a:xfrm flipH="1" flipV="1" rot="2881800">
                  <a:off x="4348800" y="44017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 rot="3697200">
                  <a:off x="4338720" y="4409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 flipV="1" rot="3993000">
                  <a:off x="4331160" y="4413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 flipV="1" rot="4525200">
                  <a:off x="4322520" y="4417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4" name=""/>
          <p:cNvGrpSpPr/>
          <p:nvPr/>
        </p:nvGrpSpPr>
        <p:grpSpPr>
          <a:xfrm>
            <a:off x="4811760" y="3589200"/>
            <a:ext cx="187200" cy="188640"/>
            <a:chOff x="4811760" y="3589200"/>
            <a:chExt cx="187200" cy="188640"/>
          </a:xfrm>
        </p:grpSpPr>
        <p:sp>
          <p:nvSpPr>
            <p:cNvPr id="455" name=""/>
            <p:cNvSpPr/>
            <p:nvPr/>
          </p:nvSpPr>
          <p:spPr>
            <a:xfrm>
              <a:off x="4811760" y="358920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4817160" y="3594960"/>
              <a:ext cx="180360" cy="182880"/>
              <a:chOff x="4817160" y="3594960"/>
              <a:chExt cx="180360" cy="182880"/>
            </a:xfrm>
          </p:grpSpPr>
          <p:pic>
            <p:nvPicPr>
              <p:cNvPr id="45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17160" y="359496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817160" y="3594960"/>
                <a:ext cx="17352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59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4818600" y="360216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0" name=""/>
              <p:cNvGrpSpPr/>
              <p:nvPr/>
            </p:nvGrpSpPr>
            <p:grpSpPr>
              <a:xfrm>
                <a:off x="4873680" y="3664800"/>
                <a:ext cx="123840" cy="113040"/>
                <a:chOff x="4873680" y="3664800"/>
                <a:chExt cx="123840" cy="11304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4901760" y="3664800"/>
                  <a:ext cx="95760" cy="111960"/>
                  <a:chOff x="4901760" y="3664800"/>
                  <a:chExt cx="95760" cy="111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H="1" flipV="1" rot="1528800">
                    <a:off x="4954680" y="36648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flipV="1" rot="2344200">
                    <a:off x="4947120" y="36788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 flipV="1" rot="2640000">
                    <a:off x="4942080" y="36853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H="1" flipV="1" rot="3172200">
                    <a:off x="4934160" y="36921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4873680" y="3695760"/>
                  <a:ext cx="119520" cy="82080"/>
                  <a:chOff x="4873680" y="3695760"/>
                  <a:chExt cx="119520" cy="8208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H="1" flipV="1" rot="2881800">
                    <a:off x="4939560" y="36882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flipV="1" rot="3697200">
                    <a:off x="4927680" y="36975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flipV="1" rot="3993000">
                    <a:off x="4919760" y="3702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 flipV="1" rot="4525200">
                    <a:off x="4909680" y="37054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1" name=""/>
            <p:cNvGrpSpPr/>
            <p:nvPr/>
          </p:nvGrpSpPr>
          <p:grpSpPr>
            <a:xfrm>
              <a:off x="4889520" y="3668040"/>
              <a:ext cx="109440" cy="99360"/>
              <a:chOff x="4889520" y="3668040"/>
              <a:chExt cx="109440" cy="9936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914360" y="3668040"/>
                <a:ext cx="84600" cy="98640"/>
                <a:chOff x="4914360" y="3668040"/>
                <a:chExt cx="84600" cy="98640"/>
              </a:xfrm>
            </p:grpSpPr>
            <p:sp>
              <p:nvSpPr>
                <p:cNvPr id="473" name=""/>
                <p:cNvSpPr/>
                <p:nvPr/>
              </p:nvSpPr>
              <p:spPr>
                <a:xfrm flipH="1" flipV="1" rot="1528800">
                  <a:off x="4960800" y="3668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 rot="2344200">
                  <a:off x="4954680" y="36795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 rot="2640000">
                  <a:off x="4949640" y="36864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 flipV="1" rot="3172200">
                  <a:off x="4942440" y="36928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889520" y="3695760"/>
                <a:ext cx="105840" cy="71640"/>
                <a:chOff x="4889520" y="3695760"/>
                <a:chExt cx="105840" cy="71640"/>
              </a:xfrm>
            </p:grpSpPr>
            <p:sp>
              <p:nvSpPr>
                <p:cNvPr id="478" name=""/>
                <p:cNvSpPr/>
                <p:nvPr/>
              </p:nvSpPr>
              <p:spPr>
                <a:xfrm flipH="1" flipV="1" rot="2881800">
                  <a:off x="4947480" y="36889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 rot="3697200">
                  <a:off x="4937400" y="36964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 flipV="1" rot="3993000">
                  <a:off x="4929840" y="3700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 rot="4525200">
                  <a:off x="4921560" y="3704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2" name=""/>
          <p:cNvGrpSpPr/>
          <p:nvPr/>
        </p:nvGrpSpPr>
        <p:grpSpPr>
          <a:xfrm>
            <a:off x="5538960" y="4761000"/>
            <a:ext cx="186840" cy="188640"/>
            <a:chOff x="5538960" y="4761000"/>
            <a:chExt cx="186840" cy="188640"/>
          </a:xfrm>
        </p:grpSpPr>
        <p:sp>
          <p:nvSpPr>
            <p:cNvPr id="483" name=""/>
            <p:cNvSpPr/>
            <p:nvPr/>
          </p:nvSpPr>
          <p:spPr>
            <a:xfrm>
              <a:off x="5538960" y="476100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5544360" y="4766760"/>
              <a:ext cx="180000" cy="182880"/>
              <a:chOff x="5544360" y="4766760"/>
              <a:chExt cx="180000" cy="182880"/>
            </a:xfrm>
          </p:grpSpPr>
          <p:pic>
            <p:nvPicPr>
              <p:cNvPr id="48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544360" y="4766760"/>
                <a:ext cx="17244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5544360" y="4766760"/>
                <a:ext cx="17352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487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545800" y="4773960"/>
                <a:ext cx="12708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8" name=""/>
              <p:cNvGrpSpPr/>
              <p:nvPr/>
            </p:nvGrpSpPr>
            <p:grpSpPr>
              <a:xfrm>
                <a:off x="5600520" y="4836960"/>
                <a:ext cx="123840" cy="112680"/>
                <a:chOff x="5600520" y="4836960"/>
                <a:chExt cx="123840" cy="11268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5628960" y="4836960"/>
                  <a:ext cx="95400" cy="111600"/>
                  <a:chOff x="5628960" y="4836960"/>
                  <a:chExt cx="95400" cy="1116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H="1" flipV="1" rot="1528800">
                    <a:off x="5681160" y="4837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 flipV="1" rot="2344200">
                    <a:off x="5674680" y="4850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flipV="1" rot="2640000">
                    <a:off x="5668920" y="485784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flipV="1" rot="3172200">
                    <a:off x="5660640" y="4865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5600520" y="4867560"/>
                  <a:ext cx="119880" cy="82080"/>
                  <a:chOff x="5600520" y="4867560"/>
                  <a:chExt cx="119880" cy="820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flipH="1" flipV="1" rot="2881800">
                    <a:off x="5666760" y="4860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flipV="1" rot="3697200">
                    <a:off x="5654520" y="4869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 flipV="1" rot="3993000">
                    <a:off x="5646960" y="4874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flipV="1" rot="4525200">
                    <a:off x="5636880" y="48769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99" name=""/>
            <p:cNvGrpSpPr/>
            <p:nvPr/>
          </p:nvGrpSpPr>
          <p:grpSpPr>
            <a:xfrm>
              <a:off x="5616720" y="4839840"/>
              <a:ext cx="109080" cy="99360"/>
              <a:chOff x="5616720" y="4839840"/>
              <a:chExt cx="109080" cy="9936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5641560" y="4839840"/>
                <a:ext cx="84240" cy="98640"/>
                <a:chOff x="5641560" y="4839840"/>
                <a:chExt cx="84240" cy="98640"/>
              </a:xfrm>
            </p:grpSpPr>
            <p:sp>
              <p:nvSpPr>
                <p:cNvPr id="501" name=""/>
                <p:cNvSpPr/>
                <p:nvPr/>
              </p:nvSpPr>
              <p:spPr>
                <a:xfrm flipH="1" flipV="1" rot="1528800">
                  <a:off x="5687640" y="4839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flipV="1" rot="2344200">
                  <a:off x="5681520" y="48513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 rot="2640000">
                  <a:off x="5676840" y="4858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 rot="3172200">
                  <a:off x="5669640" y="4864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16720" y="4867560"/>
                <a:ext cx="105480" cy="71640"/>
                <a:chOff x="5616720" y="4867560"/>
                <a:chExt cx="105480" cy="71640"/>
              </a:xfrm>
            </p:grpSpPr>
            <p:sp>
              <p:nvSpPr>
                <p:cNvPr id="506" name=""/>
                <p:cNvSpPr/>
                <p:nvPr/>
              </p:nvSpPr>
              <p:spPr>
                <a:xfrm flipH="1" flipV="1" rot="2881800">
                  <a:off x="5674320" y="48607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 flipV="1" rot="3697200">
                  <a:off x="5664600" y="4868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 flipV="1" rot="3993000">
                  <a:off x="5657040" y="4872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 flipV="1" rot="4525200">
                  <a:off x="5648760" y="4876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0" name=""/>
          <p:cNvGrpSpPr/>
          <p:nvPr/>
        </p:nvGrpSpPr>
        <p:grpSpPr>
          <a:xfrm>
            <a:off x="6211800" y="4299120"/>
            <a:ext cx="186840" cy="188640"/>
            <a:chOff x="6211800" y="4299120"/>
            <a:chExt cx="186840" cy="188640"/>
          </a:xfrm>
        </p:grpSpPr>
        <p:sp>
          <p:nvSpPr>
            <p:cNvPr id="511" name=""/>
            <p:cNvSpPr/>
            <p:nvPr/>
          </p:nvSpPr>
          <p:spPr>
            <a:xfrm>
              <a:off x="6211800" y="429912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6217200" y="4304880"/>
              <a:ext cx="180000" cy="182880"/>
              <a:chOff x="6217200" y="4304880"/>
              <a:chExt cx="180000" cy="182880"/>
            </a:xfrm>
          </p:grpSpPr>
          <p:pic>
            <p:nvPicPr>
              <p:cNvPr id="5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17200" y="430488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6217200" y="430488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15" name="" descr=""/>
              <p:cNvPicPr/>
              <p:nvPr/>
            </p:nvPicPr>
            <p:blipFill>
              <a:blip r:embed="rId12"/>
              <a:srcRect l="0" t="14289" r="0" b="0"/>
              <a:stretch/>
            </p:blipFill>
            <p:spPr>
              <a:xfrm>
                <a:off x="6218640" y="431208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6" name=""/>
              <p:cNvGrpSpPr/>
              <p:nvPr/>
            </p:nvGrpSpPr>
            <p:grpSpPr>
              <a:xfrm>
                <a:off x="6273360" y="4375080"/>
                <a:ext cx="123840" cy="112680"/>
                <a:chOff x="6273360" y="4375080"/>
                <a:chExt cx="123840" cy="11268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6301800" y="4375080"/>
                  <a:ext cx="95400" cy="111600"/>
                  <a:chOff x="6301800" y="4375080"/>
                  <a:chExt cx="95400" cy="11160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flipV="1" rot="1528800">
                    <a:off x="6354000" y="43754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flipV="1" rot="2344200">
                    <a:off x="6347520" y="438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flipV="1" rot="2640000">
                    <a:off x="6341760" y="439596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H="1" flipV="1" rot="3172200">
                    <a:off x="6333480" y="4403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6273360" y="4405680"/>
                  <a:ext cx="119880" cy="82080"/>
                  <a:chOff x="6273360" y="4405680"/>
                  <a:chExt cx="119880" cy="8208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 flipV="1" rot="2881800">
                    <a:off x="6339600" y="43981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flipV="1" rot="3697200">
                    <a:off x="6327360" y="4407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flipV="1" rot="3993000">
                    <a:off x="6319800" y="44121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flipV="1" rot="4525200">
                    <a:off x="6309720" y="4415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7" name=""/>
            <p:cNvGrpSpPr/>
            <p:nvPr/>
          </p:nvGrpSpPr>
          <p:grpSpPr>
            <a:xfrm>
              <a:off x="6289200" y="4377960"/>
              <a:ext cx="109440" cy="99360"/>
              <a:chOff x="6289200" y="4377960"/>
              <a:chExt cx="109440" cy="9936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6314040" y="4377960"/>
                <a:ext cx="84600" cy="98640"/>
                <a:chOff x="6314040" y="4377960"/>
                <a:chExt cx="84600" cy="98640"/>
              </a:xfrm>
            </p:grpSpPr>
            <p:sp>
              <p:nvSpPr>
                <p:cNvPr id="529" name=""/>
                <p:cNvSpPr/>
                <p:nvPr/>
              </p:nvSpPr>
              <p:spPr>
                <a:xfrm flipH="1" flipV="1" rot="1528800">
                  <a:off x="6360480" y="43779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flipV="1" rot="2344200">
                  <a:off x="6354360" y="438948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 flipV="1" rot="2640000">
                  <a:off x="6349680" y="43963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 flipV="1" rot="3172200">
                  <a:off x="6342120" y="44028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289200" y="4405680"/>
                <a:ext cx="105840" cy="71640"/>
                <a:chOff x="6289200" y="4405680"/>
                <a:chExt cx="105840" cy="71640"/>
              </a:xfrm>
            </p:grpSpPr>
            <p:sp>
              <p:nvSpPr>
                <p:cNvPr id="534" name=""/>
                <p:cNvSpPr/>
                <p:nvPr/>
              </p:nvSpPr>
              <p:spPr>
                <a:xfrm flipH="1" flipV="1" rot="2881800">
                  <a:off x="6347160" y="43988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flipV="1" rot="3697200">
                  <a:off x="6337440" y="4406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flipV="1" rot="3993000">
                  <a:off x="6329880" y="4410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 rot="4525200">
                  <a:off x="6321240" y="4414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8" name=""/>
          <p:cNvGrpSpPr/>
          <p:nvPr/>
        </p:nvGrpSpPr>
        <p:grpSpPr>
          <a:xfrm>
            <a:off x="6999120" y="2583000"/>
            <a:ext cx="186840" cy="188640"/>
            <a:chOff x="6999120" y="2583000"/>
            <a:chExt cx="186840" cy="188640"/>
          </a:xfrm>
        </p:grpSpPr>
        <p:sp>
          <p:nvSpPr>
            <p:cNvPr id="539" name=""/>
            <p:cNvSpPr/>
            <p:nvPr/>
          </p:nvSpPr>
          <p:spPr>
            <a:xfrm>
              <a:off x="6999120" y="2583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7004520" y="2588760"/>
              <a:ext cx="180000" cy="182880"/>
              <a:chOff x="7004520" y="2588760"/>
              <a:chExt cx="180000" cy="182880"/>
            </a:xfrm>
          </p:grpSpPr>
          <p:pic>
            <p:nvPicPr>
              <p:cNvPr id="54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04520" y="258876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7004520" y="2588760"/>
                <a:ext cx="173880" cy="17424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43" name="" descr=""/>
              <p:cNvPicPr/>
              <p:nvPr/>
            </p:nvPicPr>
            <p:blipFill>
              <a:blip r:embed="rId14"/>
              <a:srcRect l="0" t="14289" r="0" b="0"/>
              <a:stretch/>
            </p:blipFill>
            <p:spPr>
              <a:xfrm>
                <a:off x="7005960" y="259596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4" name=""/>
              <p:cNvGrpSpPr/>
              <p:nvPr/>
            </p:nvGrpSpPr>
            <p:grpSpPr>
              <a:xfrm>
                <a:off x="7060680" y="2658960"/>
                <a:ext cx="123840" cy="112680"/>
                <a:chOff x="7060680" y="2658960"/>
                <a:chExt cx="123840" cy="11268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7089120" y="2658960"/>
                  <a:ext cx="95400" cy="111600"/>
                  <a:chOff x="7089120" y="2658960"/>
                  <a:chExt cx="95400" cy="11160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 flipH="1" flipV="1" rot="1528800">
                    <a:off x="7141320" y="2659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flipV="1" rot="2344200">
                    <a:off x="7134840" y="2672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 flipV="1" rot="2640000">
                    <a:off x="7129080" y="267984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flipV="1" rot="3172200">
                    <a:off x="7120800" y="2687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7060680" y="2689560"/>
                  <a:ext cx="119880" cy="82080"/>
                  <a:chOff x="7060680" y="2689560"/>
                  <a:chExt cx="119880" cy="8208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flipH="1" flipV="1" rot="2881800">
                    <a:off x="7126920" y="2682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flipV="1" rot="3697200">
                    <a:off x="7114680" y="2691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 rot="3993000">
                    <a:off x="7107120" y="26960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 flipV="1" rot="4525200">
                    <a:off x="7097040" y="26989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5" name=""/>
            <p:cNvGrpSpPr/>
            <p:nvPr/>
          </p:nvGrpSpPr>
          <p:grpSpPr>
            <a:xfrm>
              <a:off x="7076520" y="2661840"/>
              <a:ext cx="109440" cy="99360"/>
              <a:chOff x="7076520" y="2661840"/>
              <a:chExt cx="109440" cy="9936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7101360" y="2661840"/>
                <a:ext cx="84600" cy="98640"/>
                <a:chOff x="7101360" y="2661840"/>
                <a:chExt cx="84600" cy="9864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flipV="1" rot="1528800">
                  <a:off x="7147800" y="2661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flipV="1" rot="2344200">
                  <a:off x="7141680" y="26733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 flipV="1" rot="2640000">
                  <a:off x="7137000" y="2680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flipV="1" rot="3172200">
                  <a:off x="7129440" y="2686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7076520" y="2689560"/>
                <a:ext cx="105840" cy="71640"/>
                <a:chOff x="7076520" y="2689560"/>
                <a:chExt cx="105840" cy="71640"/>
              </a:xfrm>
            </p:grpSpPr>
            <p:sp>
              <p:nvSpPr>
                <p:cNvPr id="562" name=""/>
                <p:cNvSpPr/>
                <p:nvPr/>
              </p:nvSpPr>
              <p:spPr>
                <a:xfrm flipH="1" flipV="1" rot="2881800">
                  <a:off x="7134480" y="26827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flipV="1" rot="3697200">
                  <a:off x="7124760" y="2690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 flipV="1" rot="3993000">
                  <a:off x="7117200" y="2694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 rot="4525200">
                  <a:off x="7108560" y="2698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6" name=""/>
          <p:cNvGrpSpPr/>
          <p:nvPr/>
        </p:nvGrpSpPr>
        <p:grpSpPr>
          <a:xfrm>
            <a:off x="7702560" y="3213000"/>
            <a:ext cx="187200" cy="188640"/>
            <a:chOff x="7702560" y="3213000"/>
            <a:chExt cx="187200" cy="188640"/>
          </a:xfrm>
        </p:grpSpPr>
        <p:sp>
          <p:nvSpPr>
            <p:cNvPr id="567" name=""/>
            <p:cNvSpPr/>
            <p:nvPr/>
          </p:nvSpPr>
          <p:spPr>
            <a:xfrm>
              <a:off x="7702560" y="321300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7707960" y="3218760"/>
              <a:ext cx="180360" cy="182880"/>
              <a:chOff x="7707960" y="3218760"/>
              <a:chExt cx="180360" cy="182880"/>
            </a:xfrm>
          </p:grpSpPr>
          <p:pic>
            <p:nvPicPr>
              <p:cNvPr id="56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707960" y="321876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7707960" y="3218760"/>
                <a:ext cx="173880" cy="174600"/>
              </a:xfrm>
              <a:prstGeom prst="ellipse">
                <a:avLst/>
              </a:prstGeom>
              <a:solidFill>
                <a:srgbClr val="4582a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pic>
            <p:nvPicPr>
              <p:cNvPr id="571" name="" descr=""/>
              <p:cNvPicPr/>
              <p:nvPr/>
            </p:nvPicPr>
            <p:blipFill>
              <a:blip r:embed="rId16"/>
              <a:srcRect l="0" t="14289" r="0" b="0"/>
              <a:stretch/>
            </p:blipFill>
            <p:spPr>
              <a:xfrm>
                <a:off x="7709400" y="322596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2" name=""/>
              <p:cNvGrpSpPr/>
              <p:nvPr/>
            </p:nvGrpSpPr>
            <p:grpSpPr>
              <a:xfrm>
                <a:off x="7764480" y="3288600"/>
                <a:ext cx="123840" cy="113040"/>
                <a:chOff x="7764480" y="3288600"/>
                <a:chExt cx="123840" cy="113040"/>
              </a:xfrm>
            </p:grpSpPr>
            <p:grpSp>
              <p:nvGrpSpPr>
                <p:cNvPr id="573" name=""/>
                <p:cNvGrpSpPr/>
                <p:nvPr/>
              </p:nvGrpSpPr>
              <p:grpSpPr>
                <a:xfrm>
                  <a:off x="7792560" y="3288600"/>
                  <a:ext cx="95760" cy="111960"/>
                  <a:chOff x="7792560" y="3288600"/>
                  <a:chExt cx="95760" cy="1119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H="1" flipV="1" rot="1528800">
                    <a:off x="7845480" y="328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flipV="1" rot="2344200">
                    <a:off x="7837920" y="33026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flipV="1" rot="2640000">
                    <a:off x="7832880" y="330912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flipV="1" rot="3172200">
                    <a:off x="7824960" y="3315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7764480" y="3319560"/>
                  <a:ext cx="119520" cy="82080"/>
                  <a:chOff x="7764480" y="3319560"/>
                  <a:chExt cx="119520" cy="820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flipV="1" rot="2881800">
                    <a:off x="7830360" y="3312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flipV="1" rot="3697200">
                    <a:off x="7818480" y="332136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 flipV="1" rot="3993000">
                    <a:off x="7810560" y="33260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 flipV="1" rot="4525200">
                    <a:off x="7800480" y="332928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0311d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83" name=""/>
            <p:cNvGrpSpPr/>
            <p:nvPr/>
          </p:nvGrpSpPr>
          <p:grpSpPr>
            <a:xfrm>
              <a:off x="7779960" y="3291840"/>
              <a:ext cx="109800" cy="99360"/>
              <a:chOff x="7779960" y="3291840"/>
              <a:chExt cx="109800" cy="9936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7804800" y="3291840"/>
                <a:ext cx="84960" cy="98640"/>
                <a:chOff x="7804800" y="3291840"/>
                <a:chExt cx="84960" cy="98640"/>
              </a:xfrm>
            </p:grpSpPr>
            <p:sp>
              <p:nvSpPr>
                <p:cNvPr id="585" name=""/>
                <p:cNvSpPr/>
                <p:nvPr/>
              </p:nvSpPr>
              <p:spPr>
                <a:xfrm flipH="1" flipV="1" rot="1528800">
                  <a:off x="7851600" y="3291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 flipV="1" rot="2344200">
                  <a:off x="7845480" y="330336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 flipV="1" rot="2640000">
                  <a:off x="7840440" y="3310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 flipV="1" rot="3172200">
                  <a:off x="7832880" y="3316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7779960" y="3319560"/>
                <a:ext cx="106200" cy="71640"/>
                <a:chOff x="7779960" y="3319560"/>
                <a:chExt cx="106200" cy="71640"/>
              </a:xfrm>
            </p:grpSpPr>
            <p:sp>
              <p:nvSpPr>
                <p:cNvPr id="590" name=""/>
                <p:cNvSpPr/>
                <p:nvPr/>
              </p:nvSpPr>
              <p:spPr>
                <a:xfrm flipH="1" flipV="1" rot="2881800">
                  <a:off x="7838280" y="33127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 rot="3697200">
                  <a:off x="7828200" y="3320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 rot="3993000">
                  <a:off x="7820640" y="3324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flipV="1" rot="4525200">
                  <a:off x="7812000" y="3328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"/>
          <p:cNvSpPr/>
          <p:nvPr/>
        </p:nvSpPr>
        <p:spPr>
          <a:xfrm>
            <a:off x="1495440" y="6094440"/>
            <a:ext cx="762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55520" y="64800"/>
            <a:ext cx="7958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2:23:56Z</dcterms:created>
  <dc:creator>www.themegallery.com</dc:creator>
  <dc:description/>
  <dc:language>en-US</dc:language>
  <cp:lastModifiedBy>nari</cp:lastModifiedBy>
  <dcterms:modified xsi:type="dcterms:W3CDTF">2015-07-04T08:26:09Z</dcterms:modified>
  <cp:revision>5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