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5180-0CBB-49EC-8AF5-C490524C6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E19B-27DD-4727-BB5E-65C12CE0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B6C7-3879-4A0B-A606-47003DB34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7454-99FB-4285-8871-09E8F831D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E1D6-6C2C-4182-AE73-F33FA914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3F48-C309-4757-882C-0A68E3AF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1083-582F-4B2C-AF1D-336B6EA1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F30A-7600-4C43-B290-EE90F2FB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8888-39DE-41D0-BF62-8DB7CF6D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5121-F4F3-4868-9B71-8B864829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6040-65DE-4F10-8A25-DAF7E13F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DC6B-0815-4D9D-8481-00CDA528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B496-062F-4979-826E-BD63ACB10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767960" y="696600"/>
            <a:ext cx="1142280" cy="876960"/>
            <a:chOff x="1767960" y="696600"/>
            <a:chExt cx="1142280" cy="876960"/>
          </a:xfrm>
        </p:grpSpPr>
        <p:grpSp>
          <p:nvGrpSpPr>
            <p:cNvPr id="42" name=""/>
            <p:cNvGrpSpPr/>
            <p:nvPr/>
          </p:nvGrpSpPr>
          <p:grpSpPr>
            <a:xfrm>
              <a:off x="1767960" y="696600"/>
              <a:ext cx="1142280" cy="876960"/>
              <a:chOff x="1767960" y="696600"/>
              <a:chExt cx="1142280" cy="876960"/>
            </a:xfrm>
          </p:grpSpPr>
          <p:sp>
            <p:nvSpPr>
              <p:cNvPr id="43" name="Freeform 25"/>
              <p:cNvSpPr/>
              <p:nvPr/>
            </p:nvSpPr>
            <p:spPr>
              <a:xfrm rot="20529000">
                <a:off x="1846080" y="907560"/>
                <a:ext cx="544680" cy="5968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c0c0c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26"/>
              <p:cNvSpPr/>
              <p:nvPr/>
            </p:nvSpPr>
            <p:spPr>
              <a:xfrm flipH="1" rot="20529000">
                <a:off x="2354760" y="754920"/>
                <a:ext cx="475560" cy="5968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c0c0c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1861560" y="789480"/>
              <a:ext cx="958320" cy="690480"/>
              <a:chOff x="1861560" y="789480"/>
              <a:chExt cx="958320" cy="690480"/>
            </a:xfrm>
          </p:grpSpPr>
          <p:sp>
            <p:nvSpPr>
              <p:cNvPr id="46" name="Freeform 21"/>
              <p:cNvSpPr/>
              <p:nvPr/>
            </p:nvSpPr>
            <p:spPr>
              <a:xfrm rot="20529000">
                <a:off x="1918800" y="971640"/>
                <a:ext cx="466560" cy="4474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22"/>
              <p:cNvSpPr/>
              <p:nvPr/>
            </p:nvSpPr>
            <p:spPr>
              <a:xfrm flipH="1" rot="20529000">
                <a:off x="2353680" y="840960"/>
                <a:ext cx="407160" cy="4474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AutoShape 30"/>
          <p:cNvSpPr/>
          <p:nvPr/>
        </p:nvSpPr>
        <p:spPr>
          <a:xfrm>
            <a:off x="2195640" y="2276640"/>
            <a:ext cx="2017440" cy="1257120"/>
          </a:xfrm>
          <a:prstGeom prst="roundRect">
            <a:avLst>
              <a:gd name="adj" fmla="val 17704"/>
            </a:avLst>
          </a:prstGeom>
          <a:blipFill rotWithShape="0">
            <a:blip r:embed="rId1"/>
            <a:srcRect/>
            <a:stretch/>
          </a:blip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4"/>
          <p:cNvSpPr/>
          <p:nvPr/>
        </p:nvSpPr>
        <p:spPr>
          <a:xfrm>
            <a:off x="4933800" y="3681360"/>
            <a:ext cx="1224000" cy="1187640"/>
          </a:xfrm>
          <a:prstGeom prst="roundRect">
            <a:avLst>
              <a:gd name="adj" fmla="val 19787"/>
            </a:avLst>
          </a:prstGeom>
          <a:blipFill rotWithShape="0">
            <a:blip r:embed="rId2"/>
            <a:srcRect/>
            <a:stretch/>
          </a:blip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5"/>
          <p:cNvSpPr/>
          <p:nvPr/>
        </p:nvSpPr>
        <p:spPr>
          <a:xfrm>
            <a:off x="4357800" y="1844640"/>
            <a:ext cx="433440" cy="2521080"/>
          </a:xfrm>
          <a:custGeom>
            <a:avLst/>
            <a:gdLst>
              <a:gd name="textAreaLeft" fmla="*/ 33840 w 433440"/>
              <a:gd name="textAreaRight" fmla="*/ 399600 w 433440"/>
              <a:gd name="textAreaTop" fmla="*/ 33840 h 2521080"/>
              <a:gd name="textAreaBottom" fmla="*/ 2487240 h 2521080"/>
            </a:gdLst>
            <a:ahLst/>
            <a:rect l="textAreaLeft" t="textAreaTop" r="textAreaRight" b="textAreaBottom"/>
            <a:pathLst>
              <a:path w="21600" h="125549">
                <a:moveTo>
                  <a:pt x="5776" y="0"/>
                </a:moveTo>
                <a:arcTo wR="5776" hR="5776" stAng="16200000" swAng="-5400000"/>
                <a:lnTo>
                  <a:pt x="0" y="119773"/>
                </a:lnTo>
                <a:arcTo wR="5776" hR="5776" stAng="10800000" swAng="-5400000"/>
                <a:lnTo>
                  <a:pt x="15824" y="125549"/>
                </a:lnTo>
                <a:arcTo wR="5776" hR="5776" stAng="5400000" swAng="-5400000"/>
                <a:lnTo>
                  <a:pt x="21600" y="5776"/>
                </a:lnTo>
                <a:arcTo wR="5776" hR="5776" stAng="0" swAng="-5400000"/>
                <a:close/>
              </a:path>
            </a:pathLst>
          </a:custGeom>
          <a:blipFill rotWithShape="0">
            <a:blip r:embed="rId3"/>
            <a:srcRect/>
            <a:stretch/>
          </a:blip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6"/>
          <p:cNvSpPr/>
          <p:nvPr/>
        </p:nvSpPr>
        <p:spPr>
          <a:xfrm>
            <a:off x="2989440" y="3670200"/>
            <a:ext cx="1223640" cy="1187640"/>
          </a:xfrm>
          <a:prstGeom prst="roundRect">
            <a:avLst>
              <a:gd name="adj" fmla="val 19787"/>
            </a:avLst>
          </a:prstGeom>
          <a:blipFill rotWithShape="0">
            <a:blip r:embed="rId4"/>
            <a:srcRect/>
            <a:stretch/>
          </a:blip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7"/>
          <p:cNvSpPr/>
          <p:nvPr/>
        </p:nvSpPr>
        <p:spPr>
          <a:xfrm>
            <a:off x="4933800" y="2276640"/>
            <a:ext cx="2017800" cy="1257120"/>
          </a:xfrm>
          <a:prstGeom prst="roundRect">
            <a:avLst>
              <a:gd name="adj" fmla="val 17704"/>
            </a:avLst>
          </a:prstGeom>
          <a:blipFill rotWithShape="0">
            <a:blip r:embed="rId5"/>
            <a:srcRect/>
            <a:stretch/>
          </a:blip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124000" y="3716280"/>
            <a:ext cx="433440" cy="433440"/>
            <a:chOff x="2124000" y="3716280"/>
            <a:chExt cx="433440" cy="433440"/>
          </a:xfrm>
        </p:grpSpPr>
        <p:sp>
          <p:nvSpPr>
            <p:cNvPr id="54" name="Oval 38"/>
            <p:cNvSpPr/>
            <p:nvPr/>
          </p:nvSpPr>
          <p:spPr>
            <a:xfrm>
              <a:off x="2124000" y="3716280"/>
              <a:ext cx="433440" cy="43344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39"/>
            <p:cNvSpPr/>
            <p:nvPr/>
          </p:nvSpPr>
          <p:spPr>
            <a:xfrm>
              <a:off x="2162880" y="3755160"/>
              <a:ext cx="354600" cy="35460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492360" y="5157720"/>
            <a:ext cx="432000" cy="432000"/>
            <a:chOff x="3492360" y="5157720"/>
            <a:chExt cx="432000" cy="432000"/>
          </a:xfrm>
        </p:grpSpPr>
        <p:sp>
          <p:nvSpPr>
            <p:cNvPr id="57" name="Oval 42"/>
            <p:cNvSpPr/>
            <p:nvPr/>
          </p:nvSpPr>
          <p:spPr>
            <a:xfrm>
              <a:off x="3492360" y="5157720"/>
              <a:ext cx="432000" cy="43200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43"/>
            <p:cNvSpPr/>
            <p:nvPr/>
          </p:nvSpPr>
          <p:spPr>
            <a:xfrm>
              <a:off x="3531240" y="5196600"/>
              <a:ext cx="353520" cy="35352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372360" y="5157720"/>
            <a:ext cx="433080" cy="433440"/>
            <a:chOff x="6372360" y="5157720"/>
            <a:chExt cx="433080" cy="433440"/>
          </a:xfrm>
        </p:grpSpPr>
        <p:sp>
          <p:nvSpPr>
            <p:cNvPr id="60" name="Oval 45"/>
            <p:cNvSpPr/>
            <p:nvPr/>
          </p:nvSpPr>
          <p:spPr>
            <a:xfrm>
              <a:off x="6372360" y="5157720"/>
              <a:ext cx="433080" cy="43344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46"/>
            <p:cNvSpPr/>
            <p:nvPr/>
          </p:nvSpPr>
          <p:spPr>
            <a:xfrm>
              <a:off x="6411240" y="5196600"/>
              <a:ext cx="354240" cy="35460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6372360" y="3716280"/>
            <a:ext cx="431640" cy="432000"/>
            <a:chOff x="6372360" y="3716280"/>
            <a:chExt cx="431640" cy="432000"/>
          </a:xfrm>
        </p:grpSpPr>
        <p:sp>
          <p:nvSpPr>
            <p:cNvPr id="63" name="Oval 48"/>
            <p:cNvSpPr/>
            <p:nvPr/>
          </p:nvSpPr>
          <p:spPr>
            <a:xfrm>
              <a:off x="6372360" y="3716280"/>
              <a:ext cx="431640" cy="43200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49"/>
            <p:cNvSpPr/>
            <p:nvPr/>
          </p:nvSpPr>
          <p:spPr>
            <a:xfrm>
              <a:off x="6410880" y="3755160"/>
              <a:ext cx="353160" cy="35352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924360" y="1052640"/>
            <a:ext cx="503280" cy="503280"/>
            <a:chOff x="3924360" y="1052640"/>
            <a:chExt cx="503280" cy="503280"/>
          </a:xfrm>
        </p:grpSpPr>
        <p:sp>
          <p:nvSpPr>
            <p:cNvPr id="66" name="Oval 51"/>
            <p:cNvSpPr/>
            <p:nvPr/>
          </p:nvSpPr>
          <p:spPr>
            <a:xfrm>
              <a:off x="3924360" y="1052640"/>
              <a:ext cx="503280" cy="50328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52"/>
            <p:cNvSpPr/>
            <p:nvPr/>
          </p:nvSpPr>
          <p:spPr>
            <a:xfrm>
              <a:off x="3969360" y="1097640"/>
              <a:ext cx="411840" cy="41184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987640" y="1773360"/>
            <a:ext cx="432000" cy="431640"/>
            <a:chOff x="2987640" y="1773360"/>
            <a:chExt cx="432000" cy="431640"/>
          </a:xfrm>
        </p:grpSpPr>
        <p:sp>
          <p:nvSpPr>
            <p:cNvPr id="69" name="Oval 54"/>
            <p:cNvSpPr/>
            <p:nvPr/>
          </p:nvSpPr>
          <p:spPr>
            <a:xfrm>
              <a:off x="2987640" y="1773360"/>
              <a:ext cx="432000" cy="43164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55"/>
            <p:cNvSpPr/>
            <p:nvPr/>
          </p:nvSpPr>
          <p:spPr>
            <a:xfrm>
              <a:off x="3026520" y="1811880"/>
              <a:ext cx="353520" cy="35316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763640" y="3933720"/>
            <a:ext cx="216000" cy="216000"/>
            <a:chOff x="1763640" y="3933720"/>
            <a:chExt cx="216000" cy="216000"/>
          </a:xfrm>
        </p:grpSpPr>
        <p:sp>
          <p:nvSpPr>
            <p:cNvPr id="72" name="Oval 57"/>
            <p:cNvSpPr/>
            <p:nvPr/>
          </p:nvSpPr>
          <p:spPr>
            <a:xfrm>
              <a:off x="1763640" y="3933720"/>
              <a:ext cx="216000" cy="21600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58"/>
            <p:cNvSpPr/>
            <p:nvPr/>
          </p:nvSpPr>
          <p:spPr>
            <a:xfrm>
              <a:off x="1783080" y="3953160"/>
              <a:ext cx="176760" cy="17676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348000" y="5734080"/>
            <a:ext cx="216000" cy="216000"/>
            <a:chOff x="3348000" y="5734080"/>
            <a:chExt cx="216000" cy="216000"/>
          </a:xfrm>
        </p:grpSpPr>
        <p:sp>
          <p:nvSpPr>
            <p:cNvPr id="75" name="Oval 60"/>
            <p:cNvSpPr/>
            <p:nvPr/>
          </p:nvSpPr>
          <p:spPr>
            <a:xfrm>
              <a:off x="3348000" y="5734080"/>
              <a:ext cx="216000" cy="21600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61"/>
            <p:cNvSpPr/>
            <p:nvPr/>
          </p:nvSpPr>
          <p:spPr>
            <a:xfrm>
              <a:off x="3367440" y="5753520"/>
              <a:ext cx="176760" cy="17676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804000" y="5589720"/>
            <a:ext cx="216000" cy="215640"/>
            <a:chOff x="6804000" y="5589720"/>
            <a:chExt cx="216000" cy="215640"/>
          </a:xfrm>
        </p:grpSpPr>
        <p:sp>
          <p:nvSpPr>
            <p:cNvPr id="78" name="Oval 63"/>
            <p:cNvSpPr/>
            <p:nvPr/>
          </p:nvSpPr>
          <p:spPr>
            <a:xfrm>
              <a:off x="6804000" y="5589720"/>
              <a:ext cx="216000" cy="21564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64"/>
            <p:cNvSpPr/>
            <p:nvPr/>
          </p:nvSpPr>
          <p:spPr>
            <a:xfrm>
              <a:off x="6823440" y="5608800"/>
              <a:ext cx="176760" cy="17640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093080" y="3284640"/>
            <a:ext cx="287280" cy="287280"/>
            <a:chOff x="7093080" y="3284640"/>
            <a:chExt cx="287280" cy="287280"/>
          </a:xfrm>
        </p:grpSpPr>
        <p:sp>
          <p:nvSpPr>
            <p:cNvPr id="81" name="Oval 66"/>
            <p:cNvSpPr/>
            <p:nvPr/>
          </p:nvSpPr>
          <p:spPr>
            <a:xfrm>
              <a:off x="7093080" y="3284640"/>
              <a:ext cx="287280" cy="28728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67"/>
            <p:cNvSpPr/>
            <p:nvPr/>
          </p:nvSpPr>
          <p:spPr>
            <a:xfrm>
              <a:off x="7118640" y="3310200"/>
              <a:ext cx="235080" cy="23508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588000" y="1700280"/>
            <a:ext cx="289080" cy="288720"/>
            <a:chOff x="6588000" y="1700280"/>
            <a:chExt cx="289080" cy="288720"/>
          </a:xfrm>
        </p:grpSpPr>
        <p:sp>
          <p:nvSpPr>
            <p:cNvPr id="84" name="Oval 69"/>
            <p:cNvSpPr/>
            <p:nvPr/>
          </p:nvSpPr>
          <p:spPr>
            <a:xfrm>
              <a:off x="6588000" y="1700280"/>
              <a:ext cx="289080" cy="28872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70"/>
            <p:cNvSpPr/>
            <p:nvPr/>
          </p:nvSpPr>
          <p:spPr>
            <a:xfrm>
              <a:off x="6613920" y="1726200"/>
              <a:ext cx="236520" cy="23616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932360" y="1268280"/>
            <a:ext cx="216000" cy="216000"/>
            <a:chOff x="4932360" y="1268280"/>
            <a:chExt cx="216000" cy="216000"/>
          </a:xfrm>
        </p:grpSpPr>
        <p:sp>
          <p:nvSpPr>
            <p:cNvPr id="87" name="Oval 72"/>
            <p:cNvSpPr/>
            <p:nvPr/>
          </p:nvSpPr>
          <p:spPr>
            <a:xfrm>
              <a:off x="4932360" y="1268280"/>
              <a:ext cx="216000" cy="21600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73"/>
            <p:cNvSpPr/>
            <p:nvPr/>
          </p:nvSpPr>
          <p:spPr>
            <a:xfrm>
              <a:off x="4951800" y="1287720"/>
              <a:ext cx="176760" cy="17676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780000" y="1844640"/>
            <a:ext cx="215640" cy="216000"/>
            <a:chOff x="3780000" y="1844640"/>
            <a:chExt cx="215640" cy="216000"/>
          </a:xfrm>
        </p:grpSpPr>
        <p:sp>
          <p:nvSpPr>
            <p:cNvPr id="90" name="Oval 75"/>
            <p:cNvSpPr/>
            <p:nvPr/>
          </p:nvSpPr>
          <p:spPr>
            <a:xfrm>
              <a:off x="3780000" y="1844640"/>
              <a:ext cx="215640" cy="21600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76"/>
            <p:cNvSpPr/>
            <p:nvPr/>
          </p:nvSpPr>
          <p:spPr>
            <a:xfrm>
              <a:off x="3799080" y="1864080"/>
              <a:ext cx="176400" cy="17676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140360" y="692280"/>
            <a:ext cx="288720" cy="288720"/>
            <a:chOff x="4140360" y="692280"/>
            <a:chExt cx="288720" cy="288720"/>
          </a:xfrm>
        </p:grpSpPr>
        <p:sp>
          <p:nvSpPr>
            <p:cNvPr id="93" name="Oval 78"/>
            <p:cNvSpPr/>
            <p:nvPr/>
          </p:nvSpPr>
          <p:spPr>
            <a:xfrm>
              <a:off x="4140360" y="692280"/>
              <a:ext cx="288720" cy="28872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79"/>
            <p:cNvSpPr/>
            <p:nvPr/>
          </p:nvSpPr>
          <p:spPr>
            <a:xfrm>
              <a:off x="4166280" y="718200"/>
              <a:ext cx="236160" cy="23616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050920" y="2060640"/>
            <a:ext cx="217440" cy="217440"/>
            <a:chOff x="2050920" y="2060640"/>
            <a:chExt cx="217440" cy="217440"/>
          </a:xfrm>
        </p:grpSpPr>
        <p:sp>
          <p:nvSpPr>
            <p:cNvPr id="96" name="Oval 81"/>
            <p:cNvSpPr/>
            <p:nvPr/>
          </p:nvSpPr>
          <p:spPr>
            <a:xfrm>
              <a:off x="2050920" y="2060640"/>
              <a:ext cx="217440" cy="217440"/>
            </a:xfrm>
            <a:prstGeom prst="ellipse">
              <a:avLst/>
            </a:prstGeom>
            <a:solidFill>
              <a:srgbClr val="d5d5d5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82"/>
            <p:cNvSpPr/>
            <p:nvPr/>
          </p:nvSpPr>
          <p:spPr>
            <a:xfrm>
              <a:off x="2070360" y="2080080"/>
              <a:ext cx="177840" cy="177840"/>
            </a:xfrm>
            <a:prstGeom prst="ellipse">
              <a:avLst/>
            </a:prstGeom>
            <a:solidFill>
              <a:srgbClr val="808080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871560" y="2725200"/>
            <a:ext cx="769320" cy="833400"/>
            <a:chOff x="871560" y="2725200"/>
            <a:chExt cx="769320" cy="833400"/>
          </a:xfrm>
        </p:grpSpPr>
        <p:grpSp>
          <p:nvGrpSpPr>
            <p:cNvPr id="99" name=""/>
            <p:cNvGrpSpPr/>
            <p:nvPr/>
          </p:nvGrpSpPr>
          <p:grpSpPr>
            <a:xfrm>
              <a:off x="871560" y="2725200"/>
              <a:ext cx="769320" cy="833400"/>
              <a:chOff x="871560" y="2725200"/>
              <a:chExt cx="769320" cy="833400"/>
            </a:xfrm>
          </p:grpSpPr>
          <p:sp>
            <p:nvSpPr>
              <p:cNvPr id="100" name="Freeform 85"/>
              <p:cNvSpPr/>
              <p:nvPr/>
            </p:nvSpPr>
            <p:spPr>
              <a:xfrm rot="18367200">
                <a:off x="963720" y="3061800"/>
                <a:ext cx="389520" cy="42696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c0c0c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86"/>
              <p:cNvSpPr/>
              <p:nvPr/>
            </p:nvSpPr>
            <p:spPr>
              <a:xfrm flipH="1" rot="18367200">
                <a:off x="1197720" y="2774880"/>
                <a:ext cx="340200" cy="42696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c0c0c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945720" y="2797200"/>
              <a:ext cx="622800" cy="687600"/>
              <a:chOff x="945720" y="2797200"/>
              <a:chExt cx="622800" cy="687600"/>
            </a:xfrm>
          </p:grpSpPr>
          <p:sp>
            <p:nvSpPr>
              <p:cNvPr id="103" name="Freeform 88"/>
              <p:cNvSpPr/>
              <p:nvPr/>
            </p:nvSpPr>
            <p:spPr>
              <a:xfrm rot="18367200">
                <a:off x="1006560" y="3094920"/>
                <a:ext cx="333720" cy="32040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89"/>
              <p:cNvSpPr/>
              <p:nvPr/>
            </p:nvSpPr>
            <p:spPr>
              <a:xfrm flipH="1" rot="18367200">
                <a:off x="1207440" y="2849040"/>
                <a:ext cx="291240" cy="32040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3233520" y="1105560"/>
            <a:ext cx="1044720" cy="927000"/>
            <a:chOff x="3233520" y="1105560"/>
            <a:chExt cx="1044720" cy="927000"/>
          </a:xfrm>
        </p:grpSpPr>
        <p:grpSp>
          <p:nvGrpSpPr>
            <p:cNvPr id="106" name=""/>
            <p:cNvGrpSpPr/>
            <p:nvPr/>
          </p:nvGrpSpPr>
          <p:grpSpPr>
            <a:xfrm>
              <a:off x="3233520" y="1105560"/>
              <a:ext cx="1044720" cy="927000"/>
              <a:chOff x="3233520" y="1105560"/>
              <a:chExt cx="1044720" cy="927000"/>
            </a:xfrm>
          </p:grpSpPr>
          <p:sp>
            <p:nvSpPr>
              <p:cNvPr id="107" name="Freeform 92"/>
              <p:cNvSpPr/>
              <p:nvPr/>
            </p:nvSpPr>
            <p:spPr>
              <a:xfrm rot="2127600">
                <a:off x="3317400" y="1213200"/>
                <a:ext cx="518040" cy="45576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c0c0c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93"/>
              <p:cNvSpPr/>
              <p:nvPr/>
            </p:nvSpPr>
            <p:spPr>
              <a:xfrm flipH="1" rot="2127000">
                <a:off x="3735360" y="1487520"/>
                <a:ext cx="452520" cy="45576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c0c0c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3323880" y="1193040"/>
              <a:ext cx="866880" cy="754560"/>
              <a:chOff x="3323880" y="1193040"/>
              <a:chExt cx="866880" cy="754560"/>
            </a:xfrm>
          </p:grpSpPr>
          <p:sp>
            <p:nvSpPr>
              <p:cNvPr id="110" name="Freeform 95"/>
              <p:cNvSpPr/>
              <p:nvPr/>
            </p:nvSpPr>
            <p:spPr>
              <a:xfrm rot="2127600">
                <a:off x="3381840" y="1289880"/>
                <a:ext cx="443880" cy="34200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96"/>
              <p:cNvSpPr/>
              <p:nvPr/>
            </p:nvSpPr>
            <p:spPr>
              <a:xfrm flipH="1" rot="2127000">
                <a:off x="3739680" y="1524600"/>
                <a:ext cx="387360" cy="34200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"/>
          <p:cNvGrpSpPr/>
          <p:nvPr/>
        </p:nvGrpSpPr>
        <p:grpSpPr>
          <a:xfrm>
            <a:off x="6102000" y="382680"/>
            <a:ext cx="970560" cy="952200"/>
            <a:chOff x="6102000" y="382680"/>
            <a:chExt cx="970560" cy="952200"/>
          </a:xfrm>
        </p:grpSpPr>
        <p:grpSp>
          <p:nvGrpSpPr>
            <p:cNvPr id="113" name=""/>
            <p:cNvGrpSpPr/>
            <p:nvPr/>
          </p:nvGrpSpPr>
          <p:grpSpPr>
            <a:xfrm>
              <a:off x="6102000" y="382680"/>
              <a:ext cx="970560" cy="952200"/>
              <a:chOff x="6102000" y="382680"/>
              <a:chExt cx="970560" cy="952200"/>
            </a:xfrm>
          </p:grpSpPr>
          <p:sp>
            <p:nvSpPr>
              <p:cNvPr id="114" name="Freeform 99"/>
              <p:cNvSpPr/>
              <p:nvPr/>
            </p:nvSpPr>
            <p:spPr>
              <a:xfrm rot="2428800">
                <a:off x="6247080" y="444600"/>
                <a:ext cx="412560" cy="6001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c0c0c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00"/>
              <p:cNvSpPr/>
              <p:nvPr/>
            </p:nvSpPr>
            <p:spPr>
              <a:xfrm flipH="1" rot="2428200">
                <a:off x="6560280" y="689400"/>
                <a:ext cx="360360" cy="6001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c0c0c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193440" y="476640"/>
              <a:ext cx="789120" cy="766080"/>
              <a:chOff x="6193440" y="476640"/>
              <a:chExt cx="789120" cy="766080"/>
            </a:xfrm>
          </p:grpSpPr>
          <p:sp>
            <p:nvSpPr>
              <p:cNvPr id="117" name="Freeform 102"/>
              <p:cNvSpPr/>
              <p:nvPr/>
            </p:nvSpPr>
            <p:spPr>
              <a:xfrm rot="2428800">
                <a:off x="6296760" y="537480"/>
                <a:ext cx="353520" cy="45000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03"/>
              <p:cNvSpPr/>
              <p:nvPr/>
            </p:nvSpPr>
            <p:spPr>
              <a:xfrm flipH="1" rot="2428200">
                <a:off x="6564600" y="746280"/>
                <a:ext cx="308520" cy="45000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"/>
          <p:cNvGrpSpPr/>
          <p:nvPr/>
        </p:nvGrpSpPr>
        <p:grpSpPr>
          <a:xfrm>
            <a:off x="5639040" y="1820880"/>
            <a:ext cx="715320" cy="430200"/>
            <a:chOff x="5639040" y="1820880"/>
            <a:chExt cx="715320" cy="430200"/>
          </a:xfrm>
        </p:grpSpPr>
        <p:grpSp>
          <p:nvGrpSpPr>
            <p:cNvPr id="120" name=""/>
            <p:cNvGrpSpPr/>
            <p:nvPr/>
          </p:nvGrpSpPr>
          <p:grpSpPr>
            <a:xfrm>
              <a:off x="5639040" y="1820880"/>
              <a:ext cx="715320" cy="430200"/>
              <a:chOff x="5639040" y="1820880"/>
              <a:chExt cx="715320" cy="430200"/>
            </a:xfrm>
          </p:grpSpPr>
          <p:sp>
            <p:nvSpPr>
              <p:cNvPr id="121" name="Freeform 106"/>
              <p:cNvSpPr/>
              <p:nvPr/>
            </p:nvSpPr>
            <p:spPr>
              <a:xfrm rot="21358200">
                <a:off x="5652000" y="1855800"/>
                <a:ext cx="373320" cy="3826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c0c0c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07"/>
              <p:cNvSpPr/>
              <p:nvPr/>
            </p:nvSpPr>
            <p:spPr>
              <a:xfrm flipH="1" rot="21358200">
                <a:off x="6014880" y="1831680"/>
                <a:ext cx="325800" cy="3826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c0c0c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693040" y="1872360"/>
              <a:ext cx="609840" cy="327240"/>
              <a:chOff x="5693040" y="1872360"/>
              <a:chExt cx="609840" cy="327240"/>
            </a:xfrm>
          </p:grpSpPr>
          <p:sp>
            <p:nvSpPr>
              <p:cNvPr id="124" name="Freeform 109"/>
              <p:cNvSpPr/>
              <p:nvPr/>
            </p:nvSpPr>
            <p:spPr>
              <a:xfrm rot="21358200">
                <a:off x="5702400" y="1901520"/>
                <a:ext cx="319680" cy="2869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10"/>
              <p:cNvSpPr/>
              <p:nvPr/>
            </p:nvSpPr>
            <p:spPr>
              <a:xfrm flipH="1" rot="21358200">
                <a:off x="6013800" y="1881720"/>
                <a:ext cx="279000" cy="2869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" name=""/>
          <p:cNvGrpSpPr/>
          <p:nvPr/>
        </p:nvGrpSpPr>
        <p:grpSpPr>
          <a:xfrm>
            <a:off x="2768040" y="4912920"/>
            <a:ext cx="358200" cy="407880"/>
            <a:chOff x="2768040" y="4912920"/>
            <a:chExt cx="358200" cy="407880"/>
          </a:xfrm>
        </p:grpSpPr>
        <p:grpSp>
          <p:nvGrpSpPr>
            <p:cNvPr id="127" name=""/>
            <p:cNvGrpSpPr/>
            <p:nvPr/>
          </p:nvGrpSpPr>
          <p:grpSpPr>
            <a:xfrm>
              <a:off x="2768040" y="4912920"/>
              <a:ext cx="358200" cy="407880"/>
              <a:chOff x="2768040" y="4912920"/>
              <a:chExt cx="358200" cy="407880"/>
            </a:xfrm>
          </p:grpSpPr>
          <p:sp>
            <p:nvSpPr>
              <p:cNvPr id="128" name="Freeform 113"/>
              <p:cNvSpPr/>
              <p:nvPr/>
            </p:nvSpPr>
            <p:spPr>
              <a:xfrm rot="14353800">
                <a:off x="2893320" y="5082120"/>
                <a:ext cx="189720" cy="2077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c0c0c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14"/>
              <p:cNvSpPr/>
              <p:nvPr/>
            </p:nvSpPr>
            <p:spPr>
              <a:xfrm flipH="1" rot="14353800">
                <a:off x="2816280" y="4933080"/>
                <a:ext cx="165600" cy="2077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c0c0c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2802600" y="4947120"/>
              <a:ext cx="288000" cy="338040"/>
              <a:chOff x="2802600" y="4947120"/>
              <a:chExt cx="288000" cy="338040"/>
            </a:xfrm>
          </p:grpSpPr>
          <p:sp>
            <p:nvSpPr>
              <p:cNvPr id="131" name="Freeform 116"/>
              <p:cNvSpPr/>
              <p:nvPr/>
            </p:nvSpPr>
            <p:spPr>
              <a:xfrm rot="14353800">
                <a:off x="2900880" y="5097240"/>
                <a:ext cx="162360" cy="1558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17"/>
              <p:cNvSpPr/>
              <p:nvPr/>
            </p:nvSpPr>
            <p:spPr>
              <a:xfrm flipH="1" rot="14353800">
                <a:off x="2835000" y="4969800"/>
                <a:ext cx="141840" cy="1558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"/>
          <p:cNvGrpSpPr/>
          <p:nvPr/>
        </p:nvGrpSpPr>
        <p:grpSpPr>
          <a:xfrm>
            <a:off x="7152120" y="4122360"/>
            <a:ext cx="374760" cy="405720"/>
            <a:chOff x="7152120" y="4122360"/>
            <a:chExt cx="374760" cy="405720"/>
          </a:xfrm>
        </p:grpSpPr>
        <p:grpSp>
          <p:nvGrpSpPr>
            <p:cNvPr id="134" name=""/>
            <p:cNvGrpSpPr/>
            <p:nvPr/>
          </p:nvGrpSpPr>
          <p:grpSpPr>
            <a:xfrm>
              <a:off x="7152120" y="4122360"/>
              <a:ext cx="374760" cy="405720"/>
              <a:chOff x="7152120" y="4122360"/>
              <a:chExt cx="374760" cy="405720"/>
            </a:xfrm>
          </p:grpSpPr>
          <p:sp>
            <p:nvSpPr>
              <p:cNvPr id="135" name="Freeform 120"/>
              <p:cNvSpPr/>
              <p:nvPr/>
            </p:nvSpPr>
            <p:spPr>
              <a:xfrm rot="3238800">
                <a:off x="7197120" y="4156200"/>
                <a:ext cx="189720" cy="2077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c0c0c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21"/>
              <p:cNvSpPr/>
              <p:nvPr/>
            </p:nvSpPr>
            <p:spPr>
              <a:xfrm flipH="1" rot="3238200">
                <a:off x="7310880" y="4296240"/>
                <a:ext cx="165600" cy="2077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c0c0c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7188840" y="4158360"/>
              <a:ext cx="302760" cy="334800"/>
              <a:chOff x="7188840" y="4158360"/>
              <a:chExt cx="302760" cy="334800"/>
            </a:xfrm>
          </p:grpSpPr>
          <p:sp>
            <p:nvSpPr>
              <p:cNvPr id="138" name="Freeform 123"/>
              <p:cNvSpPr/>
              <p:nvPr/>
            </p:nvSpPr>
            <p:spPr>
              <a:xfrm rot="3238800">
                <a:off x="7218360" y="4191840"/>
                <a:ext cx="162360" cy="1558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24"/>
              <p:cNvSpPr/>
              <p:nvPr/>
            </p:nvSpPr>
            <p:spPr>
              <a:xfrm flipH="1" rot="3238200">
                <a:off x="7315560" y="4312080"/>
                <a:ext cx="141840" cy="1558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" name=""/>
          <p:cNvGrpSpPr/>
          <p:nvPr/>
        </p:nvGrpSpPr>
        <p:grpSpPr>
          <a:xfrm>
            <a:off x="7225560" y="2284920"/>
            <a:ext cx="930960" cy="897120"/>
            <a:chOff x="7225560" y="2284920"/>
            <a:chExt cx="930960" cy="897120"/>
          </a:xfrm>
        </p:grpSpPr>
        <p:grpSp>
          <p:nvGrpSpPr>
            <p:cNvPr id="141" name=""/>
            <p:cNvGrpSpPr/>
            <p:nvPr/>
          </p:nvGrpSpPr>
          <p:grpSpPr>
            <a:xfrm>
              <a:off x="7225560" y="2284920"/>
              <a:ext cx="930960" cy="897120"/>
              <a:chOff x="7225560" y="2284920"/>
              <a:chExt cx="930960" cy="897120"/>
            </a:xfrm>
          </p:grpSpPr>
          <p:sp>
            <p:nvSpPr>
              <p:cNvPr id="142" name="Freeform 127"/>
              <p:cNvSpPr/>
              <p:nvPr/>
            </p:nvSpPr>
            <p:spPr>
              <a:xfrm rot="1554000">
                <a:off x="7347240" y="2337120"/>
                <a:ext cx="389520" cy="64764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c0c0c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28"/>
              <p:cNvSpPr/>
              <p:nvPr/>
            </p:nvSpPr>
            <p:spPr>
              <a:xfrm flipH="1" rot="1553400">
                <a:off x="7691760" y="2492640"/>
                <a:ext cx="340200" cy="64764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c0c0c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7308720" y="2381040"/>
              <a:ext cx="767160" cy="706320"/>
              <a:chOff x="7308720" y="2381040"/>
              <a:chExt cx="767160" cy="706320"/>
            </a:xfrm>
          </p:grpSpPr>
          <p:sp>
            <p:nvSpPr>
              <p:cNvPr id="145" name="Freeform 130"/>
              <p:cNvSpPr/>
              <p:nvPr/>
            </p:nvSpPr>
            <p:spPr>
              <a:xfrm rot="1554000">
                <a:off x="7397640" y="2429280"/>
                <a:ext cx="333720" cy="48564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31"/>
              <p:cNvSpPr/>
              <p:nvPr/>
            </p:nvSpPr>
            <p:spPr>
              <a:xfrm flipH="1" rot="1553400">
                <a:off x="7692480" y="2562120"/>
                <a:ext cx="291240" cy="48564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"/>
          <p:cNvGrpSpPr/>
          <p:nvPr/>
        </p:nvGrpSpPr>
        <p:grpSpPr>
          <a:xfrm>
            <a:off x="4595760" y="4962600"/>
            <a:ext cx="785520" cy="626040"/>
            <a:chOff x="4595760" y="4962600"/>
            <a:chExt cx="785520" cy="626040"/>
          </a:xfrm>
        </p:grpSpPr>
        <p:grpSp>
          <p:nvGrpSpPr>
            <p:cNvPr id="148" name=""/>
            <p:cNvGrpSpPr/>
            <p:nvPr/>
          </p:nvGrpSpPr>
          <p:grpSpPr>
            <a:xfrm>
              <a:off x="4595760" y="4962600"/>
              <a:ext cx="785520" cy="626040"/>
              <a:chOff x="4595760" y="4962600"/>
              <a:chExt cx="785520" cy="626040"/>
            </a:xfrm>
          </p:grpSpPr>
          <p:sp>
            <p:nvSpPr>
              <p:cNvPr id="149" name="Freeform 134"/>
              <p:cNvSpPr/>
              <p:nvPr/>
            </p:nvSpPr>
            <p:spPr>
              <a:xfrm rot="9390000">
                <a:off x="4947120" y="5020920"/>
                <a:ext cx="373320" cy="3826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c0c0c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35"/>
              <p:cNvSpPr/>
              <p:nvPr/>
            </p:nvSpPr>
            <p:spPr>
              <a:xfrm flipH="1" rot="9390000">
                <a:off x="4658400" y="5156640"/>
                <a:ext cx="325800" cy="38268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c0c0c0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658760" y="5026680"/>
              <a:ext cx="657000" cy="498960"/>
              <a:chOff x="4658760" y="5026680"/>
              <a:chExt cx="657000" cy="498960"/>
            </a:xfrm>
          </p:grpSpPr>
          <p:sp>
            <p:nvSpPr>
              <p:cNvPr id="152" name="Freeform 137"/>
              <p:cNvSpPr/>
              <p:nvPr/>
            </p:nvSpPr>
            <p:spPr>
              <a:xfrm rot="9390000">
                <a:off x="4951440" y="5078520"/>
                <a:ext cx="320040" cy="2869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38"/>
              <p:cNvSpPr/>
              <p:nvPr/>
            </p:nvSpPr>
            <p:spPr>
              <a:xfrm flipH="1" rot="9390000">
                <a:off x="4704120" y="5194800"/>
                <a:ext cx="279360" cy="286920"/>
              </a:xfrm>
              <a:custGeom>
                <a:avLst/>
                <a:gdLst/>
                <a:ahLst/>
                <a:rect l="l" t="t" r="r" b="b"/>
                <a:pathLst>
                  <a:path w="1134" h="1360">
                    <a:moveTo>
                      <a:pt x="990" y="499"/>
                    </a:moveTo>
                    <a:cubicBezTo>
                      <a:pt x="865" y="374"/>
                      <a:pt x="741" y="249"/>
                      <a:pt x="582" y="181"/>
                    </a:cubicBezTo>
                    <a:cubicBezTo>
                      <a:pt x="423" y="113"/>
                      <a:pt x="76" y="0"/>
                      <a:pt x="38" y="91"/>
                    </a:cubicBezTo>
                    <a:cubicBezTo>
                      <a:pt x="0" y="182"/>
                      <a:pt x="211" y="620"/>
                      <a:pt x="355" y="726"/>
                    </a:cubicBezTo>
                    <a:cubicBezTo>
                      <a:pt x="499" y="832"/>
                      <a:pt x="870" y="703"/>
                      <a:pt x="900" y="726"/>
                    </a:cubicBezTo>
                    <a:cubicBezTo>
                      <a:pt x="930" y="749"/>
                      <a:pt x="590" y="794"/>
                      <a:pt x="537" y="862"/>
                    </a:cubicBezTo>
                    <a:cubicBezTo>
                      <a:pt x="484" y="930"/>
                      <a:pt x="537" y="1059"/>
                      <a:pt x="582" y="1134"/>
                    </a:cubicBezTo>
                    <a:cubicBezTo>
                      <a:pt x="627" y="1209"/>
                      <a:pt x="733" y="1360"/>
                      <a:pt x="809" y="1315"/>
                    </a:cubicBezTo>
                    <a:cubicBezTo>
                      <a:pt x="885" y="1270"/>
                      <a:pt x="991" y="900"/>
                      <a:pt x="1036" y="862"/>
                    </a:cubicBezTo>
                    <a:cubicBezTo>
                      <a:pt x="1081" y="824"/>
                      <a:pt x="1066" y="1044"/>
                      <a:pt x="1081" y="1089"/>
                    </a:cubicBezTo>
                    <a:cubicBezTo>
                      <a:pt x="1096" y="1134"/>
                      <a:pt x="1119" y="1247"/>
                      <a:pt x="1126" y="1134"/>
                    </a:cubicBezTo>
                    <a:cubicBezTo>
                      <a:pt x="1133" y="1021"/>
                      <a:pt x="1134" y="499"/>
                      <a:pt x="1126" y="408"/>
                    </a:cubicBezTo>
                    <a:cubicBezTo>
                      <a:pt x="1118" y="317"/>
                      <a:pt x="1099" y="453"/>
                      <a:pt x="1081" y="590"/>
                    </a:cubicBez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"/>
          <p:cNvSpPr/>
          <p:nvPr/>
        </p:nvSpPr>
        <p:spPr>
          <a:xfrm>
            <a:off x="1260360" y="5661000"/>
            <a:ext cx="6553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唯美动态蝴蝶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61080" y="6237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幻灯片之家</a:t>
            </a:r>
            <a:r>
              <a:rPr b="1" i="1" lang="zh-CN" sz="13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i="1" lang="zh-CN" sz="13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1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6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6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2" repeatCount="indefinite">
                                  <p:stCondLst>
                                    <p:cond delay="400"/>
                                  </p:stCondLst>
                                  <p:childTnLst>
                                    <p:animClr clrSpc="rgb">
                                      <p:cBhvr>
                                        <p:cTn id="32" dur="1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3" dur="1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" dur="1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6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6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4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4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4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2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2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2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2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2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2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1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1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32" repeatCount="indefinite">
                                  <p:stCondLst>
                                    <p:cond delay="400"/>
                                  </p:stCondLst>
                                  <p:childTnLst>
                                    <p:animClr clrSpc="rgb">
                                      <p:cBhvr>
                                        <p:cTn id="116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7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8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1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1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32" repeatCount="indefinite">
                                  <p:stCondLst>
                                    <p:cond delay="900"/>
                                  </p:stCondLst>
                                  <p:childTnLst>
                                    <p:animClr clrSpc="rgb">
                                      <p:cBhvr>
                                        <p:cTn id="130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1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2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1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1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32" repeatCount="indefinite">
                                  <p:stCondLst>
                                    <p:cond delay="400"/>
                                  </p:stCondLst>
                                  <p:childTnLst>
                                    <p:animClr clrSpc="rgb">
                                      <p:cBhvr>
                                        <p:cTn id="144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5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6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1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1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2" repeatCount="indefinite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58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9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0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1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1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9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32" repeatCount="indefinite">
                                  <p:stCondLst>
                                    <p:cond delay="1100"/>
                                  </p:stCondLst>
                                  <p:childTnLst>
                                    <p:animClr clrSpc="rgb">
                                      <p:cBhvr>
                                        <p:cTn id="172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3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4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1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1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2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2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2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32" repeatCount="indefinite">
                                  <p:stCondLst>
                                    <p:cond delay="900"/>
                                  </p:stCondLst>
                                  <p:childTnLst>
                                    <p:animClr clrSpc="rgb">
                                      <p:cBhvr>
                                        <p:cTn id="186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7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8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1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1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2" repeatCount="indefinite">
                                  <p:stCondLst>
                                    <p:cond delay="600"/>
                                  </p:stCondLst>
                                  <p:childTnLst>
                                    <p:animClr clrSpc="rgb">
                                      <p:cBhvr>
                                        <p:cTn id="200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1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2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2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2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4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4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4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32" repeatCount="indefinite">
                                  <p:stCondLst>
                                    <p:cond delay="1100"/>
                                  </p:stCondLst>
                                  <p:childTnLst>
                                    <p:animClr clrSpc="rgb">
                                      <p:cBhvr>
                                        <p:cTn id="214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5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6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2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2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600"/>
                            </p:stCondLst>
                            <p:childTnLst>
                              <p:par>
                                <p:cTn id="22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7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7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" dur="7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53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7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7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1" dur="7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53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9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" dur="9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53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9" dur="8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6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6" dur="6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53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53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8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53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6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" dur="6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" dur="8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6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11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1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6" dur="11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53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" dur="7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7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1" dur="7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53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9" dur="7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7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" dur="7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" presetSubtype="2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.00034 -1.85185E-006 L -0.36962 -1.85185E-006 E">
                                      <p:cBhvr>
                                        <p:cTn id="320" dur="29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3.61111E-006 -1.11111E-006 L -0.11024 -0.40972 E">
                                      <p:cBhvr>
                                        <p:cTn id="322" dur="25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5.83333E-006 3.7037E-007 L 0.23629 -0.45162 E">
                                      <p:cBhvr>
                                        <p:cTn id="324" dur="19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6.38889E-006 4.07407E-006 L 0.27952 -0.25185 E">
                                      <p:cBhvr>
                                        <p:cTn id="326" dur="26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88889E-006 -3.7037E-006 L -0.0158 -0.53541 E">
                                      <p:cBhvr>
                                        <p:cTn id="328" dur="15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5.83333E-006 5.55556E-006 L 0.33871 -0.09444 E">
                                      <p:cBhvr>
                                        <p:cTn id="330" dur="22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8.61111E-006 -8.51852E-006 L 0.35435 0.26249 E">
                                      <p:cBhvr>
                                        <p:cTn id="332" dur="15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3.61111E-006 6.2963E-006 L 0.10226 0.47269 E">
                                      <p:cBhvr>
                                        <p:cTn id="334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1.38889E-006 9.62963E-006 L -0.40173 0.45163 E">
                                      <p:cBhvr>
                                        <p:cTn id="336" dur="18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5005-76B3-4135-84C4-8F72E5E3DF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03:09:46Z</dcterms:created>
  <dc:creator>HGZ</dc:creator>
  <dc:description/>
  <dc:language>en-US</dc:language>
  <cp:lastModifiedBy>king</cp:lastModifiedBy>
  <dcterms:modified xsi:type="dcterms:W3CDTF">2015-07-04T08:05:48Z</dcterms:modified>
  <cp:revision>9</cp:revision>
  <dc:subject/>
  <dc:title>PPT动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