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BA2-4A26-4BC5-ACDB-7DA1E5DA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D7C-E440-46F7-A4E2-2426DF6E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8BA3-C382-4743-B265-096D01CA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C4F7-6AE8-4430-BA3A-7E67E16E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A3E9-1EB2-4702-B2CB-3A5B14C0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20DB-B24D-44CE-9F27-F9180938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A625-C5CB-4693-AECB-9FC5D9B7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A348-6D9D-4FC1-82DF-88800F2B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6B58-612C-45D7-9200-8B6305AF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7E30-847A-4105-87E6-B50BC2C7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E41B-7E55-4D46-8AA4-0762DED4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AF59-9B9C-4B8D-9648-EEC50099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05B3-5223-4927-B8B8-ACEE292E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85CB-CC29-4D9B-AD96-8BF5BE18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0FD7-59A0-4968-80F9-01817095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76FA-8A79-48DA-BDCB-100BD750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A34C-5BBB-48CF-A356-38E17E62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6F5-03E7-46A8-A08C-840BC4CF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1FF-4DAA-436D-86F9-79BF9A6A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A23-E423-4314-9492-14108E03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8E3-8C58-4A96-A162-7BA6F145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95D-D0F8-459A-9DA6-53BF0E9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564-48EA-47ED-8ED1-294E6B06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A31-3318-4142-A58C-6EB6A11A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1E1E-47D4-46AF-8F6B-683066EB7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492280"/>
            <a:ext cx="726912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FCA2-688B-4F52-AD20-59EA52F3C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19280" y="2492280"/>
            <a:ext cx="726912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唯美水墨荷花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模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79640" y="3573000"/>
            <a:ext cx="5905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19280" y="2492280"/>
            <a:ext cx="726912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感谢您的关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79640" y="378936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720" y="260280"/>
            <a:ext cx="225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迷你简柏青"/>
                <a:ea typeface="迷你简柏青"/>
              </a:rPr>
              <a:t>www.eeppt.com</a:t>
            </a:r>
            <a:r>
              <a:rPr b="0" lang="zh-CN" sz="1800" spc="-1" strike="noStrike">
                <a:solidFill>
                  <a:srgbClr val="000000"/>
                </a:solidFill>
                <a:latin typeface="迷你简柏青"/>
                <a:ea typeface="迷你简柏青"/>
              </a:rPr>
              <a:t>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513B-16CF-45EA-AD88-7B3A717085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0:47:22Z</dcterms:created>
  <dc:creator/>
  <dc:description/>
  <dc:language>en-US</dc:language>
  <cp:lastModifiedBy/>
  <dcterms:modified xsi:type="dcterms:W3CDTF">2015-07-04T08:04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