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27C-8568-4C82-A414-1A5B2704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EE3-C9A7-430E-87F1-EB33FEF3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417-E284-4053-B17F-609692C5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30F-5CB7-42AF-A75C-5C79EB90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EC1-7F60-481E-B1B2-4B056937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4646-41F0-44E6-B09C-4147C4BD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91AF-B508-4194-A3BB-11319BDE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1088-6A08-48C6-91AD-F2A86440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665F-287C-4FBE-ACF3-C79545D5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5E8D-5DAF-40CC-AE28-19401345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502A-BD1F-4335-826B-0DE91C42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903-4682-4653-9305-7CEC08C9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D12E-536C-42B7-8805-DB06C1E6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E1A5-D5AD-477C-B71E-6B077DE9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AE01-816D-4EB1-ABB5-8395E5BE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C695-D291-4884-AE2B-F33F1049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0BF1-C3FC-4608-A6B0-D0D71D10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59C-4B44-4950-A06D-8704F863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85C-04DC-4AF4-9779-2E129286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23B-E244-4BA6-BC71-3352972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F53-717E-414D-866A-9364561F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822-28B1-41D4-9118-88974815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653-F4DF-4638-952D-28AFECA1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450-7C23-4C75-94BC-ADA88FC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C999-3C1A-4FBF-A3C7-2C69F6B86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8189-83C0-4190-93C3-6FC987F9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1547640" y="981000"/>
            <a:ext cx="7740360" cy="23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5976720" cy="44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24360" y="1844640"/>
            <a:ext cx="1225800" cy="107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180360" y="1773360"/>
            <a:ext cx="604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唯美图片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109648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24210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往事浓淡，色如清，已轻。经年悲喜，净如镜，已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  <p:sndAc>
      <p:stSnd>
        <p:snd r:embed="rId2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465120" y="0"/>
            <a:ext cx="11003040" cy="688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4724280"/>
            <a:ext cx="56818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多东西就掌握在我们手中：比如快乐，你不快乐，谁会同情你的悲伤；比如坚强，你不坚强，谁会怜悯你的懦弱；比如努力，你不努力，谁会陪你原地停留；比如珍惜，你不珍惜，谁会和你挥霍青春；比如执着，你不执着，谁会与你共进退……只有把命运掌握在自己手中，我们才能寻找到生命的闪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  <p:sndAc>
      <p:stSnd>
        <p:snd r:embed="rId2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1010960" cy="6886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3573360"/>
            <a:ext cx="5472360" cy="43488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亲爱的自己，该醒醒了。你已经做了太多无谓的挣扎，太多荒唐的事情，太多盲目的决定，而错过了太多本来的幸福，太多安静的生活，太多理性的选择。现在开始，请认真把你做过的都忘记，再用心把你错过的都弥补回来。你要更精彩的活，精彩的让别人注视和羡慕，而不只是关注别人的幸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6505-6234-49E0-BDCD-0F76417C4B10}" type="slidenum">
              <a:t>5</a:t>
            </a:fld>
          </a:p>
        </p:txBody>
      </p:sp>
    </p:spTree>
  </p:cSld>
  <p:transition advTm="10000">
    <p:fade thruBlk="true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1:55:36Z</dcterms:created>
  <dc:creator>Administrator</dc:creator>
  <dc:description/>
  <dc:language>en-US</dc:language>
  <cp:lastModifiedBy/>
  <dcterms:modified xsi:type="dcterms:W3CDTF">2015-07-04T08:03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