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C2FF-0F8D-49A7-868F-FC2573A6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94D-0DB2-47E0-AB00-BE091EA6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D8CF-B8DC-46EA-8F23-9A8AA48F017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1659A-AD64-40D9-8C53-98B6211EECE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24BB0-8A70-4960-86CE-C095BADECC5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D9238-3D1C-4981-A29C-8110FD601F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33B9E-EBFE-4A93-AAC6-9027500483B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6040-4002-4F76-B5E2-BA917CF508C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133C4-DB79-46B3-B013-210D199A91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FA64-2639-45FA-801F-05EE1B46F54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4DEFD4-60F9-4644-8372-4955E78714D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FD4E50-1D06-4AF5-B827-274BC8F08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369-B461-4FBE-A3E4-304E44B8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F667AA-C9FB-4168-86E0-A4041BBAFC2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A50B92-06A8-4933-A659-82054D62975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24986-107F-41DF-A1DE-2521D879BFA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3EE9E-8950-471D-8C50-AB99EF681FD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735B11-751D-46FC-9F7D-D007A93A961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168FD8-6614-474A-B279-9166B1EAE23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E22150-09BF-4D45-92CF-4CAC1C7558E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24DB3-F1C9-42CA-912B-EDD1008DD83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592F33-3313-4884-B654-5956DB64E80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1F30A-26AD-4067-B29E-2F2A92111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1267-B28A-4FB1-AAF8-65AF7413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9FD46-8681-4BB8-BA4C-5E91E0F9266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A04D49D-0ABD-41B9-AC4E-23EA59E5EBC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2BAC05-9FA0-4920-B8E7-17A270024D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2E2999-7832-4D73-ACCE-B319C7D63CD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795AE-02F9-4569-8E96-9750F3C0EBA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D7B81AD-F071-4E52-836A-35B4F30847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02FA7B-D4E6-47DB-97A4-D1E62666E20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53EA71-E526-4EFC-900C-B75844718DF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DB6CC7-F24B-4A52-896B-BBC161199F1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878578-870B-45E2-B7A6-79DBD23B4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C35BF-3B20-4680-898E-0117153E8B7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4FF576-7CFB-4324-BA83-6A8653E091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77A270-3591-474B-B0BD-DFDF4CA76E1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5A925C-4A5F-4EAE-8F9A-2A04FED4961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494961-0903-4B24-8C93-DE1AFB85F84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5B46F-5480-4416-A444-4617AAE2DB2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2C22A-8715-4F67-A058-CF63EE59EA5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3B9A7-29AB-46EF-88E1-A0E10E6F1B3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CE8A7-EF3D-42E7-A595-E009AE9E504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1E4C5-C621-4895-A968-1F7B0A58117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F1DA3-933D-4DED-B949-D986093780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5326D5-A09B-45D7-B7BF-8FF0FE4464BA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29795-AEAF-4D9B-8855-4F99880D77C4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E9A4A-08F4-41E6-99C7-E53AC84F972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10BA15-0B81-4DF4-8960-F3650F6FDE8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AE5072-BBBD-4552-B6D4-436B8AA4F06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26E4A-BE5E-4D41-A424-F9E48A33AE7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33BB7-1BAD-4731-ABA7-5859404EB923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E8445-E056-49F3-B093-3F608A1AE09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70961-DFB8-4E72-A5DC-A8F9410ABA2D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55E7F-902C-417B-B949-A1341F550F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5CC07-67D4-41D9-A0F2-20AC5ACA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8BD3B-B334-4D56-94D5-381E13F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B1DC9-A2DC-4A99-9EB6-610A29B2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F6716-09DC-486A-BB43-EDF64738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285026-E730-4D00-84DF-26F66359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8DA43-5512-4712-995B-115ADB8D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2FA16-7591-4FEB-91E5-0202C844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6E6B3-3081-4112-8FDE-73E2870A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19F79-1A4A-4C9E-A0E5-7943AD8B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AC7E3-465F-4162-8816-11D8681CA3B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E9FE0-8FE0-44BE-9164-7588A944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A28AF-CC28-4D9C-A2AD-702F83BF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6574B-8D07-4887-96F2-834BF133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9544-365C-4731-B729-C39B5EF8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EE2D5C-07C1-4563-86C9-67FBA29418A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342982-277F-4F0C-88D3-56C4DA03C5FF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8257E9-9E6E-4D83-9FA7-3F605E7BC22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4D5C5F-DEA4-4972-B698-98E467126D2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BBA278-F0C5-48AC-8627-69AC91D224F0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A65CC6-4357-42C4-8757-BDBB468BDB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4BBF3-EE17-43BB-AC5B-F8D932828E8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F921F9-0E0C-4A90-8E2C-A7E08C33CEA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97A929-EFEE-4EC6-AAD4-AF857A6CB8B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CE9B0D-8965-448F-AEA5-EA821211D0D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0E542F-3056-4ACC-945A-8B3E9A1C0C6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916F55-25B2-4135-B560-B4D5FF2C5BE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2F975-DC29-4343-A171-C9496AE740B2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7B2CC0-3D34-4606-9A53-FA772865086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E4298F-D501-4B24-B0CB-1E9955112CD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212D9C-F4DB-43E5-BAA5-169F5E6B3F2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3A241B-70F0-4793-A9BD-39659C9C55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74FB2-F0CD-457F-84FA-241D0E9C5C3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E626D-6370-49E9-8DA8-48BDBFDD1DF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8F3A40-1BFC-47C0-8BDA-4A00676D414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57D68D-2B8D-4A90-A00C-3CEE6ADF39B1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9FCC2D-B2CF-45A0-8DB5-401958096855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BEBC07-C139-4961-B742-E37985898F2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822727-D333-46F5-A37D-384ED078C761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3F3E5B-E70D-437C-8BF0-143E587CF44C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7C0A88-7EAF-4E84-AA42-EFAEB65E400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477AD-5736-440A-B64D-637AEE457314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772AFF-EFB0-4FB2-B4C9-D5F6924DA87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5A762-4797-4B74-BDE3-B0C0FED2204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66643-D2E9-4B44-B72B-44A0876FCC8D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91066-2F43-42BB-B973-FD4998732C4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81123-B9E2-4F25-B776-DDC5AF775C2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B31B2-C17D-494C-A662-C1488E417C1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2452BF-33D9-4CF8-B9CE-514072C3CEA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860A7-6418-4F5D-8DB9-233523323D8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F2BF4-8C3C-444F-AC46-9CF946EAFE4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CE1E3-C9B3-454B-88E8-7F83F84E098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66B7-C603-4AF0-9D58-7B78128488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8771C9-7555-4B19-A8C8-7CE3CE14F68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AD1A8-ADB8-4BE6-8A56-6A0E7F2E013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5DF4A-58B9-4980-BA28-3E705B50070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D8232-9443-48F1-9940-F7DD193175A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9BD77F-356C-4031-ABDC-6D6A9E9E58E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192978-2B91-4758-AB64-BE695B025C84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AB72FA-632E-4CC0-866F-58443D17016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93AF170-CA12-451A-AFFF-7E203BFD52B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10D373-05D2-4C47-804D-A2798FC3A62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CAD7BA-EB46-420F-8AE6-16853ABB138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ECB388-3AF5-4036-AF38-E5D34D8F49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1C642D-3AC2-4F3A-B420-B04E9EC2459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6CE59A-F449-44ED-B6F9-3877D347EF3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8DEED6-0D24-4F5D-99CC-4C3C3790FC5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C876A1D-BB45-43C8-8D06-ACBDF8A7156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7327AB-CC4A-470D-A530-F533DF334CF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04C5D9-32BF-47DA-AC11-CD1F689306B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E1C540-339A-4F67-8017-4862DCA0E4C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A1CDB-102C-47BC-A170-C8BA14F922D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877717-3E92-4188-B69F-5C73C8834BE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8B68B8-F953-455F-8DFA-98C323C94BA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55F185-7820-4267-BE33-CFA0B613C0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AA305C-4862-4E13-9F3E-F23ED035A61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BE674-A562-4FB7-BB7D-A4B2E149020E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E1A642-765A-4D98-AA76-4F59B6479D2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A2A6C5-142A-4C37-BC34-432F991FF8E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B0F52A-48EB-4E2C-A950-263DD63B566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7100F-4D9C-4AB6-91A8-F4F3B131018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B3769E-E5CA-4F10-BA5F-FEB0872E17F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4D654-DAFA-4660-A22A-3EC0CD03571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71D2-8033-4369-8DFC-D1A56D77F2B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7764F-381C-4475-9FC7-02F72398836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F938D-B74A-48F4-9198-8D8180B1032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4A3779-0542-4074-A439-C34EBBD2079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2655AC-A0C0-4FE3-880D-E7BA833D5F9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B03D7-78B8-480D-9736-8FEEC63CB52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2FB69-EC01-4181-A11F-0F6FC4766C06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88F03-F07C-45EC-996C-E3EF98A386F3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EE97B-7947-496B-A2C9-4E70D6BB6AC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DBCBC-7C8D-479D-9FD2-8370D231EDE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3529F-BBC8-43FD-92F5-4571BE7D64D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3310F-86E1-4CBC-9BE8-D06EB315C70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8B36F4-8D1A-4DC0-8D71-3DBC1FAF845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9D2FD5-3AF1-4B90-8328-9149FC4609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BCABD8-B1FC-4BCE-BC51-FED9E051801F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857EE0-0381-4ADC-81E2-708333F05C8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FB9BEA-3355-4051-A98B-E0AEC0780CB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F7EE2C-15A1-4523-B514-72F987C5A87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77EFDB-5709-4919-B718-EC758A85794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67E9E8-59DB-44A5-83AB-69C85759714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6575EF-0B67-49B0-BC88-5C1EED28EB2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CC281D-BB3B-4519-B00C-66B6A1FD5E9F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A557F6-02C8-402B-A1CD-34E2221BC59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CF4944-2728-4C03-A781-933F8307029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C1F12B-3520-427C-9B36-072ECEDF75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A1D-9D42-4280-824C-39C169CF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00512-5746-418A-85C1-BC48A2EE664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D5402D-E728-49CD-9CD2-D5BA948D484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BFEFB1-91EF-4BA7-86CC-B483F6F7985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49FD64-400B-4BA4-AEDA-76C3B398F07E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9519C5-B1B0-4AC8-B080-17774AE6CB6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E25C20-8C04-4B81-8D28-6681B2C5F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403CC2-F328-4244-A182-21CB6621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B86C6A4-20F0-4AE1-AB71-1440C2DB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5346B-6C02-4598-B3E0-437C8FFBAFF8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9DE276-1ECC-4648-8FB0-0B1F0051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C42C9D-4678-46C8-8568-E7373367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A4696C-E5F9-4309-8E93-815C45C8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A8FD9C6-787C-44A9-9D73-AF3968C3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1BA1DA-B1A3-4D34-98B0-31194D2E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59DCC0-A9E3-41E5-9BBC-F1035CA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A83ACE-E989-46DF-B89A-4BD34815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D5DB28F-885D-4E94-A02E-AE8152AC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A2EC17-E54E-47F2-AC70-0FC5C079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41771E-955E-47EE-9D11-0655E2B321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473A49-5ED1-432C-8608-E7851D08A8E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4A7-92DB-4698-8D53-127E9C12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7CC8-0FFE-440E-90DE-FE657A0CD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3CB-0EE5-4730-933A-BC348B8F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21B3-020F-4E42-9FD0-6B5E6FD0F7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1E68F-E208-46BB-98AD-81FF5E90C16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1A949-7B60-4267-9901-97333E7ED6D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53FEC-4382-4C89-B72F-1721C011E41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F0EEE-0113-48D3-B768-ABE5CBE5B34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0001-F1BA-4B4C-AB08-5DCE43E1491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FDDAF-4639-484E-A6AA-387511D6BDF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F36D-3716-4BC4-9878-4778586196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B4D19-0301-4987-BC0D-F36BFCC51DE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72BD-7348-463B-97E7-C935EFA74A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2AA3-BAA2-4FBF-92A2-CBDE5B00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D2E60-3167-4240-949F-6AE036AA496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EFA080-9D72-4D61-A432-7081309857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17F168-F67D-4E17-9E65-9B56A331281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2AAF0F-EEFC-46D1-86F7-B01E0C6B96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48FB29-ED40-48F9-9D8A-375A0A5BC9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E8D24C-FA3C-457B-81D5-3BF56A1ADF1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D2D2C2-92D5-4A8C-9EC7-67801759F4F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B179D-149A-45A2-8D42-F682E4586DD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FF497E-ECF5-46E7-B1F9-A0166525DCE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4F8D5-4DFA-4335-87AB-6A0D83E44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435-A825-4BA6-A2AF-A9A43E61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B4621-7486-4843-B863-E34B2F8A938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BDFFFC-D4A0-4817-B995-449066453FA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4C909C-D28A-44C5-8BA2-793F606D55F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9BC5-1271-42BC-AF18-8BD92766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15939A-168C-4C7F-A94A-EEB54030956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DD54DC-1783-4874-B2D9-12B60F53D7D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80EAE-D7E3-4568-8AC1-63DA54E0F0A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4BAC81-18D8-43A7-9727-A486496A314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4F148C-E1A9-47A3-8D9F-2B0BE27B8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538-3AD6-4955-BF37-CD0A1EDD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0F28B-BF73-48EA-B1A5-CF122DA0DD5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2B37EC-DF55-4B67-910E-1882DBFAF8C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9560D7-36D9-4EA7-AB06-C996123D6B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B3EB11-D171-4573-86F7-16DA9599E81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DDC644-A207-439F-98B0-C266D124A8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BD0D63-3C1F-423C-8A62-9B747DAA136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2899E2-EF55-438D-B5D4-267DF5142DF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6639A-B68E-4A74-A44F-6DCBAA5C9A2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60EC1-CCC7-4A52-855E-ABD5F2B7EF5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B04C2-0B35-4FC6-93B3-49D079D73D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C7E0-4807-42B5-B238-4589511BD3C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1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7E78-263F-43B0-99D9-22127E90FA6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1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1399-5B35-4C1B-972D-DC965C6C8996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3C733-6CB6-4657-BDC4-5BA22D2F4B54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2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7E62-F71F-4A9E-BD33-12553FA199C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 type="sldNum" idx="2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DAD8-AF16-4D46-B46F-615E035ED8D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sldNum" idx="2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429F-2CDE-4878-A2AA-469843E38D4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CE2D-E6D7-43FA-9D57-59452B20F5B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6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 type="sldNum" idx="30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1E6C-2F65-4289-BE29-FA672008734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sldNum" idx="32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679F-269A-4939-8190-722AB6827755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sldNum" idx="34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E72D-273A-49F9-919F-39C05F6C12D7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5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6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094C-7645-41C7-B2A0-4ED9E224328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0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sldNum" idx="38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081D-8DB6-4152-933B-2205F424D183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Orange outline.jpg"/>
          <p:cNvPicPr/>
          <p:nvPr/>
        </p:nvPicPr>
        <p:blipFill>
          <a:blip r:embed="rId3"/>
          <a:stretch/>
        </p:blipFill>
        <p:spPr>
          <a:xfrm>
            <a:off x="7439040" y="6043680"/>
            <a:ext cx="1425600" cy="585720"/>
          </a:xfrm>
          <a:prstGeom prst="rect">
            <a:avLst/>
          </a:prstGeom>
          <a:ln w="0">
            <a:noFill/>
          </a:ln>
        </p:spPr>
      </p:pic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292929"/>
                </a:solidFill>
                <a:latin typeface="Segoe U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92929"/>
                </a:solidFill>
                <a:latin typeface="Segoe UI"/>
                <a:ea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 type="sldNum" idx="4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88B9-2033-4A31-B5B8-FA2269BE84E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7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8BC3-7E32-44FA-A8C7-B5813B72A7D2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606680" y="0"/>
            <a:ext cx="29196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1347840"/>
            <a:ext cx="20628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egoe U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8953560" y="5303880"/>
            <a:ext cx="190440" cy="47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606680" y="6273720"/>
            <a:ext cx="126972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C:\Documents and Settings\rob.morrison\Desktop\PiL_PPT\Picture 20.png"/>
          <p:cNvPicPr/>
          <p:nvPr/>
        </p:nvPicPr>
        <p:blipFill>
          <a:blip r:embed="rId3"/>
          <a:stretch/>
        </p:blipFill>
        <p:spPr>
          <a:xfrm>
            <a:off x="4054320" y="573120"/>
            <a:ext cx="4557960" cy="3929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Blue_Background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yellow-square.png"/>
          <p:cNvPicPr/>
          <p:nvPr/>
        </p:nvPicPr>
        <p:blipFill>
          <a:blip r:embed="rId5">
            <a:lum bright="-6000"/>
          </a:blip>
          <a:stretch/>
        </p:blipFill>
        <p:spPr>
          <a:xfrm>
            <a:off x="2876400" y="368280"/>
            <a:ext cx="1722600" cy="18334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M:\Public Sector\FY10 Active Jobs\SLX00019_PiL_More Templates\STUDIO\Print\PiL_PPT\Partners-in-Learning_2_bL_r.png"/>
          <p:cNvPicPr/>
          <p:nvPr/>
        </p:nvPicPr>
        <p:blipFill>
          <a:blip r:embed="rId6"/>
          <a:stretch/>
        </p:blipFill>
        <p:spPr>
          <a:xfrm>
            <a:off x="339840" y="6146640"/>
            <a:ext cx="1766880" cy="4082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9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2605-C991-4BBE-98C6-926D6B055D39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" descr="circles-yellow.png"/>
          <p:cNvPicPr/>
          <p:nvPr/>
        </p:nvPicPr>
        <p:blipFill>
          <a:blip r:embed="rId3"/>
          <a:stretch/>
        </p:blipFill>
        <p:spPr>
          <a:xfrm>
            <a:off x="7831080" y="3637080"/>
            <a:ext cx="1135080" cy="2262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sldNum" idx="11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18F6-45F7-474B-99C4-6BA252FF1F3A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5" descr="yellow-square.png"/>
          <p:cNvPicPr/>
          <p:nvPr/>
        </p:nvPicPr>
        <p:blipFill>
          <a:blip r:embed="rId3"/>
          <a:stretch/>
        </p:blipFill>
        <p:spPr>
          <a:xfrm>
            <a:off x="6622920" y="3687840"/>
            <a:ext cx="1987560" cy="21175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3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834A-C938-4096-8A3E-3EB21F05BB4C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\\SERVER3\InternalBin\Resource DVD\DVD_ART36\Logos\MICROSOFT (brand)\Microsoft corporate Logo Black MS generic brand.png"/>
          <p:cNvPicPr/>
          <p:nvPr/>
        </p:nvPicPr>
        <p:blipFill>
          <a:blip r:embed="rId3"/>
          <a:stretch/>
        </p:blipFill>
        <p:spPr>
          <a:xfrm>
            <a:off x="7950240" y="6391440"/>
            <a:ext cx="877680" cy="14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506160"/>
            <a:ext cx="838224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292929"/>
                </a:solidFill>
                <a:latin typeface="微软雅黑"/>
              </a:rPr>
              <a:t>Click to edit the title text format</a:t>
            </a:r>
            <a:endParaRPr b="0" lang="en-US" sz="40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83760" y="1440000"/>
            <a:ext cx="838188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5760" indent="-455760">
              <a:lnSpc>
                <a:spcPct val="90000"/>
              </a:lnSpc>
              <a:spcBef>
                <a:spcPts val="799"/>
              </a:spcBef>
              <a:buClr>
                <a:srgbClr val="5990ca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1" marL="847080" indent="-39132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‒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2" marL="1246320" indent="-39888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Font typeface="Segoe UI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Clr>
                <a:srgbClr val="292929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微软雅黑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5"/>
          </p:nvPr>
        </p:nvSpPr>
        <p:spPr>
          <a:xfrm>
            <a:off x="123840" y="6356520"/>
            <a:ext cx="60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7D55-9846-412B-85CF-09ACD7032B9B}" type="slidenum">
              <a:rPr b="0" lang="en-US" sz="1200" spc="-1" strike="noStrike">
                <a:solidFill>
                  <a:srgbClr val="292929"/>
                </a:solidFill>
                <a:latin typeface="微软雅黑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TextBox 3"/>
          <p:cNvSpPr/>
          <p:nvPr/>
        </p:nvSpPr>
        <p:spPr>
          <a:xfrm>
            <a:off x="1867680" y="857160"/>
            <a:ext cx="5423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卡通幻灯片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学习的校园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圆角矩形标注 5"/>
          <p:cNvSpPr/>
          <p:nvPr/>
        </p:nvSpPr>
        <p:spPr>
          <a:xfrm>
            <a:off x="1714680" y="3429000"/>
            <a:ext cx="1285560" cy="285840"/>
          </a:xfrm>
          <a:prstGeom prst="wedgeRoundRectCallout">
            <a:avLst>
              <a:gd name="adj1" fmla="val -33319"/>
              <a:gd name="adj2" fmla="val 92958"/>
              <a:gd name="adj3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5400000"/>
          </a:gradFill>
          <a:ln w="0">
            <a:noFill/>
          </a:ln>
          <a:effectLst>
            <a:outerShdw dist="20160" dir="5400000" blurRad="0" rotWithShape="0">
              <a:srgbClr val="000000">
                <a:alpha val="3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1121400" y="2276640"/>
            <a:ext cx="37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矩形 5"/>
          <p:cNvSpPr/>
          <p:nvPr/>
        </p:nvSpPr>
        <p:spPr>
          <a:xfrm>
            <a:off x="6308640" y="4218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그룹 27"/>
          <p:cNvGrpSpPr/>
          <p:nvPr/>
        </p:nvGrpSpPr>
        <p:grpSpPr>
          <a:xfrm>
            <a:off x="1981080" y="1558800"/>
            <a:ext cx="5543640" cy="3814920"/>
            <a:chOff x="1981080" y="1558800"/>
            <a:chExt cx="5543640" cy="3814920"/>
          </a:xfrm>
        </p:grpSpPr>
        <p:sp>
          <p:nvSpPr>
            <p:cNvPr id="1182" name="AutoShape 38"/>
            <p:cNvSpPr/>
            <p:nvPr/>
          </p:nvSpPr>
          <p:spPr>
            <a:xfrm>
              <a:off x="1981080" y="15588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AutoShape 39"/>
            <p:cNvSpPr/>
            <p:nvPr/>
          </p:nvSpPr>
          <p:spPr>
            <a:xfrm>
              <a:off x="2022120" y="1607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WordArt 40"/>
            <p:cNvSpPr txBox="1"/>
            <p:nvPr/>
          </p:nvSpPr>
          <p:spPr>
            <a:xfrm>
              <a:off x="2231640" y="174276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85" name="WordArt 41"/>
            <p:cNvSpPr txBox="1"/>
            <p:nvPr/>
          </p:nvSpPr>
          <p:spPr>
            <a:xfrm>
              <a:off x="4147920" y="180468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86" name="Line 42"/>
            <p:cNvSpPr/>
            <p:nvPr/>
          </p:nvSpPr>
          <p:spPr>
            <a:xfrm flipH="1">
              <a:off x="3996720" y="1784160"/>
              <a:ext cx="4680" cy="2044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AutoShape 43"/>
            <p:cNvSpPr/>
            <p:nvPr/>
          </p:nvSpPr>
          <p:spPr>
            <a:xfrm>
              <a:off x="1981080" y="2357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AutoShape 44"/>
            <p:cNvSpPr/>
            <p:nvPr/>
          </p:nvSpPr>
          <p:spPr>
            <a:xfrm>
              <a:off x="2030040" y="24192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WordArt 45"/>
            <p:cNvSpPr txBox="1"/>
            <p:nvPr/>
          </p:nvSpPr>
          <p:spPr>
            <a:xfrm>
              <a:off x="2231640" y="254304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0" name="WordArt 46"/>
            <p:cNvSpPr txBox="1"/>
            <p:nvPr/>
          </p:nvSpPr>
          <p:spPr>
            <a:xfrm>
              <a:off x="4147920" y="260316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1" name="Line 47"/>
            <p:cNvSpPr/>
            <p:nvPr/>
          </p:nvSpPr>
          <p:spPr>
            <a:xfrm>
              <a:off x="3997080" y="254304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AutoShape 48"/>
            <p:cNvSpPr/>
            <p:nvPr/>
          </p:nvSpPr>
          <p:spPr>
            <a:xfrm>
              <a:off x="1981080" y="315900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AutoShape 49"/>
            <p:cNvSpPr/>
            <p:nvPr/>
          </p:nvSpPr>
          <p:spPr>
            <a:xfrm>
              <a:off x="2030040" y="322092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WordArt 50"/>
            <p:cNvSpPr txBox="1"/>
            <p:nvPr/>
          </p:nvSpPr>
          <p:spPr>
            <a:xfrm>
              <a:off x="2231640" y="3344760"/>
              <a:ext cx="1612800" cy="24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195" name="WordArt 51"/>
            <p:cNvSpPr txBox="1"/>
            <p:nvPr/>
          </p:nvSpPr>
          <p:spPr>
            <a:xfrm>
              <a:off x="4147920" y="340524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196" name="Line 52"/>
            <p:cNvSpPr/>
            <p:nvPr/>
          </p:nvSpPr>
          <p:spPr>
            <a:xfrm>
              <a:off x="3997080" y="3344760"/>
              <a:ext cx="0" cy="24444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AutoShape 53"/>
            <p:cNvSpPr/>
            <p:nvPr/>
          </p:nvSpPr>
          <p:spPr>
            <a:xfrm>
              <a:off x="1981080" y="395928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AutoShape 54"/>
            <p:cNvSpPr/>
            <p:nvPr/>
          </p:nvSpPr>
          <p:spPr>
            <a:xfrm>
              <a:off x="2030040" y="4019400"/>
              <a:ext cx="544536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WordArt 55"/>
            <p:cNvSpPr txBox="1"/>
            <p:nvPr/>
          </p:nvSpPr>
          <p:spPr>
            <a:xfrm>
              <a:off x="2231640" y="414360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0" name="WordArt 56"/>
            <p:cNvSpPr txBox="1"/>
            <p:nvPr/>
          </p:nvSpPr>
          <p:spPr>
            <a:xfrm>
              <a:off x="4147920" y="4203720"/>
              <a:ext cx="1512720" cy="12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1" name="Line 57"/>
            <p:cNvSpPr/>
            <p:nvPr/>
          </p:nvSpPr>
          <p:spPr>
            <a:xfrm>
              <a:off x="3997080" y="414324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AutoShape 58"/>
            <p:cNvSpPr/>
            <p:nvPr/>
          </p:nvSpPr>
          <p:spPr>
            <a:xfrm>
              <a:off x="1981080" y="4759560"/>
              <a:ext cx="554364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AutoShape 59"/>
            <p:cNvSpPr/>
            <p:nvPr/>
          </p:nvSpPr>
          <p:spPr>
            <a:xfrm>
              <a:off x="2030040" y="4784760"/>
              <a:ext cx="544536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WordArt 60"/>
            <p:cNvSpPr txBox="1"/>
            <p:nvPr/>
          </p:nvSpPr>
          <p:spPr>
            <a:xfrm>
              <a:off x="2231640" y="4943520"/>
              <a:ext cx="1612800" cy="24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ln w="0">
                    <a:noFill/>
                  </a:ln>
                  <a:solidFill>
                    <a:srgbClr val="333333"/>
                  </a:solidFill>
                  <a:latin typeface="Arial Black"/>
                </a:rPr>
                <a:t>TITLE LIST</a:t>
              </a:r>
              <a:endParaRPr b="0" lang="en-US" sz="1400" spc="-1" strike="noStrike">
                <a:ln w="0">
                  <a:noFill/>
                </a:ln>
                <a:solidFill>
                  <a:srgbClr val="333333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205" name="WordArt 61"/>
            <p:cNvSpPr txBox="1"/>
            <p:nvPr/>
          </p:nvSpPr>
          <p:spPr>
            <a:xfrm>
              <a:off x="4147920" y="5005440"/>
              <a:ext cx="1512720" cy="1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ln w="0">
                    <a:noFill/>
                  </a:ln>
                  <a:solidFill>
                    <a:srgbClr val="333333"/>
                  </a:solidFill>
                  <a:latin typeface="Arial"/>
                </a:rPr>
                <a:t>CLICK TO ADD TITLE LIST !</a:t>
              </a:r>
              <a:endParaRPr b="0" lang="en-US" sz="800" spc="-1" strike="noStrike">
                <a:ln w="0">
                  <a:noFill/>
                </a:ln>
                <a:solidFill>
                  <a:srgbClr val="333333"/>
                </a:solidFill>
                <a:latin typeface="Arial"/>
                <a:ea typeface="Arial"/>
              </a:endParaRPr>
            </a:p>
          </p:txBody>
        </p:sp>
        <p:sp>
          <p:nvSpPr>
            <p:cNvPr id="1206" name="Line 62"/>
            <p:cNvSpPr/>
            <p:nvPr/>
          </p:nvSpPr>
          <p:spPr>
            <a:xfrm>
              <a:off x="3997080" y="4943520"/>
              <a:ext cx="0" cy="24588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그룹 54"/>
          <p:cNvGrpSpPr/>
          <p:nvPr/>
        </p:nvGrpSpPr>
        <p:grpSpPr>
          <a:xfrm>
            <a:off x="1052640" y="1558800"/>
            <a:ext cx="785520" cy="3814920"/>
            <a:chOff x="1052640" y="1558800"/>
            <a:chExt cx="785520" cy="3814920"/>
          </a:xfrm>
        </p:grpSpPr>
        <p:sp>
          <p:nvSpPr>
            <p:cNvPr id="1208" name="AutoShape 38"/>
            <p:cNvSpPr/>
            <p:nvPr/>
          </p:nvSpPr>
          <p:spPr>
            <a:xfrm>
              <a:off x="1052640" y="15588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cae2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AutoShape 39"/>
            <p:cNvSpPr/>
            <p:nvPr/>
          </p:nvSpPr>
          <p:spPr>
            <a:xfrm>
              <a:off x="1058760" y="1607760"/>
              <a:ext cx="77148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AutoShape 43"/>
            <p:cNvSpPr/>
            <p:nvPr/>
          </p:nvSpPr>
          <p:spPr>
            <a:xfrm>
              <a:off x="1052640" y="2357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85d5d7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AutoShape 44"/>
            <p:cNvSpPr/>
            <p:nvPr/>
          </p:nvSpPr>
          <p:spPr>
            <a:xfrm>
              <a:off x="1058760" y="24192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AutoShape 48"/>
            <p:cNvSpPr/>
            <p:nvPr/>
          </p:nvSpPr>
          <p:spPr>
            <a:xfrm>
              <a:off x="1052640" y="315900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f8cb9a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AutoShape 49"/>
            <p:cNvSpPr/>
            <p:nvPr/>
          </p:nvSpPr>
          <p:spPr>
            <a:xfrm>
              <a:off x="1058760" y="322092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AutoShape 53"/>
            <p:cNvSpPr/>
            <p:nvPr/>
          </p:nvSpPr>
          <p:spPr>
            <a:xfrm>
              <a:off x="1052640" y="395928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b5d280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AutoShape 54"/>
            <p:cNvSpPr/>
            <p:nvPr/>
          </p:nvSpPr>
          <p:spPr>
            <a:xfrm>
              <a:off x="1058760" y="4019400"/>
              <a:ext cx="772920" cy="49212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AutoShape 58"/>
            <p:cNvSpPr/>
            <p:nvPr/>
          </p:nvSpPr>
          <p:spPr>
            <a:xfrm>
              <a:off x="1052640" y="4759560"/>
              <a:ext cx="785520" cy="614160"/>
            </a:xfrm>
            <a:prstGeom prst="roundRect">
              <a:avLst>
                <a:gd name="adj" fmla="val 14801"/>
              </a:avLst>
            </a:prstGeom>
            <a:solidFill>
              <a:srgbClr val="70b8ff"/>
            </a:solidFill>
            <a:ln w="0">
              <a:noFill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AutoShape 59"/>
            <p:cNvSpPr/>
            <p:nvPr/>
          </p:nvSpPr>
          <p:spPr>
            <a:xfrm>
              <a:off x="1058760" y="4784760"/>
              <a:ext cx="772920" cy="493560"/>
            </a:xfrm>
            <a:prstGeom prst="roundRect">
              <a:avLst>
                <a:gd name="adj" fmla="val 11028"/>
              </a:avLst>
            </a:prstGeom>
            <a:gradFill rotWithShape="0">
              <a:gsLst>
                <a:gs pos="0">
                  <a:srgbClr val="ffffff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8" name="TextBox 56"/>
          <p:cNvSpPr/>
          <p:nvPr/>
        </p:nvSpPr>
        <p:spPr>
          <a:xfrm>
            <a:off x="1247760" y="1566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Box 57"/>
          <p:cNvSpPr/>
          <p:nvPr/>
        </p:nvSpPr>
        <p:spPr>
          <a:xfrm>
            <a:off x="1247760" y="24004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Box 58"/>
          <p:cNvSpPr/>
          <p:nvPr/>
        </p:nvSpPr>
        <p:spPr>
          <a:xfrm>
            <a:off x="1247760" y="31813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TextBox 59"/>
          <p:cNvSpPr/>
          <p:nvPr/>
        </p:nvSpPr>
        <p:spPr>
          <a:xfrm>
            <a:off x="1247760" y="398772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TextBox 60"/>
          <p:cNvSpPr/>
          <p:nvPr/>
        </p:nvSpPr>
        <p:spPr>
          <a:xfrm>
            <a:off x="1247760" y="47750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Times New Roman"/>
                <a:ea typeface="Gulim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矩形 1"/>
          <p:cNvSpPr/>
          <p:nvPr/>
        </p:nvSpPr>
        <p:spPr>
          <a:xfrm>
            <a:off x="539640" y="144468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矩形 2"/>
          <p:cNvSpPr/>
          <p:nvPr/>
        </p:nvSpPr>
        <p:spPr>
          <a:xfrm>
            <a:off x="522360" y="1125360"/>
            <a:ext cx="81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请输入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" descr=""/>
          <p:cNvPicPr/>
          <p:nvPr/>
        </p:nvPicPr>
        <p:blipFill>
          <a:blip r:embed="rId2"/>
          <a:stretch/>
        </p:blipFill>
        <p:spPr>
          <a:xfrm>
            <a:off x="2341440" y="2419200"/>
            <a:ext cx="4924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E61-C17A-4C11-950D-3A1FFC942E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5T08:16:02Z</dcterms:created>
  <dc:creator>An</dc:creator>
  <dc:description/>
  <dc:language>en-US</dc:language>
  <cp:lastModifiedBy/>
  <dcterms:modified xsi:type="dcterms:W3CDTF">2015-07-04T09:14:19Z</dcterms:modified>
  <cp:revision>2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