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0D7-A041-47C5-9C9C-8DA917CE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4103-3D11-471C-B12B-5DB4A8A4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11C9-63AE-4B1C-8ACC-27CE0308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C6C-3DA9-462F-A4DC-DB237165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C34C-2FC2-4058-B66A-B879431D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943-14C1-4B81-AB1F-904BF292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7F1-11AC-49F0-B447-8857F820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596E-0601-4A9D-96D3-06A19214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B0BC-1ECD-4906-B744-02616ADD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C6E-12CF-4101-8248-D10AA117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1E30-C5C5-4734-BFF9-5F91D77C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5FDA-CC29-4DF0-A9E7-8E47D90F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1562-8986-40B5-A01D-B62B05D6B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3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dd5807"/>
                </a:solidFill>
                <a:latin typeface="Calibri"/>
              </a:rPr>
              <a:t>万圣节南瓜</a:t>
            </a:r>
            <a:r>
              <a:rPr b="0" lang="zh-CN" sz="4400" spc="-1" strike="noStrike">
                <a:solidFill>
                  <a:srgbClr val="dd5807"/>
                </a:solidFill>
                <a:latin typeface="Calibri"/>
                <a:ea typeface="宋体"/>
              </a:rPr>
              <a:t>PPT</a:t>
            </a:r>
            <a:r>
              <a:rPr b="0" lang="fr-CA" sz="4400" spc="-1" strike="noStrike">
                <a:solidFill>
                  <a:srgbClr val="dd5807"/>
                </a:solidFill>
                <a:latin typeface="Calibri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494080"/>
            <a:ext cx="57214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5807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dd5807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5807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998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5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14720" y="27432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5807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1472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5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5807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998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5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809640" y="1587600"/>
            <a:ext cx="599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5807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998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5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CA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CA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0451-B0FA-4ADF-BA21-5BFD9A697B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2:32:40Z</dcterms:created>
  <dc:creator>Admin</dc:creator>
  <dc:description/>
  <dc:language>en-US</dc:language>
  <cp:lastModifiedBy>Admin</cp:lastModifiedBy>
  <dcterms:modified xsi:type="dcterms:W3CDTF">2015-07-04T08:16:40Z</dcterms:modified>
  <cp:revision>1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