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6920" y="481680"/>
            <a:ext cx="676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6337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55640" y="3600000"/>
            <a:ext cx="6337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481680"/>
            <a:ext cx="676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30924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03200" y="1267920"/>
            <a:ext cx="30924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5640" y="3600000"/>
            <a:ext cx="30924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03200" y="3600000"/>
            <a:ext cx="30924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6920" y="481680"/>
            <a:ext cx="676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204048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98360" y="1267920"/>
            <a:ext cx="204048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1440" y="1267920"/>
            <a:ext cx="204048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55640" y="3600000"/>
            <a:ext cx="204048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898360" y="3600000"/>
            <a:ext cx="204048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41440" y="3600000"/>
            <a:ext cx="204048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481680"/>
            <a:ext cx="676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55640" y="1267920"/>
            <a:ext cx="633744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481680"/>
            <a:ext cx="676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6337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481680"/>
            <a:ext cx="676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309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03200" y="1267920"/>
            <a:ext cx="309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920" y="481680"/>
            <a:ext cx="676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26920" y="549000"/>
            <a:ext cx="6769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481680"/>
            <a:ext cx="676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30924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03200" y="1267920"/>
            <a:ext cx="309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55640" y="3600000"/>
            <a:ext cx="30924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481680"/>
            <a:ext cx="676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55640" y="1267920"/>
            <a:ext cx="633744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481680"/>
            <a:ext cx="676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309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03200" y="1267920"/>
            <a:ext cx="30924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003200" y="3600000"/>
            <a:ext cx="30924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920" y="481680"/>
            <a:ext cx="676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30924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03200" y="1267920"/>
            <a:ext cx="30924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55640" y="3600000"/>
            <a:ext cx="6337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481680"/>
            <a:ext cx="676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6337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55640" y="3600000"/>
            <a:ext cx="6337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481680"/>
            <a:ext cx="676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30924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03200" y="1267920"/>
            <a:ext cx="30924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55640" y="3600000"/>
            <a:ext cx="30924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003200" y="3600000"/>
            <a:ext cx="30924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920" y="481680"/>
            <a:ext cx="676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204048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98360" y="1267920"/>
            <a:ext cx="204048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41440" y="1267920"/>
            <a:ext cx="204048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55640" y="3600000"/>
            <a:ext cx="204048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898360" y="3600000"/>
            <a:ext cx="204048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041440" y="3600000"/>
            <a:ext cx="204048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26920" y="481680"/>
            <a:ext cx="676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6337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6920" y="481680"/>
            <a:ext cx="676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309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03200" y="1267920"/>
            <a:ext cx="309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481680"/>
            <a:ext cx="676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26920" y="549000"/>
            <a:ext cx="6769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481680"/>
            <a:ext cx="676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30924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03200" y="1267920"/>
            <a:ext cx="309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55640" y="3600000"/>
            <a:ext cx="30924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920" y="481680"/>
            <a:ext cx="676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309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03200" y="1267920"/>
            <a:ext cx="30924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03200" y="3600000"/>
            <a:ext cx="30924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920" y="481680"/>
            <a:ext cx="676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30924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03200" y="1267920"/>
            <a:ext cx="309240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3600000"/>
            <a:ext cx="6337440" cy="21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6769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267920"/>
            <a:ext cx="6337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5562720"/>
            <a:ext cx="6481800" cy="89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92360" y="1805040"/>
            <a:ext cx="5040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温馨家居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38320" y="285444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482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09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  <a:ea typeface="Gulim"/>
              </a:rPr>
              <a:t>Your Text her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请输入文字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请输入文字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  <a:ea typeface="Gulim"/>
              </a:rPr>
              <a:t>.</a:t>
            </a:r>
            <a:r>
              <a:rPr b="0" lang="ru-RU" sz="2000" spc="-1" strike="noStrike">
                <a:solidFill>
                  <a:srgbClr val="080808"/>
                </a:solidFill>
                <a:latin typeface="Verdana"/>
                <a:ea typeface="Gulim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056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8000" y="1125000"/>
            <a:ext cx="7056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ru-RU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ru-RU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8219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4:00:48Z</dcterms:created>
  <dc:creator/>
  <dc:description/>
  <dc:language>en-US</dc:language>
  <cp:lastModifiedBy>a</cp:lastModifiedBy>
  <dcterms:modified xsi:type="dcterms:W3CDTF">2015-07-04T08:02:46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