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1608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CF0-DC5A-4EFD-9B3A-A71EEE33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EE3-38A8-4191-9C44-FDEBD676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39C-6834-41DC-B113-0465D217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338-52D1-4CB4-AB07-F35BF78C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ED19-5ECD-4C6D-8987-CAAFCB99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760" y="8571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C83-D105-4246-8584-494CC4F1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2B8-BD42-4BBD-A0F4-B4E1132E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D7F-1FAD-4D09-A07A-F231ABFE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5D6-FABC-49D8-8A1D-385F06F6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1608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2B3-2F67-4A7C-B875-435A0E33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720-D368-48C0-9704-44E3D55D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0DF-6068-4A91-8F41-651D2C1D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8760" y="8571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1608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197E-5543-4189-ACEF-2E49EF55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8AFB-3A57-4C41-BB75-2616FDA7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86A6-0CD0-4163-9C0D-96CE847F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9556-A60C-4385-BBD4-99BDA584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F03D-7D8A-4525-9850-C74F9080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8760" y="8571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C7C2-DE88-4104-9B2E-857B0D30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CD20-BCC4-49BE-959A-6A34C69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ABC2-766C-49BE-8A36-6D268AD4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F3A0-FABE-45FF-8F62-A2FD831D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1608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BDDC-78E8-4A08-A565-22315D48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C772-2CA5-4944-B33B-C580C6F5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71432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16080"/>
            <a:ext cx="264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C7DB-A028-44D4-8C58-B112C0F7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760" y="8571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1608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4320"/>
            <a:ext cx="40158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16080"/>
            <a:ext cx="8229600" cy="20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6480" y="5784840"/>
            <a:ext cx="3408480" cy="1092240"/>
            <a:chOff x="-6480" y="5784840"/>
            <a:chExt cx="3408480" cy="1092240"/>
          </a:xfrm>
        </p:grpSpPr>
        <p:pic>
          <p:nvPicPr>
            <p:cNvPr id="2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84840"/>
              <a:ext cx="340848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283320" y="6421320"/>
              <a:ext cx="16970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直接连接符 14" descr=""/>
          <p:cNvPicPr/>
          <p:nvPr/>
        </p:nvPicPr>
        <p:blipFill>
          <a:blip r:embed="rId3"/>
          <a:stretch/>
        </p:blipFill>
        <p:spPr>
          <a:xfrm>
            <a:off x="-12600" y="5772240"/>
            <a:ext cx="3414600" cy="1109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C475-2418-4371-8254-DD2AAA3217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角三角形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4946760"/>
            <a:ext cx="9147240" cy="1911240"/>
            <a:chOff x="0" y="4946760"/>
            <a:chExt cx="9147240" cy="1911240"/>
          </a:xfrm>
        </p:grpSpPr>
        <p:sp>
          <p:nvSpPr>
            <p:cNvPr id="86" name="任意多边形 11"/>
            <p:cNvSpPr/>
            <p:nvPr/>
          </p:nvSpPr>
          <p:spPr>
            <a:xfrm>
              <a:off x="1693800" y="4946760"/>
              <a:ext cx="7444440" cy="485640"/>
            </a:xfrm>
            <a:prstGeom prst="pie">
              <a:avLst/>
            </a:pr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16"/>
            <p:cNvSpPr/>
            <p:nvPr/>
          </p:nvSpPr>
          <p:spPr>
            <a:xfrm>
              <a:off x="45360" y="5229720"/>
              <a:ext cx="909288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5760" y="4986360"/>
              <a:ext cx="9141480" cy="1871640"/>
              <a:chOff x="5760" y="4986360"/>
              <a:chExt cx="9141480" cy="1871640"/>
            </a:xfrm>
          </p:grpSpPr>
          <p:pic>
            <p:nvPicPr>
              <p:cNvPr id="89" name="任意多边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576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936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直接连接符 18" descr=""/>
            <p:cNvPicPr/>
            <p:nvPr/>
          </p:nvPicPr>
          <p:blipFill>
            <a:blip r:embed="rId3"/>
            <a:stretch/>
          </p:blipFill>
          <p:spPr>
            <a:xfrm>
              <a:off x="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任意多边形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-6480" y="5784840"/>
            <a:ext cx="3408480" cy="1092240"/>
            <a:chOff x="-6480" y="5784840"/>
            <a:chExt cx="3408480" cy="1092240"/>
          </a:xfrm>
        </p:grpSpPr>
        <p:pic>
          <p:nvPicPr>
            <p:cNvPr id="132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6480" y="5784840"/>
              <a:ext cx="340848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83320" y="6421320"/>
              <a:ext cx="16970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直接连接符 14" descr=""/>
          <p:cNvPicPr/>
          <p:nvPr/>
        </p:nvPicPr>
        <p:blipFill>
          <a:blip r:embed="rId3"/>
          <a:stretch/>
        </p:blipFill>
        <p:spPr>
          <a:xfrm>
            <a:off x="-12600" y="5772240"/>
            <a:ext cx="3414600" cy="11095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SzPct val="68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7fd13b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071600" y="6215040"/>
            <a:ext cx="19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E275-997B-414C-964E-6EEF1290156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oogle.cn/support/webmasters/bin/answer.py?answer=70897&amp;src=top5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moban/jiaoyu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oogle.cn/support/webmasters/bin/answer.py?answer=70897&amp;src=top5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google.cn/support/webmasters/bin/answer.py?answer=49215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oogle.cn/support/webmasters/bin/answer.py?answer=70897&amp;src=top5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285920" y="4071960"/>
            <a:ext cx="6480000" cy="203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5b6f"/>
                </a:solidFill>
                <a:latin typeface="Lucida Sans Unicode"/>
              </a:rPr>
              <a:t>北京清大燕园教育研究院  清大燕园（北京）教育科技中心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5b6f"/>
                </a:solidFill>
                <a:latin typeface="Lucida Sans Unicode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4859280" y="27147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核心教程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绝密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11"/>
          <p:cNvSpPr/>
          <p:nvPr/>
        </p:nvSpPr>
        <p:spPr>
          <a:xfrm>
            <a:off x="4572000" y="2924280"/>
            <a:ext cx="714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917720"/>
            <a:ext cx="7201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c3300"/>
                </a:solidFill>
                <a:latin typeface="Arial"/>
              </a:rPr>
              <a:t>网站推广高级培训教程</a:t>
            </a:r>
            <a:r>
              <a:rPr b="1" lang="en-US" sz="4500" spc="-1" strike="noStrike">
                <a:solidFill>
                  <a:srgbClr val="cc3300"/>
                </a:solidFill>
                <a:latin typeface="Arial"/>
              </a:rPr>
              <a:t>PP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89000" y="781200"/>
            <a:ext cx="8474040" cy="1054080"/>
            <a:chOff x="189000" y="781200"/>
            <a:chExt cx="8474040" cy="1054080"/>
          </a:xfrm>
        </p:grpSpPr>
        <p:pic>
          <p:nvPicPr>
            <p:cNvPr id="214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781200"/>
              <a:ext cx="8474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 txBox="1"/>
            <p:nvPr/>
          </p:nvSpPr>
          <p:spPr>
            <a:xfrm>
              <a:off x="189000" y="781200"/>
              <a:ext cx="8474040" cy="10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16" name=""/>
          <p:cNvSpPr txBox="1"/>
          <p:nvPr/>
        </p:nvSpPr>
        <p:spPr>
          <a:xfrm>
            <a:off x="457200" y="17143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“抓取”的重要信息解读：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3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抓取列表”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依赖于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算法流程”，列表中列出网页地址的多少、什么时候来抓取、抓取多少依赖于“算法流程”中的“抓取频率、抓取数量”的规定；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89000" y="781200"/>
            <a:ext cx="8474040" cy="1054080"/>
            <a:chOff x="189000" y="781200"/>
            <a:chExt cx="8474040" cy="1054080"/>
          </a:xfrm>
        </p:grpSpPr>
        <p:pic>
          <p:nvPicPr>
            <p:cNvPr id="218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781200"/>
              <a:ext cx="8474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 txBox="1"/>
            <p:nvPr/>
          </p:nvSpPr>
          <p:spPr>
            <a:xfrm>
              <a:off x="189000" y="781200"/>
              <a:ext cx="8474040" cy="10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20" name=""/>
          <p:cNvSpPr txBox="1"/>
          <p:nvPr/>
        </p:nvSpPr>
        <p:spPr>
          <a:xfrm>
            <a:off x="468360" y="16999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省略，正式课程中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89000" y="781200"/>
            <a:ext cx="8474040" cy="1054080"/>
            <a:chOff x="189000" y="781200"/>
            <a:chExt cx="8474040" cy="1054080"/>
          </a:xfrm>
        </p:grpSpPr>
        <p:pic>
          <p:nvPicPr>
            <p:cNvPr id="222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781200"/>
              <a:ext cx="8474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189000" y="781200"/>
              <a:ext cx="8474040" cy="10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24" name=""/>
          <p:cNvSpPr txBox="1"/>
          <p:nvPr/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“抓取”的重要信息解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“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抓取频率、抓取数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这是我们需要持续关注并不断实践的方向，所谓“雁过留声”，搜索引擎的任何算法、行为都会为我们留下痕迹的，只要我们寻着痕迹有目的的去实践，就一定有发现；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关于收录方面，我们做了大量的实践工作，并且取得了非常显著的效果，在接下来的内容中我们将作为</a:t>
            </a: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搜索引擎优化“系统工程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非常重要的一个环节来展开讲解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89000" y="853920"/>
            <a:ext cx="8474040" cy="1054080"/>
            <a:chOff x="189000" y="853920"/>
            <a:chExt cx="8474040" cy="1054080"/>
          </a:xfrm>
        </p:grpSpPr>
        <p:pic>
          <p:nvPicPr>
            <p:cNvPr id="226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853920"/>
              <a:ext cx="8474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 txBox="1"/>
            <p:nvPr/>
          </p:nvSpPr>
          <p:spPr>
            <a:xfrm>
              <a:off x="189000" y="853920"/>
              <a:ext cx="8474040" cy="10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28" name=""/>
          <p:cNvSpPr txBox="1"/>
          <p:nvPr/>
        </p:nvSpPr>
        <p:spPr>
          <a:xfrm>
            <a:off x="428760" y="178596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第一步：抓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f75"/>
                </a:solidFill>
                <a:latin typeface="Lucida Sans Unicode"/>
              </a:rPr>
              <a:t>第二步：编制索引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第三步：提供搜索结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</a:rPr>
              <a:t>引自：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100" spc="-1" strike="noStrike" u="sng">
                <a:solidFill>
                  <a:srgbClr val="eb8803"/>
                </a:solidFill>
                <a:uFillTx/>
                <a:latin typeface="Lucida Sans Unicode"/>
                <a:hlinkClick r:id="rId2"/>
              </a:rPr>
              <a:t>http://www.google.cn/support/webmasters/bin/answer.py?answer=70897&amp;src=top5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189000" y="853920"/>
            <a:ext cx="8474040" cy="1054080"/>
            <a:chOff x="189000" y="853920"/>
            <a:chExt cx="8474040" cy="1054080"/>
          </a:xfrm>
        </p:grpSpPr>
        <p:pic>
          <p:nvPicPr>
            <p:cNvPr id="230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853920"/>
              <a:ext cx="8474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 txBox="1"/>
            <p:nvPr/>
          </p:nvSpPr>
          <p:spPr>
            <a:xfrm>
              <a:off x="189000" y="853920"/>
              <a:ext cx="8474040" cy="10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第二步：编制索引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ooglebot 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处理所抓取的每个网页，以便将其看到的所有</a:t>
            </a:r>
            <a:r>
              <a:rPr b="1" lang="zh-CN" sz="1800" spc="-1" strike="noStrike">
                <a:solidFill>
                  <a:srgbClr val="c00000"/>
                </a:solidFill>
                <a:latin typeface="Lucida Sans Unicode"/>
              </a:rPr>
              <a:t>字词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和每个网页的</a:t>
            </a:r>
            <a:r>
              <a:rPr b="1" lang="zh-CN" sz="1800" spc="-1" strike="noStrike">
                <a:solidFill>
                  <a:srgbClr val="c00000"/>
                </a:solidFill>
                <a:latin typeface="Lucida Sans Unicode"/>
              </a:rPr>
              <a:t>位置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编制到大型索引中。此外，我们还处理包含于</a:t>
            </a:r>
            <a:r>
              <a:rPr b="0" lang="zh-CN" sz="1800" spc="-1" strike="noStrike">
                <a:solidFill>
                  <a:srgbClr val="c00000"/>
                </a:solidFill>
                <a:latin typeface="Lucida Sans Unicode"/>
              </a:rPr>
              <a:t>关键内容标记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和</a:t>
            </a:r>
            <a:r>
              <a:rPr b="0" lang="zh-CN" sz="1800" spc="-1" strike="noStrike">
                <a:solidFill>
                  <a:srgbClr val="c00000"/>
                </a:solidFill>
                <a:latin typeface="Lucida Sans Unicode"/>
              </a:rPr>
              <a:t>属性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中的信息，例如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itle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（标题）标记和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LT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（替代）属性。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ooglebot 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可以处理许多（但不是全部）类型的内容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Tip</a:t>
            </a:r>
            <a:r>
              <a:rPr b="1" lang="zh-CN" sz="1800" spc="-1" strike="noStrike">
                <a:solidFill>
                  <a:srgbClr val="ff0000"/>
                </a:solidFill>
                <a:latin typeface="Lucida Sans Unicode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编制索引包含位置、字词、关键内容标记和属性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"/>
          <p:cNvSpPr/>
          <p:nvPr/>
        </p:nvSpPr>
        <p:spPr>
          <a:xfrm>
            <a:off x="1619280" y="5950080"/>
            <a:ext cx="62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育教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89000" y="853920"/>
            <a:ext cx="8474040" cy="1054080"/>
            <a:chOff x="189000" y="853920"/>
            <a:chExt cx="8474040" cy="1054080"/>
          </a:xfrm>
        </p:grpSpPr>
        <p:pic>
          <p:nvPicPr>
            <p:cNvPr id="235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853920"/>
              <a:ext cx="8474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189000" y="853920"/>
              <a:ext cx="8474040" cy="10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37" name=""/>
          <p:cNvSpPr txBox="1"/>
          <p:nvPr/>
        </p:nvSpPr>
        <p:spPr>
          <a:xfrm>
            <a:off x="457200" y="17143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75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省略，正式课程中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89000" y="853920"/>
            <a:ext cx="8474040" cy="1054080"/>
            <a:chOff x="189000" y="853920"/>
            <a:chExt cx="8474040" cy="1054080"/>
          </a:xfrm>
        </p:grpSpPr>
        <p:pic>
          <p:nvPicPr>
            <p:cNvPr id="239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853920"/>
              <a:ext cx="8474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 txBox="1"/>
            <p:nvPr/>
          </p:nvSpPr>
          <p:spPr>
            <a:xfrm>
              <a:off x="189000" y="853920"/>
              <a:ext cx="8474040" cy="10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428760" y="178596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第一步：抓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第二步：编制索引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f75"/>
                </a:solidFill>
                <a:latin typeface="Lucida Sans Unicode"/>
              </a:rPr>
              <a:t>第三步：提供搜索结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</a:rPr>
              <a:t>引自：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100" spc="-1" strike="noStrike" u="sng">
                <a:solidFill>
                  <a:srgbClr val="eb8803"/>
                </a:solidFill>
                <a:uFillTx/>
                <a:latin typeface="Lucida Sans Unicode"/>
                <a:hlinkClick r:id="rId2"/>
              </a:rPr>
              <a:t>http://www.google.cn/support/webmasters/bin/answer.py?answer=70897&amp;src=top5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89000" y="493560"/>
            <a:ext cx="8474040" cy="1133640"/>
            <a:chOff x="189000" y="493560"/>
            <a:chExt cx="8474040" cy="1133640"/>
          </a:xfrm>
        </p:grpSpPr>
        <p:pic>
          <p:nvPicPr>
            <p:cNvPr id="243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493560"/>
              <a:ext cx="84740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 txBox="1"/>
            <p:nvPr/>
          </p:nvSpPr>
          <p:spPr>
            <a:xfrm>
              <a:off x="189000" y="493560"/>
              <a:ext cx="8474040" cy="113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45" name=""/>
          <p:cNvSpPr txBox="1"/>
          <p:nvPr/>
        </p:nvSpPr>
        <p:spPr>
          <a:xfrm>
            <a:off x="428760" y="20718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第三步：提供搜索结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用户输入查询时，我们的计算机搜索索引查找匹配网页，并返回我们认为与用户搜索最相关的结果。 </a:t>
            </a:r>
            <a:r>
              <a:rPr b="1" lang="zh-CN" sz="1600" spc="-1" strike="noStrike">
                <a:solidFill>
                  <a:srgbClr val="c00000"/>
                </a:solidFill>
                <a:latin typeface="Lucida Sans Unicode"/>
              </a:rPr>
              <a:t>相关性由 </a:t>
            </a:r>
            <a:r>
              <a:rPr b="1" lang="en-US" sz="1600" spc="-1" strike="noStrike">
                <a:solidFill>
                  <a:srgbClr val="c00000"/>
                </a:solidFill>
                <a:latin typeface="Lucida Sans Unicode"/>
              </a:rPr>
              <a:t>200 </a:t>
            </a:r>
            <a:r>
              <a:rPr b="1" lang="zh-CN" sz="1600" spc="-1" strike="noStrike">
                <a:solidFill>
                  <a:srgbClr val="c00000"/>
                </a:solidFill>
                <a:latin typeface="Lucida Sans Unicode"/>
              </a:rPr>
              <a:t>多个因素确定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，其中之一即特定网页的 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Lucida Sans Unicode"/>
                <a:hlinkClick r:id="rId2"/>
              </a:rPr>
              <a:t>PageRank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189000" y="493560"/>
            <a:ext cx="8474040" cy="1133640"/>
            <a:chOff x="189000" y="493560"/>
            <a:chExt cx="8474040" cy="1133640"/>
          </a:xfrm>
        </p:grpSpPr>
        <p:pic>
          <p:nvPicPr>
            <p:cNvPr id="247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493560"/>
              <a:ext cx="84740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189000" y="493560"/>
              <a:ext cx="8474040" cy="113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428760" y="20718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提供搜索结果步骤解读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提供结果的基础是“内容”，是基于第二步抓取的</a:t>
            </a:r>
            <a:r>
              <a:rPr b="0" lang="zh-CN" sz="1600" spc="-1" strike="noStrike">
                <a:solidFill>
                  <a:srgbClr val="c00000"/>
                </a:solidFill>
                <a:latin typeface="Lucida Sans Unicode"/>
              </a:rPr>
              <a:t>文本内容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，这个文本的匹配度是基础因数；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00000"/>
                </a:solidFill>
                <a:latin typeface="Lucida Sans Unicode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相关性因素 </a:t>
            </a:r>
            <a:r>
              <a:rPr b="0" lang="en-US" sz="1600" spc="-1" strike="noStrike">
                <a:solidFill>
                  <a:srgbClr val="c00000"/>
                </a:solidFill>
                <a:latin typeface="Lucida Sans Unicode"/>
              </a:rPr>
              <a:t>200 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多个，这个我们永远也无法确切知道；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可以知道的是</a:t>
            </a:r>
            <a:r>
              <a:rPr b="0" lang="en-US" sz="1600" spc="-1" strike="noStrike">
                <a:solidFill>
                  <a:srgbClr val="c00000"/>
                </a:solidFill>
                <a:latin typeface="Lucida Sans Unicode"/>
              </a:rPr>
              <a:t>Page Rank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现在和可预见的将来都是非常重要的因数；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89000" y="853920"/>
            <a:ext cx="8474040" cy="1163880"/>
            <a:chOff x="189000" y="853920"/>
            <a:chExt cx="8474040" cy="1163880"/>
          </a:xfrm>
        </p:grpSpPr>
        <p:pic>
          <p:nvPicPr>
            <p:cNvPr id="251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853920"/>
              <a:ext cx="847404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 txBox="1"/>
            <p:nvPr/>
          </p:nvSpPr>
          <p:spPr>
            <a:xfrm>
              <a:off x="189000" y="853920"/>
              <a:ext cx="8474040" cy="116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53" name=""/>
          <p:cNvSpPr txBox="1"/>
          <p:nvPr/>
        </p:nvSpPr>
        <p:spPr>
          <a:xfrm>
            <a:off x="714240" y="2071800"/>
            <a:ext cx="74296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75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省略，正式课程中有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675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700360" y="549360"/>
            <a:ext cx="2597040" cy="961920"/>
            <a:chOff x="2700360" y="549360"/>
            <a:chExt cx="2597040" cy="961920"/>
          </a:xfrm>
        </p:grpSpPr>
        <p:pic>
          <p:nvPicPr>
            <p:cNvPr id="182" name="标题 1" descr=""/>
            <p:cNvPicPr/>
            <p:nvPr/>
          </p:nvPicPr>
          <p:blipFill>
            <a:blip r:embed="rId1"/>
            <a:stretch/>
          </p:blipFill>
          <p:spPr>
            <a:xfrm>
              <a:off x="2700360" y="549360"/>
              <a:ext cx="2597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 txBox="1"/>
            <p:nvPr/>
          </p:nvSpPr>
          <p:spPr>
            <a:xfrm>
              <a:off x="2700360" y="549360"/>
              <a:ext cx="259704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184" name=""/>
          <p:cNvSpPr txBox="1"/>
          <p:nvPr/>
        </p:nvSpPr>
        <p:spPr>
          <a:xfrm>
            <a:off x="28584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f75"/>
                </a:solidFill>
                <a:latin typeface="微软雅黑"/>
                <a:ea typeface="微软雅黑"/>
              </a:rPr>
              <a:t>一、前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搜索引擎是怎样提供服务的？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搜索引擎优化是系统工程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结构优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文本优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收录优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、链接优化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、总结回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、后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2700360" y="549360"/>
            <a:ext cx="2597040" cy="961920"/>
            <a:chOff x="2700360" y="549360"/>
            <a:chExt cx="2597040" cy="961920"/>
          </a:xfrm>
        </p:grpSpPr>
        <p:pic>
          <p:nvPicPr>
            <p:cNvPr id="255" name="标题 1" descr=""/>
            <p:cNvPicPr/>
            <p:nvPr/>
          </p:nvPicPr>
          <p:blipFill>
            <a:blip r:embed="rId1"/>
            <a:stretch/>
          </p:blipFill>
          <p:spPr>
            <a:xfrm>
              <a:off x="2700360" y="549360"/>
              <a:ext cx="2597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 txBox="1"/>
            <p:nvPr/>
          </p:nvSpPr>
          <p:spPr>
            <a:xfrm>
              <a:off x="2700360" y="549360"/>
              <a:ext cx="2597040" cy="96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57" name=""/>
          <p:cNvSpPr txBox="1"/>
          <p:nvPr/>
        </p:nvSpPr>
        <p:spPr>
          <a:xfrm>
            <a:off x="28584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前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搜索引擎是怎样提供服务的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f75"/>
                </a:solidFill>
                <a:latin typeface="微软雅黑"/>
                <a:ea typeface="微软雅黑"/>
              </a:rPr>
              <a:t>三、搜索引擎优化是系统工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结构优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文本优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收录优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、链接优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695160" y="1060560"/>
            <a:ext cx="7113600" cy="860400"/>
            <a:chOff x="695160" y="1060560"/>
            <a:chExt cx="7113600" cy="860400"/>
          </a:xfrm>
        </p:grpSpPr>
        <p:pic>
          <p:nvPicPr>
            <p:cNvPr id="259" name="标题 1" descr=""/>
            <p:cNvPicPr/>
            <p:nvPr/>
          </p:nvPicPr>
          <p:blipFill>
            <a:blip r:embed="rId1"/>
            <a:stretch/>
          </p:blipFill>
          <p:spPr>
            <a:xfrm>
              <a:off x="695160" y="1060560"/>
              <a:ext cx="71136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 txBox="1"/>
            <p:nvPr/>
          </p:nvSpPr>
          <p:spPr>
            <a:xfrm>
              <a:off x="695160" y="1060560"/>
              <a:ext cx="7113600" cy="86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61" name=""/>
          <p:cNvSpPr txBox="1"/>
          <p:nvPr/>
        </p:nvSpPr>
        <p:spPr>
          <a:xfrm>
            <a:off x="642960" y="2214720"/>
            <a:ext cx="814392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eea"/>
                </a:solidFill>
                <a:latin typeface="微软雅黑"/>
                <a:ea typeface="微软雅黑"/>
              </a:rPr>
              <a:t>2.1</a:t>
            </a:r>
            <a:r>
              <a:rPr b="0" lang="zh-CN" sz="2700" spc="-1" strike="noStrike">
                <a:solidFill>
                  <a:srgbClr val="007eea"/>
                </a:solidFill>
                <a:latin typeface="微软雅黑"/>
                <a:ea typeface="微软雅黑"/>
              </a:rPr>
              <a:t>、从搜索引擎服务过程到搜索引擎优化过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2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一个中心观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3</a:t>
            </a:r>
            <a:r>
              <a:rPr b="0" lang="zh-CN" sz="27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搜索引擎优化系统工程的建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566640" y="781200"/>
            <a:ext cx="7796160" cy="772920"/>
            <a:chOff x="566640" y="781200"/>
            <a:chExt cx="7796160" cy="772920"/>
          </a:xfrm>
        </p:grpSpPr>
        <p:pic>
          <p:nvPicPr>
            <p:cNvPr id="263" name="标题 1" descr=""/>
            <p:cNvPicPr/>
            <p:nvPr/>
          </p:nvPicPr>
          <p:blipFill>
            <a:blip r:embed="rId1"/>
            <a:stretch/>
          </p:blipFill>
          <p:spPr>
            <a:xfrm>
              <a:off x="566640" y="781200"/>
              <a:ext cx="779616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 txBox="1"/>
            <p:nvPr/>
          </p:nvSpPr>
          <p:spPr>
            <a:xfrm>
              <a:off x="566640" y="781200"/>
              <a:ext cx="7796160" cy="77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pic>
        <p:nvPicPr>
          <p:cNvPr id="265" name="内容占位符 8" descr=""/>
          <p:cNvPicPr/>
          <p:nvPr/>
        </p:nvPicPr>
        <p:blipFill>
          <a:blip r:embed="rId2"/>
          <a:stretch/>
        </p:blipFill>
        <p:spPr>
          <a:xfrm>
            <a:off x="493560" y="1994040"/>
            <a:ext cx="3694320" cy="3956040"/>
          </a:xfrm>
          <a:prstGeom prst="rect">
            <a:avLst/>
          </a:prstGeom>
          <a:ln w="0">
            <a:noFill/>
          </a:ln>
        </p:spPr>
      </p:pic>
      <p:pic>
        <p:nvPicPr>
          <p:cNvPr id="266" name="内容占位符 9" descr=""/>
          <p:cNvPicPr/>
          <p:nvPr/>
        </p:nvPicPr>
        <p:blipFill>
          <a:blip r:embed="rId3"/>
          <a:stretch/>
        </p:blipFill>
        <p:spPr>
          <a:xfrm>
            <a:off x="4705200" y="1706400"/>
            <a:ext cx="4445280" cy="4730760"/>
          </a:xfrm>
          <a:prstGeom prst="rect">
            <a:avLst/>
          </a:prstGeom>
          <a:ln w="0">
            <a:noFill/>
          </a:ln>
        </p:spPr>
      </p:pic>
      <p:sp>
        <p:nvSpPr>
          <p:cNvPr id="267" name="右箭头 11"/>
          <p:cNvSpPr/>
          <p:nvPr/>
        </p:nvSpPr>
        <p:spPr>
          <a:xfrm>
            <a:off x="4214880" y="385776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addc"/>
          </a:solidFill>
          <a:ln w="2556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右箭头 13"/>
          <p:cNvSpPr/>
          <p:nvPr/>
        </p:nvSpPr>
        <p:spPr>
          <a:xfrm>
            <a:off x="4214880" y="5143680"/>
            <a:ext cx="785880" cy="5000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addc"/>
          </a:solidFill>
          <a:ln w="2556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右箭头 17"/>
          <p:cNvSpPr/>
          <p:nvPr/>
        </p:nvSpPr>
        <p:spPr>
          <a:xfrm>
            <a:off x="4286160" y="2571840"/>
            <a:ext cx="714600" cy="5000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addc"/>
          </a:solidFill>
          <a:ln w="2556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714240" y="1213920"/>
            <a:ext cx="771552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谢谢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END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e5b6f"/>
                </a:solidFill>
                <a:latin typeface="Lucida Sans Unicode"/>
              </a:rPr>
              <a:t>使用规范说明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Lucida Sans Unicode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Lucida Sans Unicod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Lucida Sans Unicode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ucida Sans Unicod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Lucida Sans Unicode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89000" y="781200"/>
            <a:ext cx="8474040" cy="1023840"/>
            <a:chOff x="189000" y="781200"/>
            <a:chExt cx="8474040" cy="1023840"/>
          </a:xfrm>
        </p:grpSpPr>
        <p:pic>
          <p:nvPicPr>
            <p:cNvPr id="186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781200"/>
              <a:ext cx="84740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 txBox="1"/>
            <p:nvPr/>
          </p:nvSpPr>
          <p:spPr>
            <a:xfrm>
              <a:off x="189000" y="781200"/>
              <a:ext cx="8474040" cy="102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188" name=""/>
          <p:cNvSpPr txBox="1"/>
          <p:nvPr/>
        </p:nvSpPr>
        <p:spPr>
          <a:xfrm>
            <a:off x="428400" y="1785600"/>
            <a:ext cx="835812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5"/>
                </a:solidFill>
                <a:latin typeface="Lucida Sans Unicode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在开始做任何一件事情之前，首先需要的是对事情的整体把握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5"/>
                </a:solidFill>
                <a:latin typeface="Lucida Sans Unicode"/>
              </a:rPr>
              <a:t>   </a:t>
            </a:r>
            <a:r>
              <a:rPr b="0" lang="zh-CN" sz="2000" spc="-1" strike="noStrike">
                <a:solidFill>
                  <a:srgbClr val="003f75"/>
                </a:solidFill>
                <a:latin typeface="Lucida Sans Unicode"/>
              </a:rPr>
              <a:t>即所谓“</a:t>
            </a:r>
            <a:r>
              <a:rPr b="0" lang="zh-CN" sz="2000" spc="-1" strike="noStrike">
                <a:solidFill>
                  <a:srgbClr val="c00000"/>
                </a:solidFill>
                <a:latin typeface="Lucida Sans Unicode"/>
              </a:rPr>
              <a:t>从宏观到微观，从整体到局部</a:t>
            </a:r>
            <a:r>
              <a:rPr b="0" lang="zh-CN" sz="2000" spc="-1" strike="noStrike">
                <a:solidFill>
                  <a:srgbClr val="003f75"/>
                </a:solidFill>
                <a:latin typeface="Lucida Sans Unicode"/>
              </a:rPr>
              <a:t>”的过程，这种思维方法对于 “搜索引擎优化”实在是太重要</a:t>
            </a:r>
            <a:r>
              <a:rPr b="0" lang="en-US" sz="2000" spc="-1" strike="noStrike">
                <a:solidFill>
                  <a:srgbClr val="003f75"/>
                </a:solidFill>
                <a:latin typeface="Lucida Sans Unicode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89000" y="781200"/>
            <a:ext cx="8474040" cy="1023840"/>
            <a:chOff x="189000" y="781200"/>
            <a:chExt cx="8474040" cy="1023840"/>
          </a:xfrm>
        </p:grpSpPr>
        <p:pic>
          <p:nvPicPr>
            <p:cNvPr id="190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781200"/>
              <a:ext cx="84740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 txBox="1"/>
            <p:nvPr/>
          </p:nvSpPr>
          <p:spPr>
            <a:xfrm>
              <a:off x="189000" y="781200"/>
              <a:ext cx="8474040" cy="102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28400" y="149976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5"/>
                </a:solidFill>
                <a:latin typeface="Lucida Sans Unicode"/>
              </a:rPr>
              <a:t>   </a:t>
            </a:r>
            <a:r>
              <a:rPr b="0" lang="zh-CN" sz="2000" spc="-1" strike="noStrike">
                <a:solidFill>
                  <a:srgbClr val="003f75"/>
                </a:solidFill>
                <a:latin typeface="Lucida Sans Unicode"/>
              </a:rPr>
              <a:t>在我之前的优化实践中，我接触的很多网站和一些个人站长，他们大都只是关注于优化的某些问题或者是问题的某一方面，处于“一叶闭目”的状态，今天做的事情明天又推翻，反反复复，浪费了大量的时间和机遇，这是典型的“缺乏整体观”的后果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5"/>
                </a:solidFill>
                <a:latin typeface="Lucida Sans Unicode"/>
              </a:rPr>
              <a:t>    </a:t>
            </a:r>
            <a:r>
              <a:rPr b="0" lang="zh-CN" sz="2000" spc="-1" strike="noStrike">
                <a:solidFill>
                  <a:srgbClr val="003f75"/>
                </a:solidFill>
                <a:latin typeface="Lucida Sans Unicode"/>
              </a:rPr>
              <a:t>这个系列课程，我将带大家树立 “</a:t>
            </a:r>
            <a:r>
              <a:rPr b="0" lang="zh-CN" sz="2000" spc="-1" strike="noStrike">
                <a:solidFill>
                  <a:srgbClr val="c00000"/>
                </a:solidFill>
                <a:latin typeface="Lucida Sans Unicode"/>
              </a:rPr>
              <a:t>大处着手，小处着眼</a:t>
            </a:r>
            <a:r>
              <a:rPr b="0" lang="zh-CN" sz="2000" spc="-1" strike="noStrike">
                <a:solidFill>
                  <a:srgbClr val="003f75"/>
                </a:solidFill>
                <a:latin typeface="Lucida Sans Unicode"/>
              </a:rPr>
              <a:t>”的搜索引擎优化整体观，建立搜索引擎优化</a:t>
            </a:r>
            <a:r>
              <a:rPr b="1" lang="zh-CN" sz="2400" spc="-1" strike="noStrike">
                <a:solidFill>
                  <a:srgbClr val="c00000"/>
                </a:solidFill>
                <a:latin typeface="Lucida Sans Unicode"/>
              </a:rPr>
              <a:t>系统工程</a:t>
            </a:r>
            <a:r>
              <a:rPr b="0" lang="zh-CN" sz="2000" spc="-1" strike="noStrike">
                <a:solidFill>
                  <a:srgbClr val="003f75"/>
                </a:solidFill>
                <a:latin typeface="Lucida Sans Unicode"/>
              </a:rPr>
              <a:t>的概念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89000" y="781200"/>
            <a:ext cx="8474040" cy="1023840"/>
            <a:chOff x="189000" y="781200"/>
            <a:chExt cx="8474040" cy="1023840"/>
          </a:xfrm>
        </p:grpSpPr>
        <p:pic>
          <p:nvPicPr>
            <p:cNvPr id="194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781200"/>
              <a:ext cx="84740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89000" y="781200"/>
              <a:ext cx="8474040" cy="102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196" name=""/>
          <p:cNvSpPr txBox="1"/>
          <p:nvPr/>
        </p:nvSpPr>
        <p:spPr>
          <a:xfrm>
            <a:off x="499680" y="1785600"/>
            <a:ext cx="835812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5"/>
                </a:solidFill>
                <a:latin typeface="Lucida Sans Unicod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5"/>
                </a:solidFill>
                <a:latin typeface="Lucida Sans Unicode"/>
              </a:rPr>
              <a:t> </a:t>
            </a:r>
            <a:r>
              <a:rPr b="0" lang="zh-CN" sz="2400" spc="-1" strike="noStrike">
                <a:solidFill>
                  <a:srgbClr val="003f75"/>
                </a:solidFill>
                <a:latin typeface="微软雅黑"/>
                <a:ea typeface="微软雅黑"/>
              </a:rPr>
              <a:t>整体观的建立需要从弄清楚一个基本问题开始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219240" y="706320"/>
            <a:ext cx="8716680" cy="1025640"/>
            <a:chOff x="219240" y="706320"/>
            <a:chExt cx="8716680" cy="1025640"/>
          </a:xfrm>
        </p:grpSpPr>
        <p:pic>
          <p:nvPicPr>
            <p:cNvPr id="198" name="标题 2" descr=""/>
            <p:cNvPicPr/>
            <p:nvPr/>
          </p:nvPicPr>
          <p:blipFill>
            <a:blip r:embed="rId1"/>
            <a:stretch/>
          </p:blipFill>
          <p:spPr>
            <a:xfrm>
              <a:off x="219240" y="706320"/>
              <a:ext cx="871668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 txBox="1"/>
            <p:nvPr/>
          </p:nvSpPr>
          <p:spPr>
            <a:xfrm>
              <a:off x="219240" y="706320"/>
              <a:ext cx="8716680" cy="102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00" name=""/>
          <p:cNvSpPr txBox="1"/>
          <p:nvPr/>
        </p:nvSpPr>
        <p:spPr>
          <a:xfrm>
            <a:off x="42876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c00000"/>
                </a:solidFill>
                <a:latin typeface="Lucida Sans Unicode"/>
              </a:rPr>
              <a:t>为什么重要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我们研究的是“搜索引擎优化”，如果能够很好的理解搜索引擎为我们提供服务的过程，并配合好他的这个服务过程，那么这就是最好的“搜索引擎优化”！所以重要性是不言而喻的，我们整体观的建立需要从“搜索引擎是怎样为我们提供服务”的过程认识开始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 Unicode"/>
              </a:rPr>
              <a:t>    </a:t>
            </a:r>
            <a:r>
              <a:rPr b="1" lang="zh-CN" sz="1800" spc="-1" strike="noStrike">
                <a:solidFill>
                  <a:srgbClr val="c00000"/>
                </a:solidFill>
                <a:latin typeface="Lucida Sans Unicode"/>
              </a:rPr>
              <a:t>这是树立搜索引擎优化观的源头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Lucida Sans Unicode"/>
              </a:rPr>
              <a:t>    </a:t>
            </a:r>
            <a:r>
              <a:rPr b="1" lang="zh-CN" sz="1800" spc="-1" strike="noStrike">
                <a:solidFill>
                  <a:srgbClr val="c00000"/>
                </a:solidFill>
                <a:latin typeface="Lucida Sans Unicode"/>
              </a:rPr>
              <a:t>也是我们建立搜索引擎优化“系统工程”的依据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189000" y="853920"/>
            <a:ext cx="8474040" cy="1054080"/>
            <a:chOff x="189000" y="853920"/>
            <a:chExt cx="8474040" cy="1054080"/>
          </a:xfrm>
        </p:grpSpPr>
        <p:pic>
          <p:nvPicPr>
            <p:cNvPr id="202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853920"/>
              <a:ext cx="8474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 txBox="1"/>
            <p:nvPr/>
          </p:nvSpPr>
          <p:spPr>
            <a:xfrm>
              <a:off x="189000" y="853920"/>
              <a:ext cx="8474040" cy="10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428760" y="178596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3f75"/>
                </a:solidFill>
                <a:latin typeface="Lucida Sans Unicode"/>
              </a:rPr>
              <a:t>第一步：抓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第二步：编制索引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第三步：提供搜索结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Lucida Sans Unicode"/>
              </a:rPr>
              <a:t>引自“站长管理员指南”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100" spc="-1" strike="noStrike" u="sng">
                <a:solidFill>
                  <a:srgbClr val="eb8803"/>
                </a:solidFill>
                <a:uFillTx/>
                <a:latin typeface="Lucida Sans Unicode"/>
                <a:hlinkClick r:id="rId2"/>
              </a:rPr>
              <a:t>http://www.google.cn/support/webmasters/bin/answer.py?answer=70897&amp;src=top5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9000" y="781200"/>
            <a:ext cx="8474040" cy="1054080"/>
            <a:chOff x="189000" y="781200"/>
            <a:chExt cx="8474040" cy="1054080"/>
          </a:xfrm>
        </p:grpSpPr>
        <p:pic>
          <p:nvPicPr>
            <p:cNvPr id="206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781200"/>
              <a:ext cx="8474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 txBox="1"/>
            <p:nvPr/>
          </p:nvSpPr>
          <p:spPr>
            <a:xfrm>
              <a:off x="189000" y="781200"/>
              <a:ext cx="8474040" cy="10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457200" y="17143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第一步：抓取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抓取过程概括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搜索引擎的“抓取”是一个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过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由一种程序叫做“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ide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完成的，并为这个过程建立了一套“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算法流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，其中规定了所抓取的网址、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ide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顾的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频率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拟抓取的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页面数量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，最终形成一张“抓取网址列表”，真正的抓取网页的信息并存储到搜索引擎数据库从这里开始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189000" y="781200"/>
            <a:ext cx="8474040" cy="1054080"/>
            <a:chOff x="189000" y="781200"/>
            <a:chExt cx="8474040" cy="1054080"/>
          </a:xfrm>
        </p:grpSpPr>
        <p:pic>
          <p:nvPicPr>
            <p:cNvPr id="210" name="标题 2" descr=""/>
            <p:cNvPicPr/>
            <p:nvPr/>
          </p:nvPicPr>
          <p:blipFill>
            <a:blip r:embed="rId1"/>
            <a:stretch/>
          </p:blipFill>
          <p:spPr>
            <a:xfrm>
              <a:off x="189000" y="781200"/>
              <a:ext cx="8474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 txBox="1"/>
            <p:nvPr/>
          </p:nvSpPr>
          <p:spPr>
            <a:xfrm>
              <a:off x="189000" y="781200"/>
              <a:ext cx="8474040" cy="105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e5b6f"/>
                </a:solidFill>
                <a:latin typeface="Lucida Sans Unicode"/>
              </a:endParaRPr>
            </a:p>
          </p:txBody>
        </p:sp>
      </p:grpSp>
      <p:sp>
        <p:nvSpPr>
          <p:cNvPr id="212" name=""/>
          <p:cNvSpPr txBox="1"/>
          <p:nvPr/>
        </p:nvSpPr>
        <p:spPr>
          <a:xfrm>
            <a:off x="357120" y="17146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“抓取”的重要信息解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搜索引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pide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成对一个页面的信息抓取需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两次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顾完成：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一次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顾按照“算法流程”抓取网页地址添加到“抓取列表”；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二次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光顾根据“抓取列表”抓取对应的网址页面信息存储到搜索引擎数据库备查；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0:49:59Z</dcterms:created>
  <dc:creator>langxz</dc:creator>
  <dc:description/>
  <dc:language>en-US</dc:language>
  <cp:lastModifiedBy>微软用户</cp:lastModifiedBy>
  <dcterms:modified xsi:type="dcterms:W3CDTF">2015-07-04T08:13:10Z</dcterms:modified>
  <cp:revision>618</cp:revision>
  <dc:subject/>
  <dc:title>MIC网络营销方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