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EB994-89B2-46DA-B564-A84EAEF131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2B638-EBB4-43C7-942C-0F7008D415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442E2-8E2B-4FE0-A83A-F6E0D2D949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8C46C-13B8-4BB3-ACB6-79051926C1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2328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ACE1C-3BEB-4A5A-A43C-C4F7854AFF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3EC74-D48C-4616-9AB2-0C558537C4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33057-CE57-425B-8658-0FAE28B516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72DCB-A951-484F-BDA7-19E78BEA6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2328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DB37E-04B1-4873-ACE1-89AA3301BB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E5BBE-F085-4C71-A6AF-FE28F8D563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B1B22-69DF-4F03-9802-40303A52AE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2D258-0909-43A4-B9C4-9C5CD8C54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>
            <a:off x="36360" y="81000"/>
            <a:ext cx="9077400" cy="1595520"/>
          </a:xfrm>
          <a:custGeom>
            <a:avLst/>
            <a:gdLst/>
            <a:ahLst/>
            <a:rect l="l" t="t" r="r" b="b"/>
            <a:pathLst>
              <a:path w="5718" h="1005">
                <a:moveTo>
                  <a:pt x="0" y="756"/>
                </a:moveTo>
                <a:cubicBezTo>
                  <a:pt x="96" y="724"/>
                  <a:pt x="297" y="635"/>
                  <a:pt x="576" y="560"/>
                </a:cubicBezTo>
                <a:cubicBezTo>
                  <a:pt x="855" y="485"/>
                  <a:pt x="1037" y="442"/>
                  <a:pt x="1403" y="390"/>
                </a:cubicBezTo>
                <a:cubicBezTo>
                  <a:pt x="1769" y="337"/>
                  <a:pt x="2154" y="320"/>
                  <a:pt x="2452" y="314"/>
                </a:cubicBezTo>
                <a:lnTo>
                  <a:pt x="3102" y="326"/>
                </a:lnTo>
                <a:cubicBezTo>
                  <a:pt x="3367" y="346"/>
                  <a:pt x="3736" y="377"/>
                  <a:pt x="4043" y="434"/>
                </a:cubicBezTo>
                <a:cubicBezTo>
                  <a:pt x="4350" y="490"/>
                  <a:pt x="4669" y="578"/>
                  <a:pt x="4944" y="668"/>
                </a:cubicBezTo>
                <a:cubicBezTo>
                  <a:pt x="5219" y="757"/>
                  <a:pt x="5679" y="1005"/>
                  <a:pt x="5691" y="971"/>
                </a:cubicBezTo>
                <a:cubicBezTo>
                  <a:pt x="5695" y="964"/>
                  <a:pt x="5718" y="25"/>
                  <a:pt x="5718" y="19"/>
                </a:cubicBezTo>
                <a:cubicBezTo>
                  <a:pt x="5718" y="7"/>
                  <a:pt x="1198" y="4"/>
                  <a:pt x="9" y="0"/>
                </a:cubicBez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01"/>
              </a:spcBef>
              <a:buClr>
                <a:srgbClr val="35bbe5"/>
              </a:buClr>
              <a:buFont typeface="Wingdings" charset="2"/>
              <a:buChar char="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77960" indent="-298440">
              <a:spcBef>
                <a:spcPts val="601"/>
              </a:spcBef>
              <a:buClr>
                <a:srgbClr val="35bbe5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97000" indent="-239760">
              <a:spcBef>
                <a:spcPts val="601"/>
              </a:spcBef>
              <a:buClr>
                <a:srgbClr val="35bbe5"/>
              </a:buClr>
              <a:buFont typeface="Wingdings" charset="2"/>
              <a:buChar char="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1676520" indent="-239760">
              <a:spcBef>
                <a:spcPts val="601"/>
              </a:spcBef>
              <a:buClr>
                <a:srgbClr val="000066"/>
              </a:buClr>
              <a:buFont typeface="Wingdings" charset="2"/>
              <a:buChar char="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4" marL="2154240" indent="-237960">
              <a:spcBef>
                <a:spcPts val="601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5" marL="2154240" indent="-237960">
              <a:spcBef>
                <a:spcPts val="601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6" marL="2154240" indent="-237960">
              <a:spcBef>
                <a:spcPts val="601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107640" y="6454800"/>
            <a:ext cx="927000" cy="2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1" lang="en-US" sz="13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4160BF3-104A-41CC-98EB-094D80E20DBB}" type="slidenum">
              <a:rPr b="1" lang="en-US" sz="13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5" name="未知"/>
            <p:cNvSpPr/>
            <p:nvPr/>
          </p:nvSpPr>
          <p:spPr>
            <a:xfrm>
              <a:off x="0" y="6382800"/>
              <a:ext cx="440640" cy="472680"/>
            </a:xfrm>
            <a:custGeom>
              <a:avLst/>
              <a:gdLst/>
              <a:ahLst/>
              <a:rect l="l" t="t" r="r" b="b"/>
              <a:pathLst>
                <a:path w="389" h="417">
                  <a:moveTo>
                    <a:pt x="314" y="416"/>
                  </a:moveTo>
                  <a:lnTo>
                    <a:pt x="389" y="417"/>
                  </a:lnTo>
                  <a:lnTo>
                    <a:pt x="158" y="297"/>
                  </a:lnTo>
                  <a:lnTo>
                    <a:pt x="39" y="179"/>
                  </a:lnTo>
                  <a:lnTo>
                    <a:pt x="0" y="0"/>
                  </a:lnTo>
                  <a:lnTo>
                    <a:pt x="1" y="41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8732520" y="6400800"/>
              <a:ext cx="411120" cy="4568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9520" y="47520"/>
              <a:ext cx="9083880" cy="678636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0" y="14400"/>
              <a:ext cx="459000" cy="500040"/>
            </a:xfrm>
            <a:custGeom>
              <a:avLst/>
              <a:gdLst/>
              <a:ahLst/>
              <a:rect l="l" t="t" r="r" b="b"/>
              <a:pathLst>
                <a:path w="405" h="441">
                  <a:moveTo>
                    <a:pt x="2" y="441"/>
                  </a:moveTo>
                  <a:cubicBezTo>
                    <a:pt x="19" y="397"/>
                    <a:pt x="0" y="345"/>
                    <a:pt x="107" y="175"/>
                  </a:cubicBezTo>
                  <a:cubicBezTo>
                    <a:pt x="214" y="6"/>
                    <a:pt x="405" y="16"/>
                    <a:pt x="387" y="0"/>
                  </a:cubicBez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8604360" y="0"/>
              <a:ext cx="532800" cy="547560"/>
            </a:xfrm>
            <a:custGeom>
              <a:avLst/>
              <a:gdLst/>
              <a:ahLst/>
              <a:rect l="l" t="t" r="r" b="b"/>
              <a:pathLst>
                <a:path w="470" h="483">
                  <a:moveTo>
                    <a:pt x="0" y="4"/>
                  </a:moveTo>
                  <a:cubicBezTo>
                    <a:pt x="57" y="28"/>
                    <a:pt x="264" y="74"/>
                    <a:pt x="342" y="150"/>
                  </a:cubicBezTo>
                  <a:cubicBezTo>
                    <a:pt x="450" y="275"/>
                    <a:pt x="452" y="483"/>
                    <a:pt x="470" y="461"/>
                  </a:cubicBezTo>
                  <a:lnTo>
                    <a:pt x="47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324000" y="6500880"/>
            <a:ext cx="8569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708280"/>
            <a:ext cx="9144000" cy="8748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20520"/>
            <a:ext cx="9144000" cy="817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1440" y="-3240"/>
            <a:ext cx="9165600" cy="6860880"/>
            <a:chOff x="-1440" y="-3240"/>
            <a:chExt cx="9165600" cy="6860880"/>
          </a:xfrm>
        </p:grpSpPr>
        <p:sp>
          <p:nvSpPr>
            <p:cNvPr id="50" name=""/>
            <p:cNvSpPr/>
            <p:nvPr/>
          </p:nvSpPr>
          <p:spPr>
            <a:xfrm>
              <a:off x="36360" y="34560"/>
              <a:ext cx="9084960" cy="679284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4680" y="-3240"/>
              <a:ext cx="467640" cy="457920"/>
            </a:xfrm>
            <a:custGeom>
              <a:avLst/>
              <a:gdLst/>
              <a:ahLst/>
              <a:rect l="l" t="t" r="r" b="b"/>
              <a:pathLst>
                <a:path w="403" h="395">
                  <a:moveTo>
                    <a:pt x="3" y="395"/>
                  </a:moveTo>
                  <a:lnTo>
                    <a:pt x="74" y="216"/>
                  </a:lnTo>
                  <a:lnTo>
                    <a:pt x="231" y="50"/>
                  </a:lnTo>
                  <a:lnTo>
                    <a:pt x="40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-1440" y="6322320"/>
              <a:ext cx="455040" cy="535320"/>
            </a:xfrm>
            <a:custGeom>
              <a:avLst/>
              <a:gdLst/>
              <a:ahLst/>
              <a:rect l="l" t="t" r="r" b="b"/>
              <a:pathLst>
                <a:path w="391" h="473">
                  <a:moveTo>
                    <a:pt x="391" y="473"/>
                  </a:moveTo>
                  <a:lnTo>
                    <a:pt x="151" y="353"/>
                  </a:lnTo>
                  <a:lnTo>
                    <a:pt x="42" y="201"/>
                  </a:lnTo>
                  <a:lnTo>
                    <a:pt x="0" y="0"/>
                  </a:lnTo>
                  <a:lnTo>
                    <a:pt x="1" y="47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8730000" y="6391800"/>
              <a:ext cx="434160" cy="45468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8679240" y="9000"/>
              <a:ext cx="478800" cy="456480"/>
            </a:xfrm>
            <a:custGeom>
              <a:avLst/>
              <a:gdLst/>
              <a:ahLst/>
              <a:rect l="l" t="t" r="r" b="b"/>
              <a:pathLst>
                <a:path w="403" h="403">
                  <a:moveTo>
                    <a:pt x="0" y="0"/>
                  </a:moveTo>
                  <a:lnTo>
                    <a:pt x="221" y="96"/>
                  </a:lnTo>
                  <a:lnTo>
                    <a:pt x="353" y="231"/>
                  </a:lnTo>
                  <a:lnTo>
                    <a:pt x="403" y="403"/>
                  </a:lnTo>
                  <a:lnTo>
                    <a:pt x="40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ctr">
              <a:spcBef>
                <a:spcPts val="5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2" marL="957240" algn="ctr">
              <a:spcBef>
                <a:spcPts val="524"/>
              </a:spcBef>
              <a:buClr>
                <a:srgbClr val="35bbe5"/>
              </a:buClr>
              <a:buFont typeface="Wingdings" charset="2"/>
              <a:buChar char=""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3" marL="1436760" algn="ctr">
              <a:spcBef>
                <a:spcPts val="524"/>
              </a:spcBef>
              <a:buClr>
                <a:srgbClr val="000066"/>
              </a:buClr>
              <a:buFont typeface="Wingdings" charset="2"/>
              <a:buChar char=""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4" marL="1916280" algn="ctr">
              <a:spcBef>
                <a:spcPts val="524"/>
              </a:spcBef>
              <a:buClr>
                <a:srgbClr val="000066"/>
              </a:buClr>
              <a:buFont typeface="Wingdings" charset="2"/>
              <a:buChar char=""/>
              <a:tabLst>
                <a:tab algn="l" pos="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5" marL="1916280">
              <a:spcBef>
                <a:spcPts val="524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6" marL="1916280">
              <a:spcBef>
                <a:spcPts val="524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baoga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20520"/>
            <a:ext cx="9144000" cy="817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××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项目研究建议分析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37720" y="6171840"/>
            <a:ext cx="7086600" cy="43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项目标题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您的姓名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|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您教师的姓名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|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您的学校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271440"/>
            <a:ext cx="108900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3809880"/>
            <a:ext cx="482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Arial"/>
                <a:ea typeface="宋体"/>
              </a:rPr>
              <a:t>引用的作品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01"/>
              </a:spcBef>
              <a:buClr>
                <a:srgbClr val="35bbe5"/>
              </a:buClr>
              <a:buFont typeface="Wingdings" charset="2"/>
              <a:buChar char="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确保包括了打印版和电子版资料来源，并将它们按字母顺序排列。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720520"/>
            <a:ext cx="9144000" cy="817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谢谢欣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7086600" cy="43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幻灯片之家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12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12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12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12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60D11-8E1B-46C8-BF52-07BED5475D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Arial"/>
                <a:ea typeface="宋体"/>
              </a:rPr>
              <a:t>问题陈述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01"/>
              </a:spcBef>
              <a:buClr>
                <a:srgbClr val="35bbe5"/>
              </a:buClr>
              <a:buFont typeface="Wingdings" charset="2"/>
              <a:buChar char="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在此处键入您的问题。（这是您在实验中需要解决的问题。）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Arial"/>
                <a:ea typeface="宋体"/>
              </a:rPr>
              <a:t>项目概述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01"/>
              </a:spcBef>
              <a:buClr>
                <a:srgbClr val="35bbe5"/>
              </a:buClr>
              <a:buFont typeface="Wingdings" charset="2"/>
              <a:buChar char="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在此键入您的项目的简要概述或摘要。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Arial"/>
                <a:ea typeface="宋体"/>
              </a:rPr>
              <a:t>研究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01"/>
              </a:spcBef>
              <a:buClr>
                <a:srgbClr val="35bbe5"/>
              </a:buClr>
              <a:buFont typeface="Wingdings" charset="2"/>
              <a:buChar char="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在此处用三到五个项目符号总结研究：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77960" indent="-298440">
              <a:spcBef>
                <a:spcPts val="524"/>
              </a:spcBef>
              <a:buClr>
                <a:srgbClr val="35bbe5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100" spc="-1" strike="noStrike">
                <a:solidFill>
                  <a:srgbClr val="000066"/>
                </a:solidFill>
                <a:latin typeface="Arial"/>
                <a:ea typeface="宋体"/>
              </a:rPr>
              <a:t>第一点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77960" indent="-298440">
              <a:spcBef>
                <a:spcPts val="524"/>
              </a:spcBef>
              <a:buClr>
                <a:srgbClr val="35bbe5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100" spc="-1" strike="noStrike">
                <a:solidFill>
                  <a:srgbClr val="000066"/>
                </a:solidFill>
                <a:latin typeface="Arial"/>
                <a:ea typeface="宋体"/>
              </a:rPr>
              <a:t>第二点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77960" indent="-298440">
              <a:spcBef>
                <a:spcPts val="524"/>
              </a:spcBef>
              <a:buClr>
                <a:srgbClr val="35bbe5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100" spc="-1" strike="noStrike">
                <a:solidFill>
                  <a:srgbClr val="000066"/>
                </a:solidFill>
                <a:latin typeface="Arial"/>
                <a:ea typeface="宋体"/>
              </a:rPr>
              <a:t>第三点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77960" indent="-298440">
              <a:spcBef>
                <a:spcPts val="524"/>
              </a:spcBef>
              <a:buClr>
                <a:srgbClr val="35bbe5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100" spc="-1" strike="noStrike">
                <a:solidFill>
                  <a:srgbClr val="000066"/>
                </a:solidFill>
                <a:latin typeface="Arial"/>
                <a:ea typeface="宋体"/>
              </a:rPr>
              <a:t>第四点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77960" indent="-298440">
              <a:spcBef>
                <a:spcPts val="524"/>
              </a:spcBef>
              <a:buClr>
                <a:srgbClr val="35bbe5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100" spc="-1" strike="noStrike">
                <a:solidFill>
                  <a:srgbClr val="000066"/>
                </a:solidFill>
                <a:latin typeface="Arial"/>
                <a:ea typeface="宋体"/>
              </a:rPr>
              <a:t>第五点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Arial"/>
                <a:ea typeface="宋体"/>
              </a:rPr>
              <a:t>变量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01"/>
              </a:spcBef>
              <a:buClr>
                <a:srgbClr val="35bbe5"/>
              </a:buClr>
              <a:buFont typeface="Wingdings" charset="2"/>
              <a:buChar char="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受控制的变量：这是在实验过程中保持不变的内容。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58920" indent="-358920">
              <a:spcBef>
                <a:spcPts val="601"/>
              </a:spcBef>
              <a:buClr>
                <a:srgbClr val="35bbe5"/>
              </a:buClr>
              <a:buFont typeface="Wingdings" charset="2"/>
              <a:buChar char="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独立变量：有意更改和测试的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Verdana"/>
                <a:ea typeface="宋体"/>
              </a:rPr>
              <a:t>one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变量。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58920" indent="-358920">
              <a:spcBef>
                <a:spcPts val="601"/>
              </a:spcBef>
              <a:buClr>
                <a:srgbClr val="35bbe5"/>
              </a:buClr>
              <a:buFont typeface="Wingdings" charset="2"/>
              <a:buChar char="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相关变量：因独立变量更改而观测到的更改度量。决定如何度量更改是很重要的。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Arial"/>
                <a:ea typeface="宋体"/>
              </a:rPr>
              <a:t>资料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01"/>
              </a:spcBef>
              <a:buClr>
                <a:srgbClr val="35bbe5"/>
              </a:buClr>
              <a:buFont typeface="Wingdings" charset="2"/>
              <a:buChar char="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键入完成实验所需的详细项目列表。要明确使用的数量。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828720" y="1168560"/>
            <a:ext cx="6551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35bbe5"/>
                </a:solidFill>
                <a:uFillTx/>
                <a:latin typeface="Arial"/>
                <a:hlinkClick r:id="rId2"/>
              </a:rPr>
              <a:t>工作报告ppt模板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ttp://www.eeppt.com/moban/baogao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Arial"/>
                <a:ea typeface="宋体"/>
              </a:rPr>
              <a:t>过程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01"/>
              </a:spcBef>
              <a:buClr>
                <a:srgbClr val="35bbe5"/>
              </a:buClr>
              <a:buFont typeface="Wingdings" charset="2"/>
              <a:buChar char="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列出完成实验所使用的所有步骤。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58920" indent="-358920">
              <a:spcBef>
                <a:spcPts val="601"/>
              </a:spcBef>
              <a:buClr>
                <a:srgbClr val="35bbe5"/>
              </a:buClr>
              <a:buFont typeface="Wingdings" charset="2"/>
              <a:buChar char="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切记要为步骤加编号。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58920" indent="-358920">
              <a:spcBef>
                <a:spcPts val="601"/>
              </a:spcBef>
              <a:buClr>
                <a:srgbClr val="35bbe5"/>
              </a:buClr>
              <a:buFont typeface="Wingdings" charset="2"/>
              <a:buChar char="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添加实验照片。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Arial"/>
                <a:ea typeface="宋体"/>
              </a:rPr>
              <a:t>数据</a:t>
            </a:r>
            <a:r>
              <a:rPr b="1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1" lang="zh-CN" sz="2900" spc="-1" strike="noStrike">
                <a:solidFill>
                  <a:srgbClr val="ffffff"/>
                </a:solidFill>
                <a:latin typeface="Arial"/>
                <a:ea typeface="宋体"/>
              </a:rPr>
              <a:t>观测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01"/>
              </a:spcBef>
              <a:buClr>
                <a:srgbClr val="35bbe5"/>
              </a:buClr>
              <a:buFont typeface="Wingdings" charset="2"/>
              <a:buChar char="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将数据放到表或图形中将更容易了解数据。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58920" indent="-358920">
              <a:spcBef>
                <a:spcPts val="601"/>
              </a:spcBef>
              <a:buClr>
                <a:srgbClr val="35bbe5"/>
              </a:buClr>
              <a:buFont typeface="Wingdings" charset="2"/>
              <a:buChar char="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确保清楚地标记了所有数据。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Arial"/>
                <a:ea typeface="宋体"/>
              </a:rPr>
              <a:t>总结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01"/>
              </a:spcBef>
              <a:buClr>
                <a:srgbClr val="35bbe5"/>
              </a:buClr>
              <a:buFont typeface="Wingdings" charset="2"/>
              <a:buChar char="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在此处键入根据实验结果发现的内容的简短摘要。您需要指示数据是否支持假设并解释支持或不支持的原因。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21:40:22Z</dcterms:created>
  <dc:creator/>
  <dc:description/>
  <dc:language>en-US</dc:language>
  <cp:lastModifiedBy/>
  <dcterms:modified xsi:type="dcterms:W3CDTF">2015-07-04T08:49:2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_TemplateID">
    <vt:lpwstr>TC101659562052</vt:lpwstr>
  </property>
</Properties>
</file>