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C4D-AC6A-4E45-8C2F-4DF23F20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C56-050F-4C77-85C6-5FCF270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3DD-2D41-4DC4-A5EB-3B4FB0B6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95F-92A4-47B9-B098-B21A83B8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1D51-4CAB-4F11-97D2-A6F8D09A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4CFF-B4C5-48E4-B0FD-689D63A5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DDE7-1475-4BC7-9154-6CB8C987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5B01-2F5F-42C1-95CC-3A99A487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2757-5D54-4898-8F19-AEE977FD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6794-CB1C-4275-B474-A6421843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53F9-D117-4CE7-A33D-56F4A23C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7F9-2848-4884-B92C-ED3C9FFF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D526-0BFF-4341-9F7F-1A279A5F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B739-9E24-46C8-95AB-C8A176EA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EC3C-0924-4426-92C6-80373E14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0EE4-AB06-4BD8-92CB-8B29FAC7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AF30-7F0C-447B-B542-FF248BDC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DD4-EFD2-480F-B7F7-929711FB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C28-B5EA-45C9-9969-B6D836C3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31A-49D5-4CFE-9C5D-C57D8D2E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53D-DEAA-4328-B771-0AE11CAA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7DA-D023-400F-A80C-AF9359C0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8E1-BAFF-4A4F-ACBF-15570B9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785-92E7-4B19-9284-19011422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D5B7-926D-4B6F-902E-A0906E45DE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0C68-EAAF-46A4-9F2F-8FF2394606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9440" y="1917360"/>
            <a:ext cx="755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小清新绿色植物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pp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3646440"/>
            <a:ext cx="4827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 Rounded MT Bold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 Rounded MT Bold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37F-409D-46CD-AFF8-9847C08E1E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25:43Z</dcterms:created>
  <dc:creator/>
  <dc:description/>
  <dc:language>en-US</dc:language>
  <cp:lastModifiedBy/>
  <dcterms:modified xsi:type="dcterms:W3CDTF">2015-07-04T07:20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