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D97-E4CE-41D9-B00C-0358F5A6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DBC-C484-44B9-AECC-D77E2A0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8DC-B190-48F2-8D36-0CE35C7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006-3B61-4AA8-966B-C7F845FE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FFA-FA46-4B7D-88AB-1223C27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817-0BE3-45A0-9389-250B2539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DC0-6C56-4BB4-A2D5-FFDC7FA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E89-2C0B-4312-B5DD-F3964F4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6EE-237A-49A2-BCC6-8B454B1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3A2-510E-4553-B4D5-C7DBB06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51B-5E2E-435F-AD6A-4BC0AAC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807-A454-4F1B-902B-7DDD562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8DB-DF16-4B33-93EA-303B85EFCE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9562-F30B-419D-A009-01CF290E9A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190600" y="228600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小学课件</a:t>
            </a: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246480"/>
            <a:ext cx="48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4f81bd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BE5-D137-418B-8285-D6DC84BF6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785960" y="214308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81bd"/>
                </a:solidFill>
                <a:latin typeface="方正隶二简体"/>
                <a:ea typeface="微软雅黑"/>
              </a:rPr>
              <a:t>谢谢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3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4"/>
          <a:stretch/>
        </p:blipFill>
        <p:spPr>
          <a:xfrm>
            <a:off x="407196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"/>
          <p:cNvPicPr/>
          <p:nvPr/>
        </p:nvPicPr>
        <p:blipFill>
          <a:blip r:embed="rId5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6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507-8C92-46D4-A59E-182BB2C2B6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微软用户</dc:creator>
  <dc:description/>
  <dc:language>en-US</dc:language>
  <cp:lastModifiedBy>微软用户</cp:lastModifiedBy>
  <dcterms:modified xsi:type="dcterms:W3CDTF">2015-07-04T07:18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