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FE0-1679-40CE-A02F-9BD55D76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8AD-E949-4259-99D3-8A14BA1B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66F-A123-4F1B-AD0D-ACFD564D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1E7-F318-4687-B721-AC3D90E3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9987-0E31-467C-8A8C-C2A056A4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EB34-829D-4B97-8EA1-785F6B29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E468-6EB6-431F-BAF0-41DA81B8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B667-6F2D-4BF6-BA3D-DFB9D555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D1C0-74D8-4688-A589-FA948CC4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71F0-7EFD-4F96-AEF9-A79D2D5D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7B04-FEF6-40CF-987B-91614160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CFB-A22E-4B7B-B9F8-1417F3C3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91B7-FE2D-499D-B41C-E8559273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BE63-27DC-47B8-A791-26C997F9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484C-A636-45A7-B09E-3DB3F6CA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9563-A40B-49CC-93A2-CAC47EE7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44AA-8EF3-461F-9426-FF8B099A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AFC-CC8F-4041-86F1-555F93E3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BF1-C7A0-4E29-BD29-838222DE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E3F-EE94-43AE-A0B4-C2FAD5ED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5F8-B846-4914-B017-FEEDADEA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766-04B9-4AB6-9CAB-C9513BE7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8E1-B7C5-4445-A3DC-22209AEA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37B-7467-4CAA-BD91-3F345B1A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3268800" y="0"/>
            <a:ext cx="5151240" cy="686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6B8E-65E9-46F4-ADCC-FEE8AF842A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7867800" y="272880"/>
            <a:ext cx="110304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-31680" y="2289240"/>
            <a:ext cx="9175680" cy="24717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1B4A-71F4-490C-A807-840B877B1A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hyperlink" Target="http://www.eeppt.com/moban/jiaoyu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5839560" y="41353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科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7337520" y="4135320"/>
            <a:ext cx="9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1"/>
          <a:stretch/>
        </p:blipFill>
        <p:spPr>
          <a:xfrm>
            <a:off x="7518240" y="1766880"/>
            <a:ext cx="1103400" cy="92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41440" y="2968560"/>
            <a:ext cx="678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Calibri"/>
              </a:rPr>
              <a:t>学校人员考核</a:t>
            </a: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5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Calibri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7"/>
          <p:cNvSpPr/>
          <p:nvPr/>
        </p:nvSpPr>
        <p:spPr>
          <a:xfrm>
            <a:off x="3481560" y="2673360"/>
            <a:ext cx="347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培养博士生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，即将回校工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3481560" y="1623960"/>
            <a:ext cx="382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拿大 蒙特利尔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13" descr=""/>
          <p:cNvPicPr/>
          <p:nvPr/>
        </p:nvPicPr>
        <p:blipFill>
          <a:blip r:embed="rId1"/>
          <a:stretch/>
        </p:blipFill>
        <p:spPr>
          <a:xfrm>
            <a:off x="1263600" y="1712880"/>
            <a:ext cx="197640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矩形 15"/>
          <p:cNvSpPr/>
          <p:nvPr/>
        </p:nvSpPr>
        <p:spPr>
          <a:xfrm>
            <a:off x="3481560" y="4309920"/>
            <a:ext cx="282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国 蒙彼利埃第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7"/>
          <p:cNvSpPr/>
          <p:nvPr/>
        </p:nvSpPr>
        <p:spPr>
          <a:xfrm>
            <a:off x="3481560" y="5326200"/>
            <a:ext cx="3369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培养博士生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52560" y="369720"/>
            <a:ext cx="33955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1601640" y="1781280"/>
            <a:ext cx="5774040" cy="3846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4549-40B9-4FC8-ABA9-3FF927AE92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3319560" y="1724040"/>
            <a:ext cx="515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研究生课程 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。总教学工作量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0000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均教学工作量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000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648960" y="3360600"/>
            <a:ext cx="4463280" cy="757800"/>
            <a:chOff x="3648960" y="3360600"/>
            <a:chExt cx="4463280" cy="757800"/>
          </a:xfrm>
        </p:grpSpPr>
        <p:sp>
          <p:nvSpPr>
            <p:cNvPr id="92" name="矩形 8"/>
            <p:cNvSpPr/>
            <p:nvPr/>
          </p:nvSpPr>
          <p:spPr>
            <a:xfrm>
              <a:off x="5499000" y="336060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 </a:t>
              </a: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6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9"/>
            <p:cNvSpPr/>
            <p:nvPr/>
          </p:nvSpPr>
          <p:spPr>
            <a:xfrm>
              <a:off x="6996240" y="3360600"/>
              <a:ext cx="11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读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矩形 10"/>
            <p:cNvSpPr/>
            <p:nvPr/>
          </p:nvSpPr>
          <p:spPr>
            <a:xfrm>
              <a:off x="3648960" y="373536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硕士研究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矩形 11"/>
            <p:cNvSpPr/>
            <p:nvPr/>
          </p:nvSpPr>
          <p:spPr>
            <a:xfrm>
              <a:off x="5499000" y="371952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 </a:t>
              </a: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9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矩形 12"/>
            <p:cNvSpPr/>
            <p:nvPr/>
          </p:nvSpPr>
          <p:spPr>
            <a:xfrm>
              <a:off x="7104960" y="3719520"/>
              <a:ext cx="8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读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14"/>
            <p:cNvSpPr/>
            <p:nvPr/>
          </p:nvSpPr>
          <p:spPr>
            <a:xfrm>
              <a:off x="3648960" y="33764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博士研究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图片 2" descr=""/>
          <p:cNvPicPr/>
          <p:nvPr/>
        </p:nvPicPr>
        <p:blipFill>
          <a:blip r:embed="rId1"/>
          <a:stretch/>
        </p:blipFill>
        <p:spPr>
          <a:xfrm>
            <a:off x="2190600" y="324324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Paralife\Downloads\1305510976_ordinateur off.png"/>
          <p:cNvPicPr/>
          <p:nvPr/>
        </p:nvPicPr>
        <p:blipFill>
          <a:blip r:embed="rId2"/>
          <a:stretch/>
        </p:blipFill>
        <p:spPr>
          <a:xfrm>
            <a:off x="2313000" y="184464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100" name="矩形 15"/>
          <p:cNvSpPr/>
          <p:nvPr/>
        </p:nvSpPr>
        <p:spPr>
          <a:xfrm>
            <a:off x="3319560" y="4786200"/>
            <a:ext cx="51512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硕士论文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 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 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4" descr=""/>
          <p:cNvPicPr/>
          <p:nvPr/>
        </p:nvPicPr>
        <p:blipFill>
          <a:blip r:embed="rId3"/>
          <a:stretch/>
        </p:blipFill>
        <p:spPr>
          <a:xfrm rot="748200">
            <a:off x="2300400" y="4879800"/>
            <a:ext cx="966600" cy="966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4"/>
          <a:stretch/>
        </p:blipFill>
        <p:spPr>
          <a:xfrm>
            <a:off x="52560" y="382680"/>
            <a:ext cx="33955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7"/>
          <p:cNvSpPr/>
          <p:nvPr/>
        </p:nvSpPr>
        <p:spPr>
          <a:xfrm>
            <a:off x="3402000" y="2444760"/>
            <a:ext cx="4884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加了理学院化学博士点的建设工作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学一级学科博士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顺利通过教育部的批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3" descr=""/>
          <p:cNvPicPr/>
          <p:nvPr/>
        </p:nvPicPr>
        <p:blipFill>
          <a:blip r:embed="rId1"/>
          <a:stretch/>
        </p:blipFill>
        <p:spPr>
          <a:xfrm>
            <a:off x="1330200" y="2719440"/>
            <a:ext cx="1695600" cy="1693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61880" y="115920"/>
            <a:ext cx="298764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3378240" y="5286240"/>
            <a:ext cx="457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了校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98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科建设工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3413160" y="1711440"/>
            <a:ext cx="4887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组织并申报了西北工业大学</a:t>
            </a:r>
            <a:br>
              <a:rPr sz="1800"/>
            </a:b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分子化学与物理的博士后流动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3413160" y="3216240"/>
            <a:ext cx="488772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等学校科学研究及大型仪器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享平台</a:t>
            </a:r>
            <a:br>
              <a:rPr sz="20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材料已上报省教育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2190600" y="180648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Paralife\Downloads\1306049947_microscope.png"/>
          <p:cNvPicPr/>
          <p:nvPr/>
        </p:nvPicPr>
        <p:blipFill>
          <a:blip r:embed="rId2"/>
          <a:stretch/>
        </p:blipFill>
        <p:spPr>
          <a:xfrm>
            <a:off x="1928880" y="3368520"/>
            <a:ext cx="1384200" cy="138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3"/>
          <a:stretch/>
        </p:blipFill>
        <p:spPr>
          <a:xfrm>
            <a:off x="2287440" y="518328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4"/>
          <a:stretch/>
        </p:blipFill>
        <p:spPr>
          <a:xfrm>
            <a:off x="461880" y="115920"/>
            <a:ext cx="298764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3413160" y="2440080"/>
            <a:ext cx="48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 博士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 博士生已留校工作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，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4" descr=""/>
          <p:cNvPicPr/>
          <p:nvPr/>
        </p:nvPicPr>
        <p:blipFill>
          <a:blip r:embed="rId1"/>
          <a:stretch/>
        </p:blipFill>
        <p:spPr>
          <a:xfrm>
            <a:off x="1998720" y="2313000"/>
            <a:ext cx="1268280" cy="1268280"/>
          </a:xfrm>
          <a:prstGeom prst="rect">
            <a:avLst/>
          </a:prstGeom>
          <a:ln w="0">
            <a:noFill/>
          </a:ln>
        </p:spPr>
      </p:pic>
      <p:sp>
        <p:nvSpPr>
          <p:cNvPr id="115" name="矩形 5"/>
          <p:cNvSpPr/>
          <p:nvPr/>
        </p:nvSpPr>
        <p:spPr>
          <a:xfrm>
            <a:off x="3413160" y="3454560"/>
            <a:ext cx="372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评为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破格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为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评为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教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73040" y="3618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3456000" y="4410000"/>
            <a:ext cx="228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田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3456000" y="5081760"/>
            <a:ext cx="482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博士后特别奖励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自然科学基金 青年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陕西省科学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I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，最高影响因子：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4.5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965960" y="863640"/>
            <a:ext cx="6168240" cy="1303200"/>
            <a:chOff x="1965960" y="863640"/>
            <a:chExt cx="6168240" cy="1303200"/>
          </a:xfrm>
        </p:grpSpPr>
        <p:sp>
          <p:nvSpPr>
            <p:cNvPr id="120" name="矩形 3"/>
            <p:cNvSpPr/>
            <p:nvPr/>
          </p:nvSpPr>
          <p:spPr>
            <a:xfrm>
              <a:off x="3455640" y="863640"/>
              <a:ext cx="4678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刘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6"/>
            <p:cNvSpPr/>
            <p:nvPr/>
          </p:nvSpPr>
          <p:spPr>
            <a:xfrm>
              <a:off x="3455640" y="1335240"/>
              <a:ext cx="4630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面上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表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CI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 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篇，最高影响因子：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.53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Picture 2" descr="C:\Users\Paralife\Downloads\1306051577_User.png"/>
            <p:cNvPicPr/>
            <p:nvPr/>
          </p:nvPicPr>
          <p:blipFill>
            <a:blip r:embed="rId1"/>
            <a:stretch/>
          </p:blipFill>
          <p:spPr>
            <a:xfrm flipH="1" rot="21081600">
              <a:off x="2042640" y="982800"/>
              <a:ext cx="1104840" cy="110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1924200" y="2344680"/>
            <a:ext cx="6210000" cy="2314080"/>
            <a:chOff x="1924200" y="2344680"/>
            <a:chExt cx="6210000" cy="2314080"/>
          </a:xfrm>
        </p:grpSpPr>
        <p:sp>
          <p:nvSpPr>
            <p:cNvPr id="124" name="矩形 7"/>
            <p:cNvSpPr/>
            <p:nvPr/>
          </p:nvSpPr>
          <p:spPr>
            <a:xfrm>
              <a:off x="3456000" y="2344680"/>
              <a:ext cx="2286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9"/>
            <p:cNvSpPr/>
            <p:nvPr/>
          </p:nvSpPr>
          <p:spPr>
            <a:xfrm>
              <a:off x="3456000" y="2739600"/>
              <a:ext cx="467820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洪堡基金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面上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青年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航空基金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表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CI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 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篇，最高影响因子：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.53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3" descr="C:\Users\Paralife\Downloads\1306051570_administrator.png"/>
            <p:cNvPicPr/>
            <p:nvPr/>
          </p:nvPicPr>
          <p:blipFill>
            <a:blip r:embed="rId2"/>
            <a:stretch/>
          </p:blipFill>
          <p:spPr>
            <a:xfrm>
              <a:off x="1924200" y="3104640"/>
              <a:ext cx="1190520" cy="119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4" descr="C:\Users\Paralife\Downloads\1306051563_administrator.png"/>
          <p:cNvPicPr/>
          <p:nvPr/>
        </p:nvPicPr>
        <p:blipFill>
          <a:blip r:embed="rId3"/>
          <a:stretch/>
        </p:blipFill>
        <p:spPr>
          <a:xfrm rot="21117600">
            <a:off x="1938240" y="531036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473040" y="136440"/>
            <a:ext cx="2987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"/>
          <p:cNvSpPr/>
          <p:nvPr/>
        </p:nvSpPr>
        <p:spPr>
          <a:xfrm>
            <a:off x="3311640" y="760320"/>
            <a:ext cx="510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持科研项目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自然科学基金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部级项目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3311640" y="2643120"/>
            <a:ext cx="51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研经费累计到款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100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22" descr=""/>
          <p:cNvPicPr/>
          <p:nvPr/>
        </p:nvPicPr>
        <p:blipFill>
          <a:blip r:embed="rId1"/>
          <a:stretch/>
        </p:blipFill>
        <p:spPr>
          <a:xfrm>
            <a:off x="1963800" y="958680"/>
            <a:ext cx="130500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63520" y="3614760"/>
          <a:ext cx="8156520" cy="2967120"/>
        </p:xfrm>
        <a:graphic>
          <a:graphicData uri="http://schemas.openxmlformats.org/drawingml/2006/table">
            <a:tbl>
              <a:tblPr/>
              <a:tblGrid>
                <a:gridCol w="747720"/>
                <a:gridCol w="4100400"/>
                <a:gridCol w="852480"/>
                <a:gridCol w="1227240"/>
                <a:gridCol w="122868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项目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本人排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总经费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万元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已到款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万元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36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国家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横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</a:tbl>
          </a:graphicData>
        </a:graphic>
      </p:graphicFrame>
      <p:pic>
        <p:nvPicPr>
          <p:cNvPr id="133" name="图片 26" descr=""/>
          <p:cNvPicPr/>
          <p:nvPr/>
        </p:nvPicPr>
        <p:blipFill>
          <a:blip r:embed="rId2"/>
          <a:stretch/>
        </p:blipFill>
        <p:spPr>
          <a:xfrm>
            <a:off x="2208240" y="2597040"/>
            <a:ext cx="88596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3" descr=""/>
          <p:cNvPicPr/>
          <p:nvPr/>
        </p:nvPicPr>
        <p:blipFill>
          <a:blip r:embed="rId3"/>
          <a:stretch/>
        </p:blipFill>
        <p:spPr>
          <a:xfrm>
            <a:off x="63360" y="201600"/>
            <a:ext cx="339588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"/>
          <p:cNvSpPr/>
          <p:nvPr/>
        </p:nvSpPr>
        <p:spPr>
          <a:xfrm>
            <a:off x="3594240" y="2532240"/>
            <a:ext cx="5149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石油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油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行了大规模的推广应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由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1028880" y="1793880"/>
            <a:ext cx="2565360" cy="3857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3" descr=""/>
          <p:cNvPicPr/>
          <p:nvPr/>
        </p:nvPicPr>
        <p:blipFill>
          <a:blip r:embed="rId2"/>
          <a:stretch/>
        </p:blipFill>
        <p:spPr>
          <a:xfrm>
            <a:off x="63360" y="368280"/>
            <a:ext cx="3395880" cy="920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8960" y="6357960"/>
            <a:ext cx="5942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教学ppt模板下载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7"/>
          <p:cNvSpPr/>
          <p:nvPr/>
        </p:nvSpPr>
        <p:spPr>
          <a:xfrm>
            <a:off x="5083920" y="1852560"/>
            <a:ext cx="24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集成分子及大分子材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际会议（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IMME-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###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2765520" y="1852560"/>
            <a:ext cx="198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议名称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宣读论文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C:\Users\Paralife\Downloads\1305556563_Microphone.png"/>
          <p:cNvPicPr/>
          <p:nvPr/>
        </p:nvPicPr>
        <p:blipFill>
          <a:blip r:embed="rId1"/>
          <a:srcRect l="20145" t="0" r="20780" b="0"/>
          <a:stretch/>
        </p:blipFill>
        <p:spPr>
          <a:xfrm>
            <a:off x="1633680" y="2797200"/>
            <a:ext cx="1404720" cy="237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52560" y="369720"/>
            <a:ext cx="339552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08:48:18Z</dcterms:created>
  <dc:creator>Paralife</dc:creator>
  <dc:description/>
  <dc:language>en-US</dc:language>
  <cp:lastModifiedBy>Fan</cp:lastModifiedBy>
  <dcterms:modified xsi:type="dcterms:W3CDTF">2015-07-04T07:09:42Z</dcterms:modified>
  <cp:revision>66</cp:revision>
  <dc:subject/>
  <dc:title>范晓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