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8C48-C303-4941-8F61-720A1F11E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348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48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456F-7A73-40D1-A33B-44D1FF91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348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052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348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052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9F2A-77BD-4B4C-A184-1C783885F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348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592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348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592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AFE2-599A-4A73-8408-09DA62E5C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0BEC-B5E7-4985-88E0-8F3E266CC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634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12AF-5285-4999-BABD-CF73E8FD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634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7EE5-45C4-4598-80FB-A8950AE6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6348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052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D66E-1FFD-4BAB-BE76-68552650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E910-4F54-4287-8877-FCC54DA1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63480" y="188640"/>
            <a:ext cx="822960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2E05-1BDB-45C6-89E3-1FFFDE30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6348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052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48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73BD-FC21-47C8-B57D-9CE5C0E0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34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B041-1F1D-46B5-AF4B-E59D06BC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6348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052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052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E7B8-8A37-443F-B107-020A6FF3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348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052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6348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D924-0FEA-4BE5-AC9D-8CE91830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348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6348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CD41-6ECD-42A0-8F88-02F90B17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348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052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348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052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F974-5BDE-4473-9DF0-F2CDA16BE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348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4592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2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6348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4592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2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9A3C-BC68-4C88-A892-52964256D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34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0CA0-3761-44D6-AB6D-54939446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348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052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AD96-B2FF-474C-BC77-0AADB6BF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32CA-9BCE-42C2-A85D-A13717EB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3480" y="188640"/>
            <a:ext cx="822960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5A8A-8C44-4766-AB74-248058C6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348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052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348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5575-90C5-4184-80C9-B3ADF631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348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052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052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E5B3-861D-48DD-BDB7-1AA2529E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348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052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348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5055-DD8B-4E23-8660-8FACDBCF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34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F066-B4C6-4BC5-BEDC-655CB319C3F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5208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A831-932A-4633-8E30-D5B40D70D29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5208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Rounded MT Bold"/>
              </a:rPr>
              <a:t>休闲时光</a:t>
            </a: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PPT</a:t>
            </a:r>
            <a:r>
              <a:rPr b="1" lang="zh-CN" sz="4400" spc="-1" strike="noStrike">
                <a:solidFill>
                  <a:srgbClr val="ffffff"/>
                </a:solidFill>
                <a:latin typeface="Arial Rounded MT Bold"/>
              </a:rPr>
              <a:t>模板</a:t>
            </a:r>
            <a:endParaRPr b="1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24000" y="4797000"/>
            <a:ext cx="46800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 Rounded MT Bold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 Rounded MT Bold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634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使用规范说明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 Rounded MT Bold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 Rounded MT Bold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 Rounded MT Bold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 Rounded MT Bold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 Rounded MT Bold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 Rounded MT Bold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 Rounded MT Bold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A512-46FE-4998-A572-37A4D6519E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7:45:01Z</dcterms:created>
  <dc:creator/>
  <dc:description/>
  <dc:language>en-US</dc:language>
  <cp:lastModifiedBy/>
  <dcterms:modified xsi:type="dcterms:W3CDTF">2015-07-04T07:14:0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