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A89F-CD8F-43F5-A567-52164E90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4DF4-FD4C-4AF0-AB78-05FFE70B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E09-DDF7-4083-A53F-0D6A1C65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096F-7DEC-42A1-A225-38C174CA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B78A-51A6-4332-AE3C-02F4B39C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1BB6-A436-447B-AE69-9E9796A9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8CA8-73A8-4037-B7F9-50EC9923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8DBC-6FE3-48DE-AF2B-3EEAA1BC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78D5-2112-432D-A788-26E3D715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ABC2-9975-499B-AAF8-7AEA2BF9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73EA-E422-477F-8E68-19DF9467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ADA8-7C54-41DB-9DCD-8C5514A5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0FFC-CA87-4413-9E4F-A5BC4118FD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16360" y="472608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熏衣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zh-CN" sz="13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57121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7569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2711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14259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649800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24260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54266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3854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62125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47836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25689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783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6640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426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4283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068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569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569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28548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306900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635508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40690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/>
          <p:cNvSpPr/>
          <p:nvPr/>
        </p:nvSpPr>
        <p:spPr>
          <a:xfrm>
            <a:off x="17830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2125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49784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46407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9977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67125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6640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2711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24260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4CF0-65FA-47BC-8446-CD53576F5E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/>
  <dc:language>en-US</dc:language>
  <cp:lastModifiedBy/>
  <dcterms:modified xsi:type="dcterms:W3CDTF">2015-07-04T09:14:40Z</dcterms:modified>
  <cp:revision>1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