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85ED-1A26-4699-9FBD-D5D9C3A0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0A3B-018F-4ED9-B674-BBC7FC16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D049-38E3-4C0C-BAB4-03D341694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6746-9DDB-44F1-9B00-227ECAC49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EB64-79DC-495F-9BCE-D0C1DF33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E156-33AD-402A-A179-5F1DE955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EA68-FD8E-41F8-96F5-96A1D42D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CEF9-4C9B-4E05-AE5B-30A05349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699E-786E-4925-8191-18E8FC1D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944B-9D9D-4226-8EE3-D3CA5FCB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BFC7-B81E-440F-8C9D-FF68338A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687A-C0DB-4A1C-9365-115E03E6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CF00-8B9E-47CA-90AB-542664C7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5BF1-09B9-46BE-8310-B767068B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9B2B-362A-41AC-B4E0-085ADB4F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A2A4-5DD6-4615-BBCA-366EC9D0A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ED66-F956-4D6C-8FEB-B48458F17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5270-6A0D-49D2-B791-BF1F74BB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A250-B47A-43FD-956F-8C1715B3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A386-BD67-46E8-B8B2-1C21BB6D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12F3-0AA0-4AC7-9887-2189B847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A24C-3071-42E7-AE2F-F15D9EA1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9574-D611-4861-8680-9D56F4B6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6931-FAFA-4994-A31B-90F3DF31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45AD-2034-4C56-9D4F-F31B4253FAC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1266-D081-46F7-A1CE-AD8BE2E40B1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41497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Impact"/>
              </a:rPr>
              <a:t>夕阳无限好</a:t>
            </a:r>
            <a:r>
              <a:rPr b="1" lang="zh-CN" sz="4000" spc="-1" strike="noStrike">
                <a:solidFill>
                  <a:srgbClr val="ffffff"/>
                </a:solidFill>
                <a:latin typeface="Impact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Impact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5640" y="5375160"/>
            <a:ext cx="62658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567F-6FB8-4957-8700-E018527F04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8:55:43Z</dcterms:created>
  <dc:creator>zouendong</dc:creator>
  <dc:description/>
  <dc:language>en-US</dc:language>
  <cp:lastModifiedBy>zouendong</cp:lastModifiedBy>
  <dcterms:modified xsi:type="dcterms:W3CDTF">2015-07-04T07:57:55Z</dcterms:modified>
  <cp:revision>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