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B23-6F8E-4064-9FC1-8520C208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169-F455-491B-8574-941D377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552-D1C9-4849-8ED7-E2B184A3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8EC-A427-41B6-8A60-4A9AE335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D3E-740B-4473-9571-3AF7B536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420-5AFF-4E61-BA58-2C142AD0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B20-0AD2-424F-872D-DD1CEE94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E86-ECC7-4212-B820-587BC107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737-CFC9-4F50-807D-BA0EA40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DFB-445A-42B0-9280-EBC417C2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B38-EF5B-49C5-9BC8-7C644CF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4DD-7B21-496F-86C4-5B0AD22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E65D-CC0D-41B8-A910-F093C4A0E63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4FD-97F2-46F7-9379-81B6D97BF09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7400" y="947880"/>
            <a:ext cx="7162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向左走向右走爱情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EDE-180C-4B0B-89FE-4C3E29BCD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7:20:00Z</dcterms:created>
  <dc:creator>果因PPT工作室</dc:creator>
  <dc:description/>
  <cp:keywords>XS-普屏 4：3;SC-多彩色;BG-浅色;DH-静态</cp:keywords>
  <dc:language>en-US</dc:language>
  <cp:lastModifiedBy>田士庆</cp:lastModifiedBy>
  <dcterms:modified xsi:type="dcterms:W3CDTF">2015-07-04T07:28:03Z</dcterms:modified>
  <cp:revision>3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