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3FBA-3319-4475-ACE6-1ED4B168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F179-74C4-4A09-B9DD-4590DD4B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6E77-CA37-42CB-AABA-04E7E88CB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165-9C2C-4741-8D8E-04F101B83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A765-2A1E-4C90-8A5A-861ED122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6D8-6FBB-4D50-97C0-3EC35DA0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CFEF-DAD5-482A-B66F-CD8973E4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CFA-0C86-499F-9E9B-7A844740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85C2-C5E6-4DB6-B1B5-5171E9DE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507-489C-42B0-9B54-EEE8498F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664-CD14-41E9-8C34-AAAEB2BC4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8ADA-7080-44ED-9792-DC1D0584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E8D18-E171-4C72-8C6A-01B580ECE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月度工作计划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5086440"/>
            <a:ext cx="42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258920" y="1916280"/>
            <a:ext cx="6481800" cy="3817800"/>
          </a:xfrm>
          <a:prstGeom prst="donut">
            <a:avLst>
              <a:gd name="adj" fmla="val 1884"/>
            </a:avLst>
          </a:prstGeom>
          <a:gradFill rotWithShape="0">
            <a:gsLst>
              <a:gs pos="0">
                <a:srgbClr val="339966">
                  <a:alpha val="50196"/>
                </a:srgbClr>
              </a:gs>
              <a:gs pos="100000">
                <a:srgbClr val="339966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349360"/>
            <a:ext cx="5769000" cy="2965680"/>
          </a:xfrm>
          <a:prstGeom prst="ellipse">
            <a:avLst/>
          </a:prstGeom>
          <a:gradFill rotWithShape="0">
            <a:gsLst>
              <a:gs pos="0">
                <a:srgbClr val="339966">
                  <a:alpha val="26274"/>
                </a:srgbClr>
              </a:gs>
              <a:gs pos="100000">
                <a:srgbClr val="339966">
                  <a:alpha val="82352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27040" y="2924280"/>
            <a:ext cx="2746440" cy="1847880"/>
            <a:chOff x="527040" y="2924280"/>
            <a:chExt cx="2746440" cy="1847880"/>
          </a:xfrm>
        </p:grpSpPr>
        <p:sp>
          <p:nvSpPr>
            <p:cNvPr id="86" name=""/>
            <p:cNvSpPr/>
            <p:nvPr/>
          </p:nvSpPr>
          <p:spPr>
            <a:xfrm>
              <a:off x="625680" y="2943360"/>
              <a:ext cx="2647800" cy="1828800"/>
            </a:xfrm>
            <a:prstGeom prst="rightArrowCallout">
              <a:avLst>
                <a:gd name="adj1" fmla="val 22567"/>
                <a:gd name="adj2" fmla="val 25000"/>
                <a:gd name="adj3" fmla="val 20772"/>
                <a:gd name="adj4" fmla="val 77796"/>
              </a:avLst>
            </a:prstGeom>
            <a:gradFill rotWithShape="0">
              <a:gsLst>
                <a:gs pos="0">
                  <a:srgbClr val="bbe0e3">
                    <a:alpha val="64313"/>
                  </a:srgbClr>
                </a:gs>
                <a:gs pos="100000">
                  <a:srgbClr val="566768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5680" y="2943360"/>
              <a:ext cx="2057400" cy="3808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7040" y="3362400"/>
              <a:ext cx="1330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11280" y="2924280"/>
              <a:ext cx="208908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419640" y="1268280"/>
            <a:ext cx="2232000" cy="1752480"/>
            <a:chOff x="3419640" y="1268280"/>
            <a:chExt cx="2232000" cy="1752480"/>
          </a:xfrm>
        </p:grpSpPr>
        <p:sp>
          <p:nvSpPr>
            <p:cNvPr id="91" name=""/>
            <p:cNvSpPr/>
            <p:nvPr/>
          </p:nvSpPr>
          <p:spPr>
            <a:xfrm>
              <a:off x="3419640" y="1268280"/>
              <a:ext cx="2160720" cy="1752480"/>
            </a:xfrm>
            <a:prstGeom prst="downArrowCallout">
              <a:avLst>
                <a:gd name="adj1" fmla="val 33875"/>
                <a:gd name="adj2" fmla="val 31583"/>
                <a:gd name="adj3" fmla="val 19384"/>
                <a:gd name="adj4" fmla="val 72102"/>
              </a:avLst>
            </a:prstGeom>
            <a:gradFill rotWithShape="0">
              <a:gsLst>
                <a:gs pos="0">
                  <a:srgbClr val="33cc33">
                    <a:alpha val="65098"/>
                  </a:srgbClr>
                </a:gs>
                <a:gs pos="100000">
                  <a:srgbClr val="175e17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419640" y="1282680"/>
              <a:ext cx="2160720" cy="409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  <a:ea typeface="Gulim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45200" y="1679400"/>
              <a:ext cx="220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19640" y="1268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5580000" y="2924280"/>
            <a:ext cx="2881440" cy="1847880"/>
            <a:chOff x="5580000" y="2924280"/>
            <a:chExt cx="2881440" cy="1847880"/>
          </a:xfrm>
        </p:grpSpPr>
        <p:sp>
          <p:nvSpPr>
            <p:cNvPr id="96" name=""/>
            <p:cNvSpPr/>
            <p:nvPr/>
          </p:nvSpPr>
          <p:spPr>
            <a:xfrm>
              <a:off x="5580000" y="2943360"/>
              <a:ext cx="2878200" cy="1828800"/>
            </a:xfrm>
            <a:prstGeom prst="leftArrowCallout">
              <a:avLst>
                <a:gd name="adj1" fmla="val 21317"/>
                <a:gd name="adj2" fmla="val 25000"/>
                <a:gd name="adj3" fmla="val 31105"/>
                <a:gd name="adj4" fmla="val 74748"/>
              </a:avLst>
            </a:prstGeom>
            <a:gradFill rotWithShape="0">
              <a:gsLst>
                <a:gs pos="0">
                  <a:srgbClr val="3399ff">
                    <a:alpha val="68235"/>
                  </a:srgbClr>
                </a:gs>
                <a:gs pos="100000">
                  <a:srgbClr val="174675">
                    <a:alpha val="27058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00720" y="2924280"/>
              <a:ext cx="2157480" cy="428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373440" y="363564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00720" y="292428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49440" y="4829040"/>
            <a:ext cx="2230560" cy="1695600"/>
            <a:chOff x="3349440" y="4829040"/>
            <a:chExt cx="2230560" cy="1695600"/>
          </a:xfrm>
        </p:grpSpPr>
        <p:sp>
          <p:nvSpPr>
            <p:cNvPr id="101" name=""/>
            <p:cNvSpPr/>
            <p:nvPr/>
          </p:nvSpPr>
          <p:spPr>
            <a:xfrm>
              <a:off x="3432240" y="6143400"/>
              <a:ext cx="2133360" cy="381240"/>
            </a:xfrm>
            <a:prstGeom prst="rect">
              <a:avLst/>
            </a:prstGeom>
            <a:gradFill rotWithShape="0">
              <a:gsLst>
                <a:gs pos="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936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32240" y="4829040"/>
              <a:ext cx="2133360" cy="1295280"/>
            </a:xfrm>
            <a:prstGeom prst="upArrowCallout">
              <a:avLst>
                <a:gd name="adj1" fmla="val 51596"/>
                <a:gd name="adj2" fmla="val 41176"/>
                <a:gd name="adj3" fmla="val 13856"/>
                <a:gd name="adj4" fmla="val 46184"/>
              </a:avLst>
            </a:prstGeom>
            <a:gradFill rotWithShape="0">
              <a:gsLst>
                <a:gs pos="0">
                  <a:srgbClr val="dddddd">
                    <a:alpha val="71372"/>
                  </a:srgbClr>
                </a:gs>
                <a:gs pos="100000">
                  <a:srgbClr val="656565">
                    <a:alpha val="32156"/>
                  </a:srgbClr>
                </a:gs>
              </a:gsLst>
              <a:lin ang="54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49440" y="5154480"/>
              <a:ext cx="1287720" cy="69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2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lnSpc>
                  <a:spcPct val="11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19280" y="6165720"/>
              <a:ext cx="2160720" cy="144360"/>
            </a:xfrm>
            <a:prstGeom prst="rect">
              <a:avLst/>
            </a:prstGeom>
            <a:gradFill rotWithShape="0">
              <a:gsLst>
                <a:gs pos="0">
                  <a:srgbClr val="ffffff">
                    <a:alpha val="71372"/>
                  </a:srgbClr>
                </a:gs>
                <a:gs pos="100000">
                  <a:srgbClr val="757575">
                    <a:alpha val="3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708360" y="3068640"/>
            <a:ext cx="1655640" cy="16556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80000" y="3141720"/>
            <a:ext cx="1476360" cy="1485720"/>
            <a:chOff x="3780000" y="3141720"/>
            <a:chExt cx="1476360" cy="1485720"/>
          </a:xfrm>
        </p:grpSpPr>
        <p:pic>
          <p:nvPicPr>
            <p:cNvPr id="107" name="" descr=""/>
            <p:cNvPicPr/>
            <p:nvPr/>
          </p:nvPicPr>
          <p:blipFill>
            <a:blip r:embed="rId4"/>
            <a:stretch/>
          </p:blipFill>
          <p:spPr>
            <a:xfrm>
              <a:off x="3780000" y="3141720"/>
              <a:ext cx="147636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4212720" y="3357360"/>
              <a:ext cx="607320" cy="94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工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主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70600" y="1700280"/>
            <a:ext cx="2863080" cy="1434600"/>
          </a:xfrm>
          <a:prstGeom prst="rect">
            <a:avLst/>
          </a:prstGeom>
          <a:noFill/>
          <a:ln w="0">
            <a:noFill/>
          </a:ln>
          <a:effectLst>
            <a:outerShdw dist="85328" dir="3806096" blurRad="0" rotWithShape="0">
              <a:srgbClr val="0e30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3dad42"/>
                </a:solidFill>
                <a:latin typeface="Arial"/>
                <a:ea typeface="华文行楷"/>
              </a:rPr>
              <a:t>工作主项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515280" y="260280"/>
            <a:ext cx="1441440" cy="5689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5689800"/>
              <a:gd name="textAreaBottom" fmla="*/ 5619600 h 5689800"/>
            </a:gdLst>
            <a:ahLst/>
            <a:rect l="textAreaLeft" t="textAreaTop" r="textAreaRight" b="textAreaBottom"/>
            <a:pathLst>
              <a:path w="21600" h="85246">
                <a:moveTo>
                  <a:pt x="3600" y="0"/>
                </a:moveTo>
                <a:arcTo wR="3600" hR="3600" stAng="16200000" swAng="-5400000"/>
                <a:lnTo>
                  <a:pt x="0" y="81646"/>
                </a:lnTo>
                <a:arcTo wR="3600" hR="3600" stAng="10800000" swAng="-5400000"/>
                <a:lnTo>
                  <a:pt x="18000" y="852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247e2d"/>
              </a:gs>
              <a:gs pos="50000">
                <a:srgbClr val="a5e5ab"/>
              </a:gs>
              <a:gs pos="100000">
                <a:srgbClr val="247e2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443640" y="260280"/>
            <a:ext cx="1584360" cy="4314960"/>
            <a:chOff x="6443640" y="260280"/>
            <a:chExt cx="1584360" cy="431496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6443640" y="1628640"/>
              <a:ext cx="1579680" cy="157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443640" y="2997000"/>
              <a:ext cx="1577880" cy="157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3"/>
            <a:stretch/>
          </p:blipFill>
          <p:spPr>
            <a:xfrm>
              <a:off x="6443640" y="260280"/>
              <a:ext cx="1584360" cy="158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466560" y="260280"/>
            <a:ext cx="5904000" cy="2016000"/>
            <a:chOff x="466560" y="260280"/>
            <a:chExt cx="5904000" cy="2016000"/>
          </a:xfrm>
        </p:grpSpPr>
        <p:sp>
          <p:nvSpPr>
            <p:cNvPr id="116" name=""/>
            <p:cNvSpPr/>
            <p:nvPr/>
          </p:nvSpPr>
          <p:spPr>
            <a:xfrm>
              <a:off x="498240" y="27936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ff66cc">
                    <a:alpha val="64313"/>
                  </a:srgbClr>
                </a:gs>
                <a:gs pos="100000">
                  <a:srgbClr val="752f5e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240" y="279360"/>
              <a:ext cx="5153040" cy="380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560" y="71100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6560" y="26028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68360" y="1413000"/>
            <a:ext cx="5904000" cy="2232000"/>
            <a:chOff x="468360" y="1413000"/>
            <a:chExt cx="5904000" cy="2232000"/>
          </a:xfrm>
        </p:grpSpPr>
        <p:sp>
          <p:nvSpPr>
            <p:cNvPr id="121" name=""/>
            <p:cNvSpPr/>
            <p:nvPr/>
          </p:nvSpPr>
          <p:spPr>
            <a:xfrm>
              <a:off x="500040" y="1432080"/>
              <a:ext cx="5872320" cy="2212920"/>
            </a:xfrm>
            <a:prstGeom prst="rightArrowCallout">
              <a:avLst>
                <a:gd name="adj1" fmla="val 31947"/>
                <a:gd name="adj2" fmla="val 25000"/>
                <a:gd name="adj3" fmla="val 21733"/>
                <a:gd name="adj4" fmla="val 88185"/>
              </a:avLst>
            </a:prstGeom>
            <a:gradFill rotWithShape="0">
              <a:gsLst>
                <a:gs pos="0">
                  <a:srgbClr val="70d67a">
                    <a:alpha val="64313"/>
                  </a:srgbClr>
                </a:gs>
                <a:gs pos="100000">
                  <a:srgbClr val="336238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0040" y="1432080"/>
              <a:ext cx="5153040" cy="3808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8360" y="18637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8360" y="14130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66560" y="2851200"/>
            <a:ext cx="5904000" cy="2016000"/>
            <a:chOff x="466560" y="2851200"/>
            <a:chExt cx="5904000" cy="2016000"/>
          </a:xfrm>
        </p:grpSpPr>
        <p:sp>
          <p:nvSpPr>
            <p:cNvPr id="126" name=""/>
            <p:cNvSpPr/>
            <p:nvPr/>
          </p:nvSpPr>
          <p:spPr>
            <a:xfrm>
              <a:off x="498240" y="287028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3399ff">
                    <a:alpha val="64313"/>
                  </a:srgbClr>
                </a:gs>
                <a:gs pos="100000">
                  <a:srgbClr val="174675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98240" y="2870280"/>
              <a:ext cx="5153040" cy="3808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6560" y="3301920"/>
              <a:ext cx="511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6560" y="285120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" descr=""/>
          <p:cNvPicPr/>
          <p:nvPr/>
        </p:nvPicPr>
        <p:blipFill>
          <a:blip r:embed="rId7"/>
          <a:stretch/>
        </p:blipFill>
        <p:spPr>
          <a:xfrm>
            <a:off x="6443640" y="4365720"/>
            <a:ext cx="1508040" cy="1508040"/>
          </a:xfrm>
          <a:prstGeom prst="rect">
            <a:avLst/>
          </a:prstGeom>
          <a:ln w="0">
            <a:noFill/>
          </a:ln>
        </p:spPr>
      </p:pic>
      <p:grpSp>
        <p:nvGrpSpPr>
          <p:cNvPr id="131" name=""/>
          <p:cNvGrpSpPr/>
          <p:nvPr/>
        </p:nvGrpSpPr>
        <p:grpSpPr>
          <a:xfrm>
            <a:off x="468360" y="4076640"/>
            <a:ext cx="5904000" cy="2016000"/>
            <a:chOff x="468360" y="4076640"/>
            <a:chExt cx="5904000" cy="2016000"/>
          </a:xfrm>
        </p:grpSpPr>
        <p:sp>
          <p:nvSpPr>
            <p:cNvPr id="132" name=""/>
            <p:cNvSpPr/>
            <p:nvPr/>
          </p:nvSpPr>
          <p:spPr>
            <a:xfrm>
              <a:off x="500040" y="4095720"/>
              <a:ext cx="5872320" cy="1996920"/>
            </a:xfrm>
            <a:prstGeom prst="rightArrowCallout">
              <a:avLst>
                <a:gd name="adj1" fmla="val 31947"/>
                <a:gd name="adj2" fmla="val 25000"/>
                <a:gd name="adj3" fmla="val 24084"/>
                <a:gd name="adj4" fmla="val 88185"/>
              </a:avLst>
            </a:prstGeom>
            <a:gradFill rotWithShape="0">
              <a:gsLst>
                <a:gs pos="0">
                  <a:srgbClr val="ff6600">
                    <a:alpha val="64313"/>
                  </a:srgbClr>
                </a:gs>
                <a:gs pos="100000">
                  <a:srgbClr val="752f00">
                    <a:alpha val="35294"/>
                  </a:srgbClr>
                </a:gs>
              </a:gsLst>
              <a:lin ang="13500000"/>
            </a:grad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100" spc="-1" strike="noStrike">
                  <a:solidFill>
                    <a:srgbClr val="000000"/>
                  </a:solidFill>
                  <a:latin typeface="바탕"/>
                  <a:ea typeface="바탕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0040" y="4095720"/>
              <a:ext cx="5153040" cy="3808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19080">
              <a:solidFill>
                <a:srgbClr val="c68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YOUR 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68360" y="452736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68360" y="4076640"/>
              <a:ext cx="5184720" cy="1443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randomBar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788000" y="3141720"/>
            <a:ext cx="2157120" cy="2231640"/>
            <a:chOff x="4788000" y="3141720"/>
            <a:chExt cx="2157120" cy="2231640"/>
          </a:xfrm>
        </p:grpSpPr>
        <p:grpSp>
          <p:nvGrpSpPr>
            <p:cNvPr id="137" name=""/>
            <p:cNvGrpSpPr/>
            <p:nvPr/>
          </p:nvGrpSpPr>
          <p:grpSpPr>
            <a:xfrm>
              <a:off x="4788000" y="3141720"/>
              <a:ext cx="2157120" cy="2231640"/>
              <a:chOff x="4788000" y="3141720"/>
              <a:chExt cx="2157120" cy="2231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788000" y="3141720"/>
                <a:ext cx="2157120" cy="2231640"/>
              </a:xfrm>
              <a:prstGeom prst="ellipse">
                <a:avLst/>
              </a:prstGeom>
              <a:gradFill rotWithShape="0">
                <a:gsLst>
                  <a:gs pos="0">
                    <a:srgbClr val="d60093">
                      <a:alpha val="71372"/>
                    </a:srgbClr>
                  </a:gs>
                  <a:gs pos="50000">
                    <a:srgbClr val="ff66cc">
                      <a:alpha val="35294"/>
                    </a:srgbClr>
                  </a:gs>
                  <a:gs pos="100000">
                    <a:srgbClr val="d60093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961160" y="3398760"/>
                <a:ext cx="1770840" cy="17701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0" name=""/>
            <p:cNvSpPr/>
            <p:nvPr/>
          </p:nvSpPr>
          <p:spPr>
            <a:xfrm>
              <a:off x="5184720" y="3830760"/>
              <a:ext cx="16192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华文行楷"/>
                </a:rPr>
                <a:t>Your 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5292720" y="549360"/>
            <a:ext cx="1943280" cy="1873080"/>
            <a:chOff x="5292720" y="549360"/>
            <a:chExt cx="1943280" cy="1873080"/>
          </a:xfrm>
        </p:grpSpPr>
        <p:grpSp>
          <p:nvGrpSpPr>
            <p:cNvPr id="142" name=""/>
            <p:cNvGrpSpPr/>
            <p:nvPr/>
          </p:nvGrpSpPr>
          <p:grpSpPr>
            <a:xfrm>
              <a:off x="5292720" y="549360"/>
              <a:ext cx="1798560" cy="1873080"/>
              <a:chOff x="5292720" y="549360"/>
              <a:chExt cx="1798560" cy="1873080"/>
            </a:xfrm>
          </p:grpSpPr>
          <p:sp>
            <p:nvSpPr>
              <p:cNvPr id="143" name=""/>
              <p:cNvSpPr/>
              <p:nvPr/>
            </p:nvSpPr>
            <p:spPr>
              <a:xfrm>
                <a:off x="5292720" y="549360"/>
                <a:ext cx="1798560" cy="1873080"/>
              </a:xfrm>
              <a:prstGeom prst="ellipse">
                <a:avLst/>
              </a:prstGeom>
              <a:gradFill rotWithShape="0">
                <a:gsLst>
                  <a:gs pos="0">
                    <a:srgbClr val="0066ff">
                      <a:alpha val="71372"/>
                    </a:srgbClr>
                  </a:gs>
                  <a:gs pos="50000">
                    <a:srgbClr val="3399ff">
                      <a:alpha val="35294"/>
                    </a:srgbClr>
                  </a:gs>
                  <a:gs pos="100000">
                    <a:srgbClr val="0066ff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472000" y="719280"/>
                <a:ext cx="1476360" cy="1485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5" name=""/>
            <p:cNvSpPr/>
            <p:nvPr/>
          </p:nvSpPr>
          <p:spPr>
            <a:xfrm>
              <a:off x="5651640" y="908280"/>
              <a:ext cx="15843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0" y="260280"/>
            <a:ext cx="4570560" cy="2146320"/>
            <a:chOff x="0" y="260280"/>
            <a:chExt cx="4570560" cy="2146320"/>
          </a:xfrm>
        </p:grpSpPr>
        <p:grpSp>
          <p:nvGrpSpPr>
            <p:cNvPr id="147" name=""/>
            <p:cNvGrpSpPr/>
            <p:nvPr/>
          </p:nvGrpSpPr>
          <p:grpSpPr>
            <a:xfrm>
              <a:off x="0" y="691920"/>
              <a:ext cx="3732120" cy="1714680"/>
              <a:chOff x="0" y="691920"/>
              <a:chExt cx="3732120" cy="1714680"/>
            </a:xfrm>
          </p:grpSpPr>
          <p:sp>
            <p:nvSpPr>
              <p:cNvPr id="148" name=""/>
              <p:cNvSpPr/>
              <p:nvPr/>
            </p:nvSpPr>
            <p:spPr>
              <a:xfrm>
                <a:off x="216000" y="981000"/>
                <a:ext cx="3384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0" y="132516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1280" y="175860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289080" y="213192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52360" y="21319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080" y="132516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flipV="1">
                <a:off x="360360" y="96660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144360" y="175824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92000" y="96660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V="1">
                <a:off x="360360" y="214560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100800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V="1">
                <a:off x="1152360" y="2131560"/>
                <a:ext cx="50184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1655640" y="98064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52960" y="105228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9476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26400" y="69192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92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4036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5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28720" y="184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1800360" y="1844280"/>
                <a:ext cx="573120" cy="14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2376360" y="981000"/>
                <a:ext cx="0" cy="863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6108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2376360" y="1641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2448000" y="1628280"/>
                <a:ext cx="573120" cy="14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3024360" y="980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808720" y="691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755640" y="260280"/>
              <a:ext cx="3814920" cy="2017440"/>
              <a:chOff x="755640" y="260280"/>
              <a:chExt cx="3814920" cy="2017440"/>
            </a:xfrm>
          </p:grpSpPr>
          <p:sp>
            <p:nvSpPr>
              <p:cNvPr id="175" name=""/>
              <p:cNvSpPr/>
              <p:nvPr/>
            </p:nvSpPr>
            <p:spPr>
              <a:xfrm>
                <a:off x="755640" y="260280"/>
                <a:ext cx="1944360" cy="201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0" y="351"/>
                    </a:moveTo>
                    <a:arcTo wR="10800" hR="10800" stAng="-6278522" swAng="20681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0" y="351"/>
                    </a:moveTo>
                    <a:arcTo wR="10800" hR="10800" stAng="-6278522" swAng="20681520"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1631520" y="348480"/>
                <a:ext cx="1561320" cy="180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462" y="19545"/>
                    </a:moveTo>
                    <a:arcTo wR="10800" hR="10800" stAng="7556030" swAng="552835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462" y="19545"/>
                    </a:moveTo>
                    <a:arcTo wR="10800" hR="10800" stAng="7556030" swAng="5528352"/>
                  </a:path>
                </a:pathLst>
              </a:custGeom>
              <a:noFill/>
              <a:ln w="9360">
                <a:solidFill>
                  <a:srgbClr val="ffff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3204720" y="1125360"/>
                <a:ext cx="647640" cy="433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3851280" y="1557360"/>
                <a:ext cx="719280" cy="1440"/>
              </a:xfrm>
              <a:prstGeom prst="line">
                <a:avLst/>
              </a:prstGeom>
              <a:ln w="9360">
                <a:solidFill>
                  <a:srgbClr val="ffff00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017240" y="119700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66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900000" y="3681000"/>
            <a:ext cx="4032000" cy="2456280"/>
            <a:chOff x="900000" y="3681000"/>
            <a:chExt cx="4032000" cy="2456280"/>
          </a:xfrm>
        </p:grpSpPr>
        <p:grpSp>
          <p:nvGrpSpPr>
            <p:cNvPr id="181" name=""/>
            <p:cNvGrpSpPr/>
            <p:nvPr/>
          </p:nvGrpSpPr>
          <p:grpSpPr>
            <a:xfrm>
              <a:off x="900000" y="4076640"/>
              <a:ext cx="2652480" cy="2060640"/>
              <a:chOff x="900000" y="4076640"/>
              <a:chExt cx="2652480" cy="2060640"/>
            </a:xfrm>
          </p:grpSpPr>
          <p:sp>
            <p:nvSpPr>
              <p:cNvPr id="182" name=""/>
              <p:cNvSpPr/>
              <p:nvPr/>
            </p:nvSpPr>
            <p:spPr>
              <a:xfrm>
                <a:off x="900000" y="4351320"/>
                <a:ext cx="25210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900000" y="47098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71280" y="51433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404720" y="550224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476360" y="586260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973080" y="4709880"/>
                <a:ext cx="5745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flipV="1">
                <a:off x="1260360" y="4351320"/>
                <a:ext cx="28728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1044360" y="5142960"/>
                <a:ext cx="64764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692000" y="4351320"/>
                <a:ext cx="0" cy="792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476360" y="5502240"/>
                <a:ext cx="6476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124000" y="4350960"/>
                <a:ext cx="0" cy="1150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1547640" y="5862240"/>
                <a:ext cx="933480" cy="32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484360" y="4351320"/>
                <a:ext cx="0" cy="15112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73320" y="4422600"/>
                <a:ext cx="479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97236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405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6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837800" y="407664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268720" y="407664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331640" y="3681000"/>
              <a:ext cx="3600360" cy="2417400"/>
              <a:chOff x="1331640" y="3681000"/>
              <a:chExt cx="3600360" cy="2417400"/>
            </a:xfrm>
          </p:grpSpPr>
          <p:sp>
            <p:nvSpPr>
              <p:cNvPr id="201" name=""/>
              <p:cNvSpPr/>
              <p:nvPr/>
            </p:nvSpPr>
            <p:spPr>
              <a:xfrm>
                <a:off x="1331640" y="4081680"/>
                <a:ext cx="1944360" cy="201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0" y="351"/>
                    </a:moveTo>
                    <a:arcTo wR="10800" hR="10800" stAng="-6278522" swAng="2068152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0" y="351"/>
                    </a:moveTo>
                    <a:arcTo wR="10800" hR="10800" stAng="-6278522" swAng="20681520"/>
                  </a:path>
                </a:pathLst>
              </a:custGeom>
              <a:noFill/>
              <a:ln w="9360">
                <a:solidFill>
                  <a:srgbClr val="ff99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1135200">
                <a:off x="2319840" y="3885480"/>
                <a:ext cx="1562400" cy="1802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97" y="12246"/>
                    </a:moveTo>
                    <a:arcTo wR="10800" hR="10800" stAng="10338490" swAng="66263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97" y="12246"/>
                    </a:moveTo>
                    <a:arcTo wR="10800" hR="10800" stAng="10338490" swAng="6626348"/>
                  </a:path>
                </a:pathLst>
              </a:custGeom>
              <a:noFill/>
              <a:ln w="9360">
                <a:solidFill>
                  <a:srgbClr val="ff99cc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3852360" y="4945320"/>
                <a:ext cx="647640" cy="14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V="1">
                <a:off x="4500360" y="4657320"/>
                <a:ext cx="431640" cy="287640"/>
              </a:xfrm>
              <a:prstGeom prst="line">
                <a:avLst/>
              </a:prstGeom>
              <a:ln w="9360">
                <a:solidFill>
                  <a:srgbClr val="ff99ff"/>
                </a:solidFill>
                <a:prstDash val="dash"/>
                <a:miter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89960" y="4657680"/>
                <a:ext cx="455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99ff"/>
                    </a:solidFill>
                    <a:latin typeface="Arial"/>
                  </a:rPr>
                  <a:t>时间轴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6" name=""/>
          <p:cNvGrpSpPr/>
          <p:nvPr/>
        </p:nvGrpSpPr>
        <p:grpSpPr>
          <a:xfrm>
            <a:off x="3708360" y="1413000"/>
            <a:ext cx="1942920" cy="2302920"/>
            <a:chOff x="3708360" y="1413000"/>
            <a:chExt cx="1942920" cy="2302920"/>
          </a:xfrm>
        </p:grpSpPr>
        <p:grpSp>
          <p:nvGrpSpPr>
            <p:cNvPr id="207" name=""/>
            <p:cNvGrpSpPr/>
            <p:nvPr/>
          </p:nvGrpSpPr>
          <p:grpSpPr>
            <a:xfrm>
              <a:off x="3708360" y="1413000"/>
              <a:ext cx="1942920" cy="2302920"/>
              <a:chOff x="3708360" y="1413000"/>
              <a:chExt cx="1942920" cy="2302920"/>
            </a:xfrm>
          </p:grpSpPr>
          <p:sp>
            <p:nvSpPr>
              <p:cNvPr id="208" name=""/>
              <p:cNvSpPr/>
              <p:nvPr/>
            </p:nvSpPr>
            <p:spPr>
              <a:xfrm>
                <a:off x="3708360" y="1413000"/>
                <a:ext cx="1942920" cy="2302920"/>
              </a:xfrm>
              <a:prstGeom prst="ellipse">
                <a:avLst/>
              </a:prstGeom>
              <a:gradFill rotWithShape="0">
                <a:gsLst>
                  <a:gs pos="0">
                    <a:srgbClr val="ffcc00">
                      <a:alpha val="67058"/>
                    </a:srgbClr>
                  </a:gs>
                  <a:gs pos="50000">
                    <a:srgbClr val="ffff66">
                      <a:alpha val="32156"/>
                    </a:srgbClr>
                  </a:gs>
                  <a:gs pos="100000">
                    <a:srgbClr val="ffcc00">
                      <a:alpha val="67058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28600" y="1668960"/>
                <a:ext cx="1645560" cy="1741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" name=""/>
            <p:cNvSpPr/>
            <p:nvPr/>
          </p:nvSpPr>
          <p:spPr>
            <a:xfrm>
              <a:off x="4067280" y="2022120"/>
              <a:ext cx="144144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877080" y="0"/>
            <a:ext cx="1944720" cy="1368360"/>
            <a:chOff x="6877080" y="0"/>
            <a:chExt cx="1944720" cy="1368360"/>
          </a:xfrm>
        </p:grpSpPr>
        <p:grpSp>
          <p:nvGrpSpPr>
            <p:cNvPr id="212" name=""/>
            <p:cNvGrpSpPr/>
            <p:nvPr/>
          </p:nvGrpSpPr>
          <p:grpSpPr>
            <a:xfrm>
              <a:off x="6877080" y="0"/>
              <a:ext cx="1297080" cy="1368360"/>
              <a:chOff x="6877080" y="0"/>
              <a:chExt cx="1297080" cy="1368360"/>
            </a:xfrm>
          </p:grpSpPr>
          <p:sp>
            <p:nvSpPr>
              <p:cNvPr id="213" name=""/>
              <p:cNvSpPr/>
              <p:nvPr/>
            </p:nvSpPr>
            <p:spPr>
              <a:xfrm>
                <a:off x="6877080" y="0"/>
                <a:ext cx="1297080" cy="1368360"/>
              </a:xfrm>
              <a:prstGeom prst="ellipse">
                <a:avLst/>
              </a:prstGeom>
              <a:gradFill rotWithShape="0">
                <a:gsLst>
                  <a:gs pos="0">
                    <a:srgbClr val="3dad42">
                      <a:alpha val="71372"/>
                    </a:srgbClr>
                  </a:gs>
                  <a:gs pos="50000">
                    <a:srgbClr val="66ff99">
                      <a:alpha val="35294"/>
                    </a:srgbClr>
                  </a:gs>
                  <a:gs pos="100000">
                    <a:srgbClr val="3dad42">
                      <a:alpha val="71372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980040" y="158760"/>
                <a:ext cx="1064520" cy="1085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5" name=""/>
            <p:cNvSpPr/>
            <p:nvPr/>
          </p:nvSpPr>
          <p:spPr>
            <a:xfrm>
              <a:off x="7093080" y="333360"/>
              <a:ext cx="17287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184440" y="2349360"/>
            <a:ext cx="2982960" cy="4543560"/>
            <a:chOff x="6184440" y="2349360"/>
            <a:chExt cx="2982960" cy="4543560"/>
          </a:xfrm>
        </p:grpSpPr>
        <p:sp>
          <p:nvSpPr>
            <p:cNvPr id="217" name=""/>
            <p:cNvSpPr/>
            <p:nvPr/>
          </p:nvSpPr>
          <p:spPr>
            <a:xfrm>
              <a:off x="7308720" y="4006800"/>
              <a:ext cx="214560" cy="861840"/>
            </a:xfrm>
            <a:prstGeom prst="line">
              <a:avLst/>
            </a:prstGeom>
            <a:ln w="9360">
              <a:solidFill>
                <a:srgbClr val="3366ff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 rot="13875600">
              <a:off x="7084800" y="4782240"/>
              <a:ext cx="1546200" cy="1558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9587" y="4521"/>
                  </a:moveTo>
                  <a:arcTo wR="10800" hR="10800" stAng="-2133076" swAng="43264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9587" y="4521"/>
                  </a:moveTo>
                  <a:arcTo wR="10800" hR="10800" stAng="-2133076" swAng="4326405"/>
                </a:path>
              </a:pathLst>
            </a:custGeom>
            <a:noFill/>
            <a:ln w="9360">
              <a:solidFill>
                <a:srgbClr val="33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6300720" y="2349360"/>
              <a:ext cx="2866680" cy="4543560"/>
              <a:chOff x="6300720" y="2349360"/>
              <a:chExt cx="2866680" cy="45435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6300720" y="5013360"/>
                <a:ext cx="2866680" cy="1879560"/>
                <a:chOff x="6300720" y="5013360"/>
                <a:chExt cx="2866680" cy="1879560"/>
              </a:xfrm>
            </p:grpSpPr>
            <p:sp>
              <p:nvSpPr>
                <p:cNvPr id="221" name=""/>
                <p:cNvSpPr/>
                <p:nvPr/>
              </p:nvSpPr>
              <p:spPr>
                <a:xfrm flipV="1">
                  <a:off x="6443640" y="5300280"/>
                  <a:ext cx="252108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516720" y="5660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V="1">
                  <a:off x="7235640" y="5301720"/>
                  <a:ext cx="0" cy="358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300720" y="5601960"/>
                  <a:ext cx="18432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021080" y="5013360"/>
                  <a:ext cx="308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6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688240" y="5385960"/>
                  <a:ext cx="4791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0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Arial"/>
                    </a:rPr>
                    <a:t>月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35660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0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6877080" y="587664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V="1">
                  <a:off x="7596000" y="5300280"/>
                  <a:ext cx="0" cy="5760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516720" y="587664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741080" y="501336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7237440" y="6165360"/>
                  <a:ext cx="7189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V="1">
                  <a:off x="7956360" y="5300280"/>
                  <a:ext cx="0" cy="864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659640" y="6092640"/>
                  <a:ext cx="18396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810144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3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V="1">
                  <a:off x="8316720" y="5300280"/>
                  <a:ext cx="0" cy="10807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237440" y="6381360"/>
                  <a:ext cx="183960" cy="274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453080" y="6381360"/>
                  <a:ext cx="863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8460000" y="5025600"/>
                  <a:ext cx="3942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5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8244000" y="6597360"/>
                  <a:ext cx="43164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8675640" y="5299920"/>
                  <a:ext cx="0" cy="1309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260920" y="6616440"/>
                  <a:ext cx="4276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ex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6300720" y="2349360"/>
                <a:ext cx="1008000" cy="1655640"/>
              </a:xfrm>
              <a:prstGeom prst="line">
                <a:avLst/>
              </a:prstGeom>
              <a:ln w="9360">
                <a:solidFill>
                  <a:srgbClr val="3366ff"/>
                </a:solidFill>
                <a:prstDash val="dash"/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6184440" y="24206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66ff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6809400" y="633240"/>
            <a:ext cx="2262240" cy="3270960"/>
            <a:chOff x="6809400" y="633240"/>
            <a:chExt cx="2262240" cy="3270960"/>
          </a:xfrm>
        </p:grpSpPr>
        <p:grpSp>
          <p:nvGrpSpPr>
            <p:cNvPr id="246" name=""/>
            <p:cNvGrpSpPr/>
            <p:nvPr/>
          </p:nvGrpSpPr>
          <p:grpSpPr>
            <a:xfrm>
              <a:off x="6865920" y="1915920"/>
              <a:ext cx="2154960" cy="1643040"/>
              <a:chOff x="6865920" y="1915920"/>
              <a:chExt cx="2154960" cy="1643040"/>
            </a:xfrm>
          </p:grpSpPr>
          <p:sp>
            <p:nvSpPr>
              <p:cNvPr id="247" name=""/>
              <p:cNvSpPr/>
              <p:nvPr/>
            </p:nvSpPr>
            <p:spPr>
              <a:xfrm>
                <a:off x="7029360" y="2205000"/>
                <a:ext cx="18003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102440" y="2563560"/>
                <a:ext cx="719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7821720" y="2205000"/>
                <a:ext cx="0" cy="358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865920" y="2577960"/>
                <a:ext cx="1162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0608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0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627040" y="2205000"/>
                <a:ext cx="393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Arial"/>
                  </a:rPr>
                  <a:t>月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037360" y="2204640"/>
                <a:ext cx="0" cy="6476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7389360" y="2852640"/>
                <a:ext cx="647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020000" y="2852640"/>
                <a:ext cx="18396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785844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3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253720" y="1915920"/>
                <a:ext cx="394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8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8459640" y="2205000"/>
                <a:ext cx="9720" cy="1008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956360" y="3213000"/>
                <a:ext cx="503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893000" y="328428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flipV="1" rot="17629800">
              <a:off x="6959160" y="1878480"/>
              <a:ext cx="1962360" cy="1606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356" y="3084"/>
                  </a:moveTo>
                  <a:arcTo wR="10800" hR="10800" stAng="-2736049" swAng="49293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8356" y="3084"/>
                  </a:moveTo>
                  <a:arcTo wR="10800" hR="10800" stAng="-2736049" swAng="4929378"/>
                </a:path>
              </a:pathLst>
            </a:custGeom>
            <a:noFill/>
            <a:ln w="9360">
              <a:solidFill>
                <a:srgbClr val="00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028000" y="981000"/>
              <a:ext cx="647640" cy="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8388360" y="981000"/>
              <a:ext cx="287280" cy="792000"/>
            </a:xfrm>
            <a:prstGeom prst="line">
              <a:avLst/>
            </a:prstGeom>
            <a:ln w="9360">
              <a:solidFill>
                <a:srgbClr val="009900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265600" y="6332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9900"/>
                  </a:solidFill>
                  <a:latin typeface="Arial"/>
                </a:rPr>
                <a:t>时间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9T03:10:02Z</dcterms:created>
  <dc:creator>pc</dc:creator>
  <dc:description/>
  <dc:language>en-US</dc:language>
  <cp:lastModifiedBy>微软用户</cp:lastModifiedBy>
  <dcterms:modified xsi:type="dcterms:W3CDTF">2015-07-04T06:27:3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