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wmf" ContentType="image/x-wmf"/>
  <Override PartName="/ppt/media/image10.wmf" ContentType="image/x-wmf"/>
  <Override PartName="/ppt/media/image2.png" ContentType="image/png"/>
  <Override PartName="/ppt/media/image7.jpeg" ContentType="image/jpeg"/>
  <Override PartName="/ppt/media/image12.wmf" ContentType="image/x-wmf"/>
  <Override PartName="/ppt/media/image4.png" ContentType="image/png"/>
  <Override PartName="/ppt/media/image11.jpeg" ContentType="image/jpeg"/>
  <Override PartName="/ppt/media/image6.jpeg" ContentType="image/jpeg"/>
  <Override PartName="/ppt/media/image9.wmf" ContentType="image/x-wmf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2CDE-1C2E-4FA4-A972-3339E8FC5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1641-EACD-485C-9936-D45CA2A7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24C3-33EC-4D69-8A87-87EB70CBA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5993-5CEA-4A3C-B016-A0D72BF0F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6DDE-B727-4998-ABFB-E2D273053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47CF-A116-4F8B-A42F-60B00EEF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0D33-C5B2-4ADE-AE71-A127EE4A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17E7-AE70-48FD-92A8-281B167F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703E-C03D-4402-8F82-F5E0EC1A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332B-31B9-4D80-BE5F-20BF2369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8598C-FF3A-4B6D-BC86-9E069048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0754-6C4F-4C09-B477-4B0B1457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828F3-95AB-4839-A1AC-B6A5FE9A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0447-1287-48EF-A944-743D7149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92BF-FD1E-42EB-B70E-AE89E89E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B7031-8AFD-4A82-89A8-C1D011B28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65C2-B65D-43C7-8730-DC3FEE41F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650A-0DE5-404F-9FAD-AFF2D349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3B04-55A4-4EBB-8C9A-9A43BC7C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3E15-8E9D-4B44-9882-B98345A3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8F0F-7601-4021-A77E-06EAE9FC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2CB7-0C82-4980-8E27-90AA6E01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34CE-2CE5-4CAA-85A1-41DC7A87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61E6-B87C-4AC9-BC67-00996E20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2a3d7a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d7a"/>
                </a:solidFill>
                <a:latin typeface="Times New Roman"/>
                <a:ea typeface="宋体"/>
              </a:rPr>
              <a:t>TJ E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D275-4963-455D-A944-04A7AB9D098A}" type="slidenum">
              <a:rPr b="0" lang="zh-CN" sz="2400" spc="-1" strike="noStrike">
                <a:solidFill>
                  <a:srgbClr val="2a3d7a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26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102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28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AEE2-3D82-4FC1-B739-FFAD75A29AF7}" type="slidenum">
              <a:rPr b="0" lang="zh-CN" sz="1400" spc="-1" strike="noStrike">
                <a:solidFill>
                  <a:srgbClr val="2a3d7a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xmu.net.cn/gxmufy1/ks/my%20webs/tangyaojianfufa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sj.wuxi.gov.cn/_BORDERS/pop.jpg&amp;imgrefurl=http://wsj.wuxi.gov.cn/xywenyao/jkhuli/new_page_1.htm&amp;h=100&amp;w=68&amp;sz=9&amp;tbnid=uUsyXLy7VZMJ:&amp;tbnh=76&amp;tbnw=52&amp;start=42&amp;prev=/images%3Fq%3D%25E7%2596%25BE%25E7%2597%2585%25E6%258A%25A4%25E7%2590%2586%26start%3D40%26hl%3Dzh-CN%26lr%3D%26ie%3DUTF-8%26inlang%3Dzh-CN%26sa%3DN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moban/yiliao/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jzbzk.com/yemian/02.htm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.baidu.com/ir?u=http://vod.ttyy.org/Flowers/0002/s/289.jpg&amp;f=http://vod.ttyy.org/Flowers/0002/index20.htm&amp;c=baidu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352680" y="5105520"/>
            <a:ext cx="3276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华文新魏"/>
                <a:ea typeface="华文新魏"/>
              </a:rPr>
              <a:t>祝您健康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WordArt 8"/>
          <p:cNvSpPr txBox="1"/>
          <p:nvPr/>
        </p:nvSpPr>
        <p:spPr>
          <a:xfrm>
            <a:off x="1219320" y="1752480"/>
            <a:ext cx="7162560" cy="91440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办公室工作人员如何预防颈椎病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  <p:pic>
        <p:nvPicPr>
          <p:cNvPr id="93" name="Picture 11" descr="tangyao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4819680"/>
            <a:ext cx="1371600" cy="1298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527840" y="2781360"/>
            <a:ext cx="412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页脚占位符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d7a"/>
                </a:solidFill>
                <a:latin typeface="Times New Roman"/>
                <a:ea typeface="宋体"/>
              </a:rPr>
              <a:t>TJ ES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523880" y="2095560"/>
            <a:ext cx="7010640" cy="4114800"/>
          </a:xfrm>
          <a:prstGeom prst="rect">
            <a:avLst/>
          </a:prstGeom>
          <a:gradFill rotWithShape="0">
            <a:gsLst>
              <a:gs pos="0">
                <a:srgbClr val="f1fdb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ff"/>
                </a:solidFill>
                <a:latin typeface="华文新魏"/>
                <a:ea typeface="华文新魏"/>
              </a:rPr>
              <a:t>6.  </a:t>
            </a:r>
            <a:r>
              <a:rPr b="0" lang="zh-CN" sz="2600" spc="-1" strike="noStrike" u="sng">
                <a:solidFill>
                  <a:srgbClr val="ff00ff"/>
                </a:solidFill>
                <a:uFillTx/>
                <a:latin typeface="华文新魏"/>
                <a:ea typeface="华文新魏"/>
              </a:rPr>
              <a:t>防寒防湿</a:t>
            </a:r>
            <a:r>
              <a:rPr b="0" lang="zh-CN" sz="2600" spc="-1" strike="noStrike">
                <a:solidFill>
                  <a:srgbClr val="e9133c"/>
                </a:solidFill>
                <a:latin typeface="华文新魏"/>
                <a:ea typeface="华文新魏"/>
              </a:rPr>
              <a:t>：防风寒、潮湿，</a:t>
            </a:r>
            <a:r>
              <a:rPr b="0" lang="zh-CN" sz="2600" spc="-1" strike="noStrike">
                <a:solidFill>
                  <a:srgbClr val="5b5249"/>
                </a:solidFill>
                <a:latin typeface="华文新魏"/>
                <a:ea typeface="华文新魏"/>
              </a:rPr>
              <a:t>避免午夜、凌晨洗澡时受风寒侵袭。</a:t>
            </a:r>
            <a:r>
              <a:rPr b="0" lang="zh-CN" sz="2600" spc="-1" strike="noStrike">
                <a:solidFill>
                  <a:srgbClr val="333333"/>
                </a:solidFill>
                <a:latin typeface="华文新魏"/>
                <a:ea typeface="华文新魏"/>
              </a:rPr>
              <a:t>颈椎病患者常与风寒、潮湿等季节气候变化有密切关系。风寒使局部血管收缩，血流速度降低，有碍组织的代谢和血液循环。</a:t>
            </a:r>
            <a:r>
              <a:rPr b="0" lang="zh-CN" sz="2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冬季外出应戴围巾或穿高领毛衫等，防止颈部受风、受寒。</a:t>
            </a:r>
            <a:r>
              <a:rPr b="0" lang="en-US" sz="2600" spc="-1" strike="noStrike">
                <a:solidFill>
                  <a:srgbClr val="333333"/>
                </a:solidFill>
                <a:latin typeface="华文新魏"/>
                <a:ea typeface="华文新魏"/>
              </a:rPr>
              <a:t> 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ff"/>
                </a:solidFill>
                <a:latin typeface="华文新魏"/>
                <a:ea typeface="华文新魏"/>
              </a:rPr>
              <a:t>7.  </a:t>
            </a:r>
            <a:r>
              <a:rPr b="0" lang="zh-CN" sz="2600" spc="-1" strike="noStrike" u="sng">
                <a:solidFill>
                  <a:srgbClr val="ff00ff"/>
                </a:solidFill>
                <a:uFillTx/>
                <a:latin typeface="华文新魏"/>
                <a:ea typeface="华文新魏"/>
              </a:rPr>
              <a:t>预防感染</a:t>
            </a:r>
            <a:r>
              <a:rPr b="0" lang="zh-CN" sz="2600" spc="-1" strike="noStrike">
                <a:solidFill>
                  <a:srgbClr val="5b5249"/>
                </a:solidFill>
                <a:latin typeface="华文新魏"/>
                <a:ea typeface="华文新魏"/>
              </a:rPr>
              <a:t>：积极治疗颈部感染和其他颈部疾病</a:t>
            </a:r>
            <a:r>
              <a:rPr b="0" lang="zh-CN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7" name="Picture 6" descr="po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16960" y="5410080"/>
            <a:ext cx="1122120" cy="137160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7"/>
          <p:cNvSpPr/>
          <p:nvPr/>
        </p:nvSpPr>
        <p:spPr>
          <a:xfrm>
            <a:off x="1447920" y="838080"/>
            <a:ext cx="7086600" cy="1143000"/>
          </a:xfrm>
          <a:prstGeom prst="horizontalScroll">
            <a:avLst>
              <a:gd name="adj" fmla="val 12500"/>
            </a:avLst>
          </a:prstGeom>
          <a:solidFill>
            <a:srgbClr val="ccffcc">
              <a:alpha val="50000"/>
            </a:srgbClr>
          </a:solidFill>
          <a:ln w="9360">
            <a:solidFill>
              <a:srgbClr val="5b524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1676520" y="1066680"/>
            <a:ext cx="658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33"/>
                </a:solidFill>
                <a:latin typeface="Times New Roman"/>
                <a:ea typeface="华文行楷"/>
              </a:rPr>
              <a:t>办公室工作人员如何预防颈椎病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0" name="Picture 10" descr="NA00864_"/>
          <p:cNvPicPr/>
          <p:nvPr/>
        </p:nvPicPr>
        <p:blipFill>
          <a:blip r:embed="rId3"/>
          <a:stretch/>
        </p:blipFill>
        <p:spPr>
          <a:xfrm>
            <a:off x="457200" y="1158840"/>
            <a:ext cx="914400" cy="689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1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页脚占位符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d7a"/>
                </a:solidFill>
                <a:latin typeface="Times New Roman"/>
                <a:ea typeface="宋体"/>
              </a:rPr>
              <a:t>TJ ES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04171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e9133c"/>
                </a:solidFill>
                <a:latin typeface="Times New Roman"/>
                <a:ea typeface="华文行楷"/>
              </a:rPr>
              <a:t>预防颈椎病自我按摩操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000160" y="2114640"/>
            <a:ext cx="5143680" cy="2560680"/>
            <a:chOff x="2000160" y="2114640"/>
            <a:chExt cx="5143680" cy="2560680"/>
          </a:xfrm>
        </p:grpSpPr>
        <p:sp>
          <p:nvSpPr>
            <p:cNvPr id="156" name="Rectangle 5"/>
            <p:cNvSpPr/>
            <p:nvPr/>
          </p:nvSpPr>
          <p:spPr>
            <a:xfrm>
              <a:off x="2000160" y="2114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" name="Rectangle 6"/>
            <p:cNvSpPr/>
            <p:nvPr/>
          </p:nvSpPr>
          <p:spPr>
            <a:xfrm>
              <a:off x="2000160" y="2114640"/>
              <a:ext cx="5143680" cy="25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  </a:t>
              </a:r>
              <a:r>
                <a:rPr b="0" lang="zh-CN" sz="162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 </a:t>
              </a:r>
              <a:r>
                <a:rPr b="0" lang="zh-CN" sz="9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58" name="Picture 7" descr="F2004040909485300000"/>
          <p:cNvPicPr/>
          <p:nvPr/>
        </p:nvPicPr>
        <p:blipFill>
          <a:blip r:embed="rId1"/>
          <a:stretch/>
        </p:blipFill>
        <p:spPr>
          <a:xfrm>
            <a:off x="3505320" y="2836800"/>
            <a:ext cx="2819160" cy="21160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9"/>
          <p:cNvSpPr/>
          <p:nvPr/>
        </p:nvSpPr>
        <p:spPr>
          <a:xfrm>
            <a:off x="15228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676520" y="5157720"/>
            <a:ext cx="6552720" cy="1252080"/>
            <a:chOff x="1676520" y="5157720"/>
            <a:chExt cx="6552720" cy="1252080"/>
          </a:xfrm>
        </p:grpSpPr>
        <p:sp>
          <p:nvSpPr>
            <p:cNvPr id="161" name="Rectangle 10"/>
            <p:cNvSpPr/>
            <p:nvPr/>
          </p:nvSpPr>
          <p:spPr>
            <a:xfrm>
              <a:off x="1980720" y="5600520"/>
              <a:ext cx="360" cy="360"/>
            </a:xfrm>
            <a:prstGeom prst="rect">
              <a:avLst/>
            </a:prstGeom>
            <a:gradFill rotWithShape="0">
              <a:gsLst>
                <a:gs pos="0">
                  <a:srgbClr val="f1fdb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2" name="Rectangle 11"/>
            <p:cNvSpPr/>
            <p:nvPr/>
          </p:nvSpPr>
          <p:spPr>
            <a:xfrm>
              <a:off x="1676520" y="5157720"/>
              <a:ext cx="6552720" cy="1252080"/>
            </a:xfrm>
            <a:prstGeom prst="rect">
              <a:avLst/>
            </a:prstGeom>
            <a:gradFill rotWithShape="0">
              <a:gsLst>
                <a:gs pos="0">
                  <a:srgbClr val="f1fdb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1809720"/>
                  <a:tab algn="l" pos="1905120"/>
                  <a:tab algn="l" pos="2000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e9133c"/>
                  </a:solidFill>
                  <a:latin typeface="华文新魏"/>
                </a:rPr>
                <a:t>1.</a:t>
              </a:r>
              <a:r>
                <a:rPr b="1" lang="zh-CN" sz="2800" spc="-1" strike="noStrike">
                  <a:solidFill>
                    <a:srgbClr val="e9133c"/>
                  </a:solidFill>
                  <a:latin typeface="华文新魏"/>
                </a:rPr>
                <a:t>按摩百会</a:t>
              </a:r>
              <a:r>
                <a:rPr b="1" lang="zh-CN" sz="2800" spc="-1" strike="noStrike">
                  <a:solidFill>
                    <a:srgbClr val="e9133c"/>
                  </a:solidFill>
                  <a:latin typeface="Times New Roman"/>
                </a:rPr>
                <a:t>  </a:t>
              </a:r>
              <a:r>
                <a:rPr b="1" lang="zh-CN" sz="2800" spc="-1" strike="noStrike">
                  <a:solidFill>
                    <a:srgbClr val="e9133c"/>
                  </a:solidFill>
                  <a:latin typeface="华文新魏"/>
                </a:rPr>
                <a:t>：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5400"/>
                  <a:tab algn="l" pos="1809720"/>
                  <a:tab algn="l" pos="1905120"/>
                  <a:tab algn="l" pos="2000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</a:rPr>
                <a:t>用中指或食指按于头顶最高处正中的百会穴，用力由轻到重按揉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</a:rPr>
                <a:t>2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</a:rPr>
                <a:t>～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</a:rPr>
                <a:t>3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</a:rPr>
                <a:t>次。功效：健脑宁神，益气固脱。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63" name="Rectangle 13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371600" y="1980720"/>
            <a:ext cx="7010280" cy="1434600"/>
            <a:chOff x="1371600" y="1980720"/>
            <a:chExt cx="7010280" cy="1434600"/>
          </a:xfrm>
        </p:grpSpPr>
        <p:sp>
          <p:nvSpPr>
            <p:cNvPr id="165" name="Rectangle 14"/>
            <p:cNvSpPr/>
            <p:nvPr/>
          </p:nvSpPr>
          <p:spPr>
            <a:xfrm>
              <a:off x="1371600" y="21636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6" name="Rectangle 15"/>
            <p:cNvSpPr/>
            <p:nvPr/>
          </p:nvSpPr>
          <p:spPr>
            <a:xfrm>
              <a:off x="1371600" y="1980720"/>
              <a:ext cx="70102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66ff"/>
                  </a:solidFill>
                  <a:latin typeface="Times New Roman"/>
                </a:rPr>
                <a:t>要减少颈椎病的发生，不但应注意纠正不良的工作和生活习惯，还应在紧张的工作之余常做自我保健按摩，可缓解颈部疲劳，预防颈椎病的发生。</a:t>
              </a:r>
              <a:br>
                <a:rPr sz="2200"/>
              </a:br>
              <a:br>
                <a:rPr sz="2200"/>
              </a:br>
              <a:endParaRPr b="0" lang="en-US" sz="22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页脚占位符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d7a"/>
                </a:solidFill>
                <a:latin typeface="Times New Roman"/>
                <a:ea typeface="宋体"/>
              </a:rPr>
              <a:t>TJ ES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ff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e9133c"/>
                </a:solidFill>
                <a:latin typeface="Times New Roman"/>
                <a:ea typeface="华文行楷"/>
              </a:rPr>
              <a:t>预防颈椎病自我按摩操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0" y="217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000160" y="2178000"/>
            <a:ext cx="5143680" cy="2438280"/>
            <a:chOff x="2000160" y="2178000"/>
            <a:chExt cx="5143680" cy="2438280"/>
          </a:xfrm>
        </p:grpSpPr>
        <p:sp>
          <p:nvSpPr>
            <p:cNvPr id="172" name="Rectangle 5"/>
            <p:cNvSpPr/>
            <p:nvPr/>
          </p:nvSpPr>
          <p:spPr>
            <a:xfrm>
              <a:off x="2000160" y="21780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3" name="Rectangle 6"/>
            <p:cNvSpPr/>
            <p:nvPr/>
          </p:nvSpPr>
          <p:spPr>
            <a:xfrm>
              <a:off x="2000160" y="2178000"/>
              <a:ext cx="514368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  </a:t>
              </a:r>
              <a:r>
                <a:rPr b="0" lang="zh-CN" sz="154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 </a:t>
              </a:r>
              <a:r>
                <a:rPr b="0" lang="zh-CN" sz="9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74" name="Picture 7" descr="F2004040909503900000"/>
          <p:cNvPicPr/>
          <p:nvPr/>
        </p:nvPicPr>
        <p:blipFill>
          <a:blip r:embed="rId1"/>
          <a:stretch/>
        </p:blipFill>
        <p:spPr>
          <a:xfrm>
            <a:off x="3276720" y="2060640"/>
            <a:ext cx="3435120" cy="257796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9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371600" y="5058000"/>
            <a:ext cx="7086600" cy="1252080"/>
            <a:chOff x="1371600" y="5058000"/>
            <a:chExt cx="7086600" cy="1252080"/>
          </a:xfrm>
        </p:grpSpPr>
        <p:sp>
          <p:nvSpPr>
            <p:cNvPr id="177" name="Rectangle 10"/>
            <p:cNvSpPr/>
            <p:nvPr/>
          </p:nvSpPr>
          <p:spPr>
            <a:xfrm>
              <a:off x="2590560" y="5500440"/>
              <a:ext cx="360" cy="360"/>
            </a:xfrm>
            <a:prstGeom prst="rect">
              <a:avLst/>
            </a:prstGeom>
            <a:gradFill rotWithShape="0">
              <a:gsLst>
                <a:gs pos="0">
                  <a:srgbClr val="f1fdb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8" name="Rectangle 11"/>
            <p:cNvSpPr/>
            <p:nvPr/>
          </p:nvSpPr>
          <p:spPr>
            <a:xfrm>
              <a:off x="1371600" y="5058000"/>
              <a:ext cx="7086600" cy="1252080"/>
            </a:xfrm>
            <a:prstGeom prst="rect">
              <a:avLst/>
            </a:prstGeom>
            <a:gradFill rotWithShape="0">
              <a:gsLst>
                <a:gs pos="0">
                  <a:srgbClr val="f1fdb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e9133c"/>
                  </a:solidFill>
                  <a:latin typeface="华文新魏"/>
                </a:rPr>
                <a:t>2.</a:t>
              </a:r>
              <a:r>
                <a:rPr b="1" lang="zh-CN" sz="2800" spc="-1" strike="noStrike">
                  <a:solidFill>
                    <a:srgbClr val="e9133c"/>
                  </a:solidFill>
                  <a:latin typeface="华文新魏"/>
                </a:rPr>
                <a:t>对按头部</a:t>
              </a:r>
              <a:r>
                <a:rPr b="1" lang="zh-CN" sz="2800" spc="-1" strike="noStrike">
                  <a:solidFill>
                    <a:srgbClr val="e9133c"/>
                  </a:solidFill>
                  <a:latin typeface="Times New Roman"/>
                </a:rPr>
                <a:t> </a:t>
              </a:r>
              <a:r>
                <a:rPr b="1" lang="zh-CN" sz="2800" spc="-1" strike="noStrike">
                  <a:solidFill>
                    <a:srgbClr val="e9133c"/>
                  </a:solidFill>
                  <a:latin typeface="华文新魏"/>
                </a:rPr>
                <a:t>:</a:t>
              </a:r>
              <a:r>
                <a:rPr b="1" lang="zh-CN" sz="2800" spc="-1" strike="noStrike">
                  <a:solidFill>
                    <a:srgbClr val="e9133c"/>
                  </a:solidFill>
                  <a:latin typeface="Times New Roman"/>
                </a:rPr>
                <a:t> 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</a:rPr>
                <a:t>双手拇指分别放在额部两侧的太阳穴处，其余四指分开，放在两侧头部，双手同时用力做对按揉动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</a:rPr>
                <a:t>2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</a:rPr>
                <a:t>～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</a:rPr>
                <a:t>3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</a:rPr>
                <a:t>次。功效：清脑明目，振奋精神。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页脚占位符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d7a"/>
                </a:solidFill>
                <a:latin typeface="Times New Roman"/>
                <a:ea typeface="宋体"/>
              </a:rPr>
              <a:t>TJ ES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0574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9133c"/>
                </a:solidFill>
                <a:latin typeface="Times New Roman"/>
                <a:ea typeface="华文行楷"/>
              </a:rPr>
              <a:t>预防颈椎病自我按摩操</a:t>
            </a: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000160" y="2109960"/>
            <a:ext cx="5143680" cy="2576520"/>
            <a:chOff x="2000160" y="2109960"/>
            <a:chExt cx="5143680" cy="2576520"/>
          </a:xfrm>
        </p:grpSpPr>
        <p:sp>
          <p:nvSpPr>
            <p:cNvPr id="183" name="Rectangle 5"/>
            <p:cNvSpPr/>
            <p:nvPr/>
          </p:nvSpPr>
          <p:spPr>
            <a:xfrm>
              <a:off x="2000160" y="210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4" name="Rectangle 6"/>
            <p:cNvSpPr/>
            <p:nvPr/>
          </p:nvSpPr>
          <p:spPr>
            <a:xfrm>
              <a:off x="2000160" y="2109960"/>
              <a:ext cx="5143680" cy="25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  </a:t>
              </a:r>
              <a:r>
                <a:rPr b="0" lang="zh-CN" sz="163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 </a:t>
              </a:r>
              <a:r>
                <a:rPr b="0" lang="zh-CN" sz="9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85" name="Picture 7" descr="F2004040909510200000"/>
          <p:cNvPicPr/>
          <p:nvPr/>
        </p:nvPicPr>
        <p:blipFill>
          <a:blip r:embed="rId1"/>
          <a:stretch/>
        </p:blipFill>
        <p:spPr>
          <a:xfrm>
            <a:off x="3276720" y="2057400"/>
            <a:ext cx="3429000" cy="25192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23880" y="4572000"/>
            <a:ext cx="6858000" cy="1752480"/>
          </a:xfrm>
          <a:prstGeom prst="rect">
            <a:avLst/>
          </a:prstGeom>
          <a:gradFill rotWithShape="0">
            <a:gsLst>
              <a:gs pos="0">
                <a:srgbClr val="f1fdb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133c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e9133c"/>
                </a:solidFill>
                <a:latin typeface="华文新魏"/>
                <a:ea typeface="华文新魏"/>
              </a:rPr>
              <a:t>按揉风池</a:t>
            </a:r>
            <a:r>
              <a:rPr b="1" lang="en-US" sz="2800" spc="-1" strike="noStrike">
                <a:solidFill>
                  <a:srgbClr val="e9133c"/>
                </a:solidFill>
                <a:latin typeface="Times New Roman"/>
                <a:ea typeface="华文新魏"/>
              </a:rPr>
              <a:t> </a:t>
            </a:r>
            <a:r>
              <a:rPr b="1" lang="en-US" sz="2800" spc="-1" strike="noStrike">
                <a:solidFill>
                  <a:srgbClr val="e9133c"/>
                </a:solidFill>
                <a:latin typeface="华文新魏"/>
                <a:ea typeface="华文新魏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两手拇指分别按在同侧风池穴（颈后两侧凹陷处），其余手指附在头的两侧，由轻到重地按揉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次。功效：疏风散寒，开窍镇痛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页脚占位符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d7a"/>
                </a:solidFill>
                <a:latin typeface="Times New Roman"/>
                <a:ea typeface="宋体"/>
              </a:rPr>
              <a:t>TJ ES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81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9133c"/>
                </a:solidFill>
                <a:latin typeface="Times New Roman"/>
                <a:ea typeface="华文行楷"/>
              </a:rPr>
              <a:t>预防颈椎病自我按摩操</a:t>
            </a: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94920" y="4495320"/>
            <a:ext cx="7086600" cy="2057400"/>
          </a:xfrm>
          <a:prstGeom prst="rect">
            <a:avLst/>
          </a:prstGeom>
          <a:gradFill rotWithShape="0">
            <a:gsLst>
              <a:gs pos="0">
                <a:srgbClr val="f1fdb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133c"/>
                </a:solidFill>
                <a:latin typeface="华文新魏"/>
                <a:ea typeface="华文新魏"/>
              </a:rPr>
              <a:t>      </a:t>
            </a:r>
            <a:r>
              <a:rPr b="1" lang="en-US" sz="2800" spc="-1" strike="noStrike">
                <a:solidFill>
                  <a:srgbClr val="e9133c"/>
                </a:solidFill>
                <a:latin typeface="华文新魏"/>
                <a:ea typeface="华文新魏"/>
              </a:rPr>
              <a:t>4.</a:t>
            </a:r>
            <a:r>
              <a:rPr b="1" lang="zh-CN" sz="2800" spc="-1" strike="noStrike">
                <a:solidFill>
                  <a:srgbClr val="e9133c"/>
                </a:solidFill>
                <a:latin typeface="华文新魏"/>
                <a:ea typeface="华文新魏"/>
              </a:rPr>
              <a:t>拿捏颈肌</a:t>
            </a:r>
            <a:r>
              <a:rPr b="1" lang="en-US" sz="2800" spc="-1" strike="noStrike">
                <a:solidFill>
                  <a:srgbClr val="e9133c"/>
                </a:solidFill>
                <a:latin typeface="Times New Roman"/>
                <a:ea typeface="华文新魏"/>
              </a:rPr>
              <a:t>  </a:t>
            </a:r>
            <a:r>
              <a:rPr b="1" lang="en-US" sz="2800" spc="-1" strike="noStrike">
                <a:solidFill>
                  <a:srgbClr val="e9133c"/>
                </a:solidFill>
                <a:latin typeface="华文新魏"/>
                <a:ea typeface="华文新魏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将左（右）手上举置于颈后，拇指放置于同侧颈外侧，其余四指放在颈肌对侧，双手用力对合，将颈肌向上提起后放松，沿风池穴向下拿捏至大椎穴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次。功效：解痉止痛，调和气血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2000160" y="2109960"/>
            <a:ext cx="5143680" cy="2576520"/>
            <a:chOff x="2000160" y="2109960"/>
            <a:chExt cx="5143680" cy="2576520"/>
          </a:xfrm>
        </p:grpSpPr>
        <p:sp>
          <p:nvSpPr>
            <p:cNvPr id="192" name="Rectangle 5"/>
            <p:cNvSpPr/>
            <p:nvPr/>
          </p:nvSpPr>
          <p:spPr>
            <a:xfrm>
              <a:off x="2000160" y="210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3" name="Rectangle 6"/>
            <p:cNvSpPr/>
            <p:nvPr/>
          </p:nvSpPr>
          <p:spPr>
            <a:xfrm>
              <a:off x="2000160" y="2109960"/>
              <a:ext cx="5143680" cy="25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  </a:t>
              </a:r>
              <a:r>
                <a:rPr b="0" lang="zh-CN" sz="163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 </a:t>
              </a:r>
              <a:r>
                <a:rPr b="0" lang="zh-CN" sz="9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94" name="Picture 7" descr="F2004040909511500000"/>
          <p:cNvPicPr/>
          <p:nvPr/>
        </p:nvPicPr>
        <p:blipFill>
          <a:blip r:embed="rId1"/>
          <a:stretch/>
        </p:blipFill>
        <p:spPr>
          <a:xfrm>
            <a:off x="3276720" y="1917720"/>
            <a:ext cx="3429000" cy="2463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页脚占位符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d7a"/>
                </a:solidFill>
                <a:latin typeface="Times New Roman"/>
                <a:ea typeface="宋体"/>
              </a:rPr>
              <a:t>TJ ES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81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9133c"/>
                </a:solidFill>
                <a:latin typeface="Times New Roman"/>
                <a:ea typeface="华文行楷"/>
              </a:rPr>
              <a:t>预防颈椎病自我按摩操</a:t>
            </a: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23880" y="4495320"/>
            <a:ext cx="7010640" cy="2057400"/>
          </a:xfrm>
          <a:prstGeom prst="rect">
            <a:avLst/>
          </a:prstGeom>
          <a:gradFill rotWithShape="0">
            <a:gsLst>
              <a:gs pos="0">
                <a:srgbClr val="f1fdb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133c"/>
                </a:solidFill>
                <a:latin typeface="华文新魏"/>
                <a:ea typeface="华文新魏"/>
              </a:rPr>
              <a:t>    </a:t>
            </a:r>
            <a:r>
              <a:rPr b="1" lang="en-US" sz="2800" spc="-1" strike="noStrike">
                <a:solidFill>
                  <a:srgbClr val="e9133c"/>
                </a:solidFill>
                <a:latin typeface="华文新魏"/>
                <a:ea typeface="华文新魏"/>
              </a:rPr>
              <a:t>5. </a:t>
            </a:r>
            <a:r>
              <a:rPr b="1" lang="zh-CN" sz="2800" spc="-1" strike="noStrike">
                <a:solidFill>
                  <a:srgbClr val="e9133c"/>
                </a:solidFill>
                <a:latin typeface="华文新魏"/>
                <a:ea typeface="华文新魏"/>
              </a:rPr>
              <a:t>按压肩井</a:t>
            </a:r>
            <a:r>
              <a:rPr b="1" lang="en-US" sz="2800" spc="-1" strike="noStrike">
                <a:solidFill>
                  <a:srgbClr val="e9133c"/>
                </a:solidFill>
                <a:latin typeface="Times New Roman"/>
                <a:ea typeface="华文新魏"/>
              </a:rPr>
              <a:t> </a:t>
            </a:r>
            <a:r>
              <a:rPr b="1" lang="en-US" sz="2800" spc="-1" strike="noStrike">
                <a:solidFill>
                  <a:srgbClr val="e9133c"/>
                </a:solidFill>
                <a:latin typeface="华文新魏"/>
                <a:ea typeface="华文新魏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以左（右）手中指指腹按于对侧肩井穴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大椎与肩峰连线中点，肩部筋肉处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然后由轻到重按压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次，两侧交替进行。功效：通经活络，散寒定痛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000160" y="2109960"/>
            <a:ext cx="5143680" cy="2576520"/>
            <a:chOff x="2000160" y="2109960"/>
            <a:chExt cx="5143680" cy="2576520"/>
          </a:xfrm>
        </p:grpSpPr>
        <p:sp>
          <p:nvSpPr>
            <p:cNvPr id="200" name="Rectangle 5"/>
            <p:cNvSpPr/>
            <p:nvPr/>
          </p:nvSpPr>
          <p:spPr>
            <a:xfrm>
              <a:off x="2000160" y="210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1" name="Rectangle 6"/>
            <p:cNvSpPr/>
            <p:nvPr/>
          </p:nvSpPr>
          <p:spPr>
            <a:xfrm>
              <a:off x="2000160" y="2109960"/>
              <a:ext cx="5143680" cy="25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  </a:t>
              </a:r>
              <a:r>
                <a:rPr b="0" lang="zh-CN" sz="163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 </a:t>
              </a:r>
              <a:r>
                <a:rPr b="0" lang="zh-CN" sz="9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202" name="Picture 7" descr="F2004040909514500000"/>
          <p:cNvPicPr/>
          <p:nvPr/>
        </p:nvPicPr>
        <p:blipFill>
          <a:blip r:embed="rId1"/>
          <a:stretch/>
        </p:blipFill>
        <p:spPr>
          <a:xfrm>
            <a:off x="3203640" y="1773360"/>
            <a:ext cx="3581280" cy="25938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920880" y="4152960"/>
            <a:ext cx="6964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b0ae6a"/>
                </a:solidFill>
                <a:uFillTx/>
                <a:latin typeface="Times New Roman"/>
                <a:hlinkClick r:id="rId2"/>
              </a:rPr>
              <a:t>医疗ppt模板</a:t>
            </a:r>
            <a:r>
              <a:rPr b="0" lang="en-US" sz="1600" spc="-1" strike="noStrike">
                <a:solidFill>
                  <a:srgbClr val="5b5249"/>
                </a:solidFill>
                <a:latin typeface="Times New Roman"/>
              </a:rPr>
              <a:t>http://www.eeppt.com/moban/yiliao/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页脚占位符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d7a"/>
                </a:solidFill>
                <a:latin typeface="Times New Roman"/>
                <a:ea typeface="宋体"/>
              </a:rPr>
              <a:t>TJ ES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051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9133c"/>
                </a:solidFill>
                <a:latin typeface="Times New Roman"/>
                <a:ea typeface="华文行楷"/>
              </a:rPr>
              <a:t>预防颈椎病自我按摩操</a:t>
            </a: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1240" y="4419720"/>
            <a:ext cx="7010280" cy="2133360"/>
          </a:xfrm>
          <a:prstGeom prst="rect">
            <a:avLst/>
          </a:prstGeom>
          <a:gradFill rotWithShape="0">
            <a:gsLst>
              <a:gs pos="0">
                <a:srgbClr val="f1fdb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133c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e9133c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e9133c"/>
                </a:solidFill>
                <a:latin typeface="华文新魏"/>
                <a:ea typeface="华文新魏"/>
              </a:rPr>
              <a:t>.</a:t>
            </a:r>
            <a:r>
              <a:rPr b="1" lang="zh-CN" sz="2800" spc="-1" strike="noStrike">
                <a:solidFill>
                  <a:srgbClr val="e9133c"/>
                </a:solidFill>
                <a:latin typeface="华文新魏"/>
                <a:ea typeface="华文新魏"/>
              </a:rPr>
              <a:t>按摩大椎</a:t>
            </a:r>
            <a:r>
              <a:rPr b="1" lang="en-US" sz="2800" spc="-1" strike="noStrike">
                <a:solidFill>
                  <a:srgbClr val="e9133c"/>
                </a:solidFill>
                <a:latin typeface="Times New Roman"/>
                <a:ea typeface="华文新魏"/>
              </a:rPr>
              <a:t> </a:t>
            </a:r>
            <a:r>
              <a:rPr b="1" lang="en-US" sz="2800" spc="-1" strike="noStrike">
                <a:solidFill>
                  <a:srgbClr val="e9133c"/>
                </a:solidFill>
                <a:latin typeface="华文新魏"/>
                <a:ea typeface="华文新魏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左（右）手四指并拢放于上背部，用力反复按摩大椎穴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位于后颈部颈椎中最大椎体下方的空隙处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各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次，至局部发热为佳，两侧交替进行。功效：疏风散寒，活血通络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000160" y="2109960"/>
            <a:ext cx="5143680" cy="2576520"/>
            <a:chOff x="2000160" y="2109960"/>
            <a:chExt cx="5143680" cy="2576520"/>
          </a:xfrm>
        </p:grpSpPr>
        <p:sp>
          <p:nvSpPr>
            <p:cNvPr id="209" name="Rectangle 5"/>
            <p:cNvSpPr/>
            <p:nvPr/>
          </p:nvSpPr>
          <p:spPr>
            <a:xfrm>
              <a:off x="2000160" y="210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0" name="Rectangle 6"/>
            <p:cNvSpPr/>
            <p:nvPr/>
          </p:nvSpPr>
          <p:spPr>
            <a:xfrm>
              <a:off x="2000160" y="2109960"/>
              <a:ext cx="5143680" cy="25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  </a:t>
              </a:r>
              <a:r>
                <a:rPr b="0" lang="zh-CN" sz="163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 </a:t>
              </a:r>
              <a:r>
                <a:rPr b="0" lang="zh-CN" sz="9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211" name="Picture 7" descr="F2004040909520200000"/>
          <p:cNvPicPr/>
          <p:nvPr/>
        </p:nvPicPr>
        <p:blipFill>
          <a:blip r:embed="rId1"/>
          <a:stretch/>
        </p:blipFill>
        <p:spPr>
          <a:xfrm>
            <a:off x="3276720" y="1773360"/>
            <a:ext cx="3504960" cy="2519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页脚占位符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d7a"/>
                </a:solidFill>
                <a:latin typeface="Times New Roman"/>
                <a:ea typeface="宋体"/>
              </a:rPr>
              <a:t>TJ ES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9133c"/>
                </a:solidFill>
                <a:latin typeface="Times New Roman"/>
                <a:ea typeface="华文行楷"/>
              </a:rPr>
              <a:t>预防颈椎病自我按摩操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19320" y="4495680"/>
            <a:ext cx="7315200" cy="1981440"/>
          </a:xfrm>
          <a:prstGeom prst="rect">
            <a:avLst/>
          </a:prstGeom>
          <a:gradFill rotWithShape="0">
            <a:gsLst>
              <a:gs pos="0">
                <a:srgbClr val="f1fdb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133c"/>
                </a:solidFill>
                <a:latin typeface="华文新魏"/>
                <a:ea typeface="华文新魏"/>
              </a:rPr>
              <a:t>       </a:t>
            </a:r>
            <a:r>
              <a:rPr b="1" lang="en-US" sz="2400" spc="-1" strike="noStrike">
                <a:solidFill>
                  <a:srgbClr val="e9133c"/>
                </a:solidFill>
                <a:latin typeface="华文新魏"/>
                <a:ea typeface="华文新魏"/>
              </a:rPr>
              <a:t>7</a:t>
            </a:r>
            <a:r>
              <a:rPr b="1" lang="en-US" sz="2800" spc="-1" strike="noStrike">
                <a:solidFill>
                  <a:srgbClr val="e9133c"/>
                </a:solidFill>
                <a:latin typeface="华文新魏"/>
                <a:ea typeface="华文新魏"/>
              </a:rPr>
              <a:t>.</a:t>
            </a:r>
            <a:r>
              <a:rPr b="1" lang="zh-CN" sz="2800" spc="-1" strike="noStrike">
                <a:solidFill>
                  <a:srgbClr val="e9133c"/>
                </a:solidFill>
                <a:latin typeface="华文新魏"/>
                <a:ea typeface="华文新魏"/>
              </a:rPr>
              <a:t>对按内、外关</a:t>
            </a:r>
            <a:r>
              <a:rPr b="1" lang="en-US" sz="2800" spc="-1" strike="noStrike">
                <a:solidFill>
                  <a:srgbClr val="e9133c"/>
                </a:solidFill>
                <a:latin typeface="Times New Roman"/>
                <a:ea typeface="华文新魏"/>
              </a:rPr>
              <a:t> </a:t>
            </a:r>
            <a:r>
              <a:rPr b="1" lang="en-US" sz="2800" spc="-1" strike="noStrike">
                <a:solidFill>
                  <a:srgbClr val="e9133c"/>
                </a:solidFill>
                <a:latin typeface="华文新魏"/>
                <a:ea typeface="华文新魏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左（右）手拇指尖放在右（左）手内关穴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掌横纹以上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寸，两肌腱之间），中指放在对侧的外关穴（内关穴对面），同时对合用力按揉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0.5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钟，双手交替进行。功效：宁心通络，宽胸行气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981080" y="1523880"/>
            <a:ext cx="5143680" cy="3444840"/>
            <a:chOff x="1981080" y="1523880"/>
            <a:chExt cx="5143680" cy="3444840"/>
          </a:xfrm>
        </p:grpSpPr>
        <p:sp>
          <p:nvSpPr>
            <p:cNvPr id="217" name="Rectangle 5"/>
            <p:cNvSpPr/>
            <p:nvPr/>
          </p:nvSpPr>
          <p:spPr>
            <a:xfrm>
              <a:off x="1981080" y="15238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8" name="Rectangle 6"/>
            <p:cNvSpPr/>
            <p:nvPr/>
          </p:nvSpPr>
          <p:spPr>
            <a:xfrm>
              <a:off x="1981080" y="1523880"/>
              <a:ext cx="5143680" cy="344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  </a:t>
              </a:r>
              <a:r>
                <a:rPr b="0" lang="zh-CN" sz="220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 </a:t>
              </a:r>
              <a:r>
                <a:rPr b="0" lang="zh-CN" sz="9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          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219" name="Picture 7" descr="F2004040909522800000"/>
          <p:cNvPicPr/>
          <p:nvPr/>
        </p:nvPicPr>
        <p:blipFill>
          <a:blip r:embed="rId1"/>
          <a:stretch/>
        </p:blipFill>
        <p:spPr>
          <a:xfrm>
            <a:off x="3809880" y="1752480"/>
            <a:ext cx="2222640" cy="273528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9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523880" y="5669640"/>
            <a:ext cx="6934320" cy="459720"/>
            <a:chOff x="1523880" y="5669640"/>
            <a:chExt cx="6934320" cy="459720"/>
          </a:xfrm>
        </p:grpSpPr>
        <p:sp>
          <p:nvSpPr>
            <p:cNvPr id="222" name="Rectangle 10"/>
            <p:cNvSpPr/>
            <p:nvPr/>
          </p:nvSpPr>
          <p:spPr>
            <a:xfrm>
              <a:off x="3056400" y="57168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3" name="Rectangle 11"/>
            <p:cNvSpPr/>
            <p:nvPr/>
          </p:nvSpPr>
          <p:spPr>
            <a:xfrm>
              <a:off x="1523880" y="5669640"/>
              <a:ext cx="693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80880">
                <a:lnSpc>
                  <a:spcPct val="100000"/>
                </a:lnSpc>
                <a:tabLst>
                  <a:tab algn="l" pos="0"/>
                  <a:tab algn="l" pos="285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</a:rPr>
                <a:t> 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页脚占位符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d7a"/>
                </a:solidFill>
                <a:latin typeface="Times New Roman"/>
                <a:ea typeface="宋体"/>
              </a:rPr>
              <a:t>TJ ES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04171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e9133c"/>
                </a:solidFill>
                <a:latin typeface="Times New Roman"/>
                <a:ea typeface="华文行楷"/>
              </a:rPr>
              <a:t>预防颈椎病自我按摩操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47560" y="4648320"/>
            <a:ext cx="7010280" cy="1752480"/>
          </a:xfrm>
          <a:prstGeom prst="rect">
            <a:avLst/>
          </a:prstGeom>
          <a:gradFill rotWithShape="0">
            <a:gsLst>
              <a:gs pos="0">
                <a:srgbClr val="f1fdb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133c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9133c"/>
                </a:solidFill>
                <a:latin typeface="Times New Roman"/>
              </a:rPr>
              <a:t>8</a:t>
            </a:r>
            <a:r>
              <a:rPr b="1" lang="en-US" sz="2800" spc="-1" strike="noStrike">
                <a:solidFill>
                  <a:srgbClr val="e9133c"/>
                </a:solidFill>
                <a:latin typeface="华文新魏"/>
                <a:ea typeface="华文新魏"/>
              </a:rPr>
              <a:t>.</a:t>
            </a:r>
            <a:r>
              <a:rPr b="1" lang="zh-CN" sz="2800" spc="-1" strike="noStrike">
                <a:solidFill>
                  <a:srgbClr val="e9133c"/>
                </a:solidFill>
                <a:latin typeface="华文新魏"/>
                <a:ea typeface="华文新魏"/>
              </a:rPr>
              <a:t>掐揉合谷</a:t>
            </a:r>
            <a:r>
              <a:rPr b="1" lang="en-US" sz="2800" spc="-1" strike="noStrike">
                <a:solidFill>
                  <a:srgbClr val="e9133c"/>
                </a:solidFill>
                <a:latin typeface="Times New Roman"/>
                <a:ea typeface="华文新魏"/>
              </a:rPr>
              <a:t> </a:t>
            </a:r>
            <a:r>
              <a:rPr b="1" lang="en-US" sz="2800" spc="-1" strike="noStrike">
                <a:solidFill>
                  <a:srgbClr val="e9133c"/>
                </a:solidFill>
                <a:latin typeface="华文新魏"/>
                <a:ea typeface="华文新魏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将左（右）手拇指指尖放在另一手的合谷穴（即虎口处），拇指用力掐揉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次，双手交替进行。功效：疏风解表，开窍醒神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0" y="214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000160" y="2149560"/>
            <a:ext cx="5143680" cy="2500200"/>
            <a:chOff x="2000160" y="2149560"/>
            <a:chExt cx="5143680" cy="2500200"/>
          </a:xfrm>
        </p:grpSpPr>
        <p:sp>
          <p:nvSpPr>
            <p:cNvPr id="229" name="Rectangle 5"/>
            <p:cNvSpPr/>
            <p:nvPr/>
          </p:nvSpPr>
          <p:spPr>
            <a:xfrm>
              <a:off x="2000160" y="21495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0" name="Rectangle 6"/>
            <p:cNvSpPr/>
            <p:nvPr/>
          </p:nvSpPr>
          <p:spPr>
            <a:xfrm>
              <a:off x="2000160" y="2149560"/>
              <a:ext cx="5143680" cy="25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  </a:t>
              </a:r>
              <a:r>
                <a:rPr b="0" lang="zh-CN" sz="158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 </a:t>
              </a:r>
              <a:r>
                <a:rPr b="0" lang="zh-CN" sz="9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231" name="Picture 7" descr="F2004040909524300000"/>
          <p:cNvPicPr/>
          <p:nvPr/>
        </p:nvPicPr>
        <p:blipFill>
          <a:blip r:embed="rId1"/>
          <a:stretch/>
        </p:blipFill>
        <p:spPr>
          <a:xfrm>
            <a:off x="3276720" y="1989000"/>
            <a:ext cx="3504960" cy="2498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页脚占位符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d7a"/>
                </a:solidFill>
                <a:latin typeface="Times New Roman"/>
                <a:ea typeface="宋体"/>
              </a:rPr>
              <a:t>TJ ES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81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9133c"/>
                </a:solidFill>
                <a:latin typeface="Times New Roman"/>
                <a:ea typeface="华文行楷"/>
              </a:rPr>
              <a:t>预防颈椎病自我按摩操</a:t>
            </a: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447560" y="4648320"/>
            <a:ext cx="6933960" cy="1752480"/>
          </a:xfrm>
          <a:prstGeom prst="rect">
            <a:avLst/>
          </a:prstGeom>
          <a:gradFill rotWithShape="0">
            <a:gsLst>
              <a:gs pos="0">
                <a:srgbClr val="f1fdb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9</a:t>
            </a:r>
            <a:r>
              <a:rPr b="1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.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梳摩</a:t>
            </a:r>
            <a:r>
              <a:rPr b="1" lang="zh-CN" sz="2800" spc="-1" strike="noStrike">
                <a:solidFill>
                  <a:srgbClr val="e9133c"/>
                </a:solidFill>
                <a:latin typeface="华文新魏"/>
                <a:ea typeface="华文新魏"/>
              </a:rPr>
              <a:t>头顶</a:t>
            </a:r>
            <a:r>
              <a:rPr b="1" lang="en-US" sz="2800" spc="-1" strike="noStrike">
                <a:solidFill>
                  <a:srgbClr val="e9133c"/>
                </a:solidFill>
                <a:latin typeface="Times New Roman"/>
                <a:ea typeface="华文新魏"/>
              </a:rPr>
              <a:t> </a:t>
            </a:r>
            <a:r>
              <a:rPr b="1" lang="en-US" sz="2800" spc="-1" strike="noStrike">
                <a:solidFill>
                  <a:srgbClr val="e9133c"/>
                </a:solidFill>
                <a:latin typeface="华文新魏"/>
                <a:ea typeface="华文新魏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双手五指微曲分别放在头顶两侧，稍加压力从前发际沿头顶至脑后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梳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状动作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次。功效：提神醒目，清脑镇痛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000160" y="2286000"/>
            <a:ext cx="5143680" cy="2241720"/>
            <a:chOff x="2000160" y="2286000"/>
            <a:chExt cx="5143680" cy="2241720"/>
          </a:xfrm>
        </p:grpSpPr>
        <p:sp>
          <p:nvSpPr>
            <p:cNvPr id="237" name="Rectangle 5"/>
            <p:cNvSpPr/>
            <p:nvPr/>
          </p:nvSpPr>
          <p:spPr>
            <a:xfrm>
              <a:off x="2000160" y="22860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8" name="Rectangle 6"/>
            <p:cNvSpPr/>
            <p:nvPr/>
          </p:nvSpPr>
          <p:spPr>
            <a:xfrm>
              <a:off x="2000160" y="2286000"/>
              <a:ext cx="5143680" cy="22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  </a:t>
              </a:r>
              <a:r>
                <a:rPr b="0" lang="zh-CN" sz="141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 </a:t>
              </a:r>
              <a:r>
                <a:rPr b="0" lang="zh-CN" sz="900" spc="-1" strike="noStrike">
                  <a:solidFill>
                    <a:srgbClr val="333399"/>
                  </a:solidFill>
                  <a:latin typeface="Times New Roman"/>
                  <a:ea typeface="宋体"/>
                </a:rPr>
                <a:t>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239" name="Picture 7" descr="F2004040909525700000"/>
          <p:cNvPicPr/>
          <p:nvPr/>
        </p:nvPicPr>
        <p:blipFill>
          <a:blip r:embed="rId1"/>
          <a:stretch/>
        </p:blipFill>
        <p:spPr>
          <a:xfrm>
            <a:off x="3203640" y="1917720"/>
            <a:ext cx="3581280" cy="2635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页脚占位符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d7a"/>
                </a:solidFill>
                <a:latin typeface="Times New Roman"/>
                <a:ea typeface="宋体"/>
              </a:rPr>
              <a:t>TJ ES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1295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333333"/>
                </a:solidFill>
                <a:latin typeface="华文新魏"/>
                <a:ea typeface="华文新魏"/>
              </a:rPr>
              <a:t>颈椎病又称</a:t>
            </a:r>
            <a:r>
              <a:rPr b="0" lang="zh-CN" sz="2800" spc="-1" strike="noStrike">
                <a:solidFill>
                  <a:srgbClr val="f2287a"/>
                </a:solidFill>
                <a:latin typeface="华文新魏"/>
                <a:ea typeface="华文新魏"/>
              </a:rPr>
              <a:t>颈椎综合症</a:t>
            </a:r>
            <a:r>
              <a:rPr b="0" lang="zh-CN" sz="2800" spc="-1" strike="noStrike">
                <a:solidFill>
                  <a:srgbClr val="333333"/>
                </a:solidFill>
                <a:latin typeface="华文新魏"/>
                <a:ea typeface="华文新魏"/>
              </a:rPr>
              <a:t>，可发生于中老年人，也可发生于</a:t>
            </a:r>
            <a:r>
              <a:rPr b="1" lang="zh-CN" sz="2800" spc="-1" strike="noStrike" u="sng">
                <a:solidFill>
                  <a:srgbClr val="f2287a"/>
                </a:solidFill>
                <a:uFillTx/>
                <a:latin typeface="华文新魏"/>
                <a:ea typeface="华文新魏"/>
              </a:rPr>
              <a:t>青年人</a:t>
            </a:r>
            <a:r>
              <a:rPr b="0" lang="en-US" sz="2800" spc="-1" strike="noStrike">
                <a:solidFill>
                  <a:srgbClr val="333333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333333"/>
                </a:solidFill>
                <a:latin typeface="华文新魏"/>
                <a:ea typeface="华文新魏"/>
              </a:rPr>
              <a:t>是由于人体颈椎间盘逐渐地发生退行性变、颈椎骨质增生或颈椎正常生理曲线改变后刺激或</a:t>
            </a:r>
            <a:r>
              <a:rPr b="1" lang="zh-CN" sz="2800" spc="-1" strike="noStrike">
                <a:solidFill>
                  <a:srgbClr val="8d19bb"/>
                </a:solidFill>
                <a:latin typeface="华文新魏"/>
                <a:ea typeface="华文新魏"/>
              </a:rPr>
              <a:t>压迫</a:t>
            </a:r>
            <a:r>
              <a:rPr b="0" lang="zh-CN" sz="2800" spc="-1" strike="noStrike">
                <a:solidFill>
                  <a:srgbClr val="f2287a"/>
                </a:solidFill>
                <a:latin typeface="华文新魏"/>
                <a:ea typeface="华文新魏"/>
              </a:rPr>
              <a:t>颈神经根、颈部脊髓、椎动脉、颈部交感神经</a:t>
            </a:r>
            <a:r>
              <a:rPr b="0" lang="zh-CN" sz="2800" spc="-1" strike="noStrike">
                <a:solidFill>
                  <a:srgbClr val="333333"/>
                </a:solidFill>
                <a:latin typeface="华文新魏"/>
                <a:ea typeface="华文新魏"/>
              </a:rPr>
              <a:t>而引起的一组综合症状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DownRibbonSharp"/>
          <p:cNvSpPr/>
          <p:nvPr/>
        </p:nvSpPr>
        <p:spPr>
          <a:xfrm>
            <a:off x="1143000" y="1066680"/>
            <a:ext cx="7467480" cy="83844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华文新魏"/>
              </a:rPr>
              <a:t>  </a:t>
            </a:r>
            <a:r>
              <a:rPr b="0" lang="zh-CN" sz="4400" spc="-1" strike="noStrike">
                <a:solidFill>
                  <a:srgbClr val="990000"/>
                </a:solidFill>
                <a:latin typeface="华文行楷"/>
                <a:ea typeface="华文行楷"/>
              </a:rPr>
              <a:t>什么是颈椎病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Rectangle 41"/>
          <p:cNvSpPr/>
          <p:nvPr/>
        </p:nvSpPr>
        <p:spPr>
          <a:xfrm>
            <a:off x="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Rectangle 42"/>
          <p:cNvSpPr/>
          <p:nvPr/>
        </p:nvSpPr>
        <p:spPr>
          <a:xfrm>
            <a:off x="15228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1" name="Picture 46" descr="jizhu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4619520"/>
            <a:ext cx="2765520" cy="1933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9" descr="颈椎图"/>
          <p:cNvPicPr/>
          <p:nvPr/>
        </p:nvPicPr>
        <p:blipFill>
          <a:blip r:embed="rId3"/>
          <a:stretch/>
        </p:blipFill>
        <p:spPr>
          <a:xfrm>
            <a:off x="2362320" y="4343400"/>
            <a:ext cx="208116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页脚占位符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d7a"/>
                </a:solidFill>
                <a:latin typeface="Times New Roman"/>
                <a:ea typeface="宋体"/>
              </a:rPr>
              <a:t>TJ ES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  <a:ea typeface="华文新魏"/>
              </a:rPr>
              <a:t>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620120" cy="457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97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      </a:t>
            </a:r>
            <a:r>
              <a:rPr b="0" lang="zh-CN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康复操可改善患者颈部的血液循环，</a:t>
            </a:r>
            <a:r>
              <a:rPr b="0" lang="zh-CN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松解粘连和痉挛的软组织</a:t>
            </a:r>
            <a:r>
              <a:rPr b="0" lang="zh-CN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。无颈椎病者可起到</a:t>
            </a:r>
            <a:r>
              <a:rPr b="0" lang="zh-CN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预防作用</a:t>
            </a:r>
            <a:r>
              <a:rPr b="0" lang="zh-CN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。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33cc"/>
                </a:solidFill>
                <a:latin typeface="华文新魏"/>
                <a:ea typeface="华文新魏"/>
              </a:rPr>
              <a:t>姿势：两脚分开与肩同宽，两臂自然下垂，全身放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9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华文新魏"/>
                <a:ea typeface="华文新魏"/>
              </a:rPr>
              <a:t>                  </a:t>
            </a:r>
            <a:r>
              <a:rPr b="0" lang="zh-CN" sz="2400" spc="-1" strike="noStrike">
                <a:solidFill>
                  <a:srgbClr val="0033cc"/>
                </a:solidFill>
                <a:latin typeface="华文新魏"/>
                <a:ea typeface="华文新魏"/>
              </a:rPr>
              <a:t>松</a:t>
            </a:r>
            <a:r>
              <a:rPr b="0" lang="en-US" sz="2400" spc="-1" strike="noStrike">
                <a:solidFill>
                  <a:srgbClr val="0033cc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33cc"/>
                </a:solidFill>
                <a:latin typeface="华文新魏"/>
                <a:ea typeface="华文新魏"/>
              </a:rPr>
              <a:t>两眼平视，均匀呼吸，站坐均可。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9933"/>
                </a:solidFill>
                <a:latin typeface="华文新魏"/>
                <a:ea typeface="华文新魏"/>
              </a:rPr>
              <a:t>1. </a:t>
            </a:r>
            <a:r>
              <a:rPr b="0" lang="zh-CN" sz="2400" spc="-1" strike="noStrike">
                <a:solidFill>
                  <a:srgbClr val="ff9933"/>
                </a:solidFill>
                <a:latin typeface="华文新魏"/>
                <a:ea typeface="华文新魏"/>
              </a:rPr>
              <a:t>左顾右盼</a:t>
            </a:r>
            <a:r>
              <a:rPr b="0" lang="en-US" sz="2400" spc="-1" strike="noStrike">
                <a:solidFill>
                  <a:srgbClr val="ff9933"/>
                </a:solidFill>
                <a:latin typeface="华文新魏"/>
                <a:ea typeface="华文新魏"/>
              </a:rPr>
              <a:t>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97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         </a:t>
            </a:r>
            <a:r>
              <a:rPr b="0" lang="zh-CN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头先向左后向右转动，幅度宜大，以自觉酸胀为好，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97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          </a:t>
            </a:r>
            <a:r>
              <a:rPr b="0" lang="en-US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30</a:t>
            </a:r>
            <a:r>
              <a:rPr b="0" lang="zh-CN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次。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9933"/>
                </a:solidFill>
                <a:latin typeface="华文新魏"/>
                <a:ea typeface="华文新魏"/>
              </a:rPr>
              <a:t>2. </a:t>
            </a:r>
            <a:r>
              <a:rPr b="0" lang="zh-CN" sz="2400" spc="-1" strike="noStrike">
                <a:solidFill>
                  <a:srgbClr val="ff9933"/>
                </a:solidFill>
                <a:latin typeface="华文新魏"/>
                <a:ea typeface="华文新魏"/>
              </a:rPr>
              <a:t>前后点头</a:t>
            </a:r>
            <a:r>
              <a:rPr b="0" lang="en-US" sz="2400" spc="-1" strike="noStrike">
                <a:solidFill>
                  <a:srgbClr val="ff9933"/>
                </a:solidFill>
                <a:latin typeface="华文新魏"/>
                <a:ea typeface="华文新魏"/>
              </a:rPr>
              <a:t>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97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          </a:t>
            </a:r>
            <a:r>
              <a:rPr b="0" lang="zh-CN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头先前再后，前俯时颈项尽量前伸拉长，</a:t>
            </a:r>
            <a:r>
              <a:rPr b="0" lang="en-US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30</a:t>
            </a:r>
            <a:r>
              <a:rPr b="0" lang="zh-CN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次。</a:t>
            </a:r>
            <a:br>
              <a:rPr sz="24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97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3" name="WordArt 4"/>
          <p:cNvSpPr txBox="1"/>
          <p:nvPr/>
        </p:nvSpPr>
        <p:spPr>
          <a:xfrm>
            <a:off x="2362320" y="990720"/>
            <a:ext cx="5181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颈椎病预防保健操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  <p:pic>
        <p:nvPicPr>
          <p:cNvPr id="244" name="Picture 5" descr="NA00864_"/>
          <p:cNvPicPr/>
          <p:nvPr/>
        </p:nvPicPr>
        <p:blipFill>
          <a:blip r:embed="rId1"/>
          <a:stretch/>
        </p:blipFill>
        <p:spPr>
          <a:xfrm>
            <a:off x="838080" y="990720"/>
            <a:ext cx="914400" cy="688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页脚占位符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d7a"/>
                </a:solidFill>
                <a:latin typeface="Times New Roman"/>
                <a:ea typeface="宋体"/>
              </a:rPr>
              <a:t>TJ ES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47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  <a:ea typeface="华文新魏"/>
              </a:rPr>
              <a:t>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00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华文新魏"/>
                <a:ea typeface="华文新魏"/>
              </a:rPr>
              <a:t>     </a:t>
            </a:r>
            <a:r>
              <a:rPr b="0" lang="en-US" sz="2400" spc="-1" strike="noStrike">
                <a:solidFill>
                  <a:srgbClr val="ff9933"/>
                </a:solidFill>
                <a:latin typeface="华文新魏"/>
                <a:ea typeface="华文新魏"/>
              </a:rPr>
              <a:t>3. </a:t>
            </a:r>
            <a:r>
              <a:rPr b="0" lang="zh-CN" sz="2400" spc="-1" strike="noStrike">
                <a:solidFill>
                  <a:srgbClr val="ff9933"/>
                </a:solidFill>
                <a:latin typeface="华文新魏"/>
                <a:ea typeface="华文新魏"/>
              </a:rPr>
              <a:t>旋肩舒颈</a:t>
            </a:r>
            <a:r>
              <a:rPr b="0" lang="en-US" sz="2400" spc="-1" strike="noStrike">
                <a:solidFill>
                  <a:srgbClr val="ff9933"/>
                </a:solidFill>
                <a:latin typeface="华文新魏"/>
                <a:ea typeface="华文新魏"/>
              </a:rPr>
              <a:t>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          </a:t>
            </a:r>
            <a:r>
              <a:rPr b="0" lang="zh-CN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双手置两侧肩部，掌心向下，两臂先由后向前旋转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          </a:t>
            </a:r>
            <a:r>
              <a:rPr b="0" lang="en-US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20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华文新魏"/>
              </a:rPr>
              <a:t>—</a:t>
            </a:r>
            <a:r>
              <a:rPr b="0" lang="en-US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30</a:t>
            </a:r>
            <a:r>
              <a:rPr b="0" lang="zh-CN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次，再由前向后旋转</a:t>
            </a:r>
            <a:r>
              <a:rPr b="0" lang="en-US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20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华文新魏"/>
              </a:rPr>
              <a:t>—</a:t>
            </a:r>
            <a:r>
              <a:rPr b="0" lang="en-US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30</a:t>
            </a:r>
            <a:r>
              <a:rPr b="0" lang="zh-CN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次。</a:t>
            </a:r>
            <a:br>
              <a:rPr sz="2400"/>
            </a:b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华文新魏"/>
                <a:ea typeface="华文新魏"/>
              </a:rPr>
              <a:t>      </a:t>
            </a:r>
            <a:r>
              <a:rPr b="0" lang="en-US" sz="2400" spc="-1" strike="noStrike">
                <a:solidFill>
                  <a:srgbClr val="ff9933"/>
                </a:solidFill>
                <a:latin typeface="华文新魏"/>
                <a:ea typeface="华文新魏"/>
              </a:rPr>
              <a:t>4. </a:t>
            </a:r>
            <a:r>
              <a:rPr b="0" lang="zh-CN" sz="2400" spc="-1" strike="noStrike">
                <a:solidFill>
                  <a:srgbClr val="ff9933"/>
                </a:solidFill>
                <a:latin typeface="华文新魏"/>
                <a:ea typeface="华文新魏"/>
              </a:rPr>
              <a:t>摇头晃脑</a:t>
            </a:r>
            <a:r>
              <a:rPr b="0" lang="en-US" sz="2400" spc="-1" strike="noStrike">
                <a:solidFill>
                  <a:srgbClr val="ff9933"/>
                </a:solidFill>
                <a:latin typeface="华文新魏"/>
                <a:ea typeface="华文新魏"/>
              </a:rPr>
              <a:t>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          </a:t>
            </a:r>
            <a:r>
              <a:rPr b="0" lang="zh-CN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头向左一前一右一后旋转</a:t>
            </a:r>
            <a:r>
              <a:rPr b="0" lang="en-US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次，再反方向旋转</a:t>
            </a:r>
            <a:r>
              <a:rPr b="0" lang="en-US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次。</a:t>
            </a:r>
            <a:br>
              <a:rPr sz="2400"/>
            </a:b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华文新魏"/>
                <a:ea typeface="华文新魏"/>
              </a:rPr>
              <a:t>      </a:t>
            </a:r>
            <a:r>
              <a:rPr b="0" lang="en-US" sz="2400" spc="-1" strike="noStrike">
                <a:solidFill>
                  <a:srgbClr val="ff9933"/>
                </a:solidFill>
                <a:latin typeface="华文新魏"/>
                <a:ea typeface="华文新魏"/>
              </a:rPr>
              <a:t>5.</a:t>
            </a:r>
            <a:r>
              <a:rPr b="0" lang="zh-CN" sz="2400" spc="-1" strike="noStrike">
                <a:solidFill>
                  <a:srgbClr val="ff9933"/>
                </a:solidFill>
                <a:latin typeface="华文新魏"/>
                <a:ea typeface="华文新魏"/>
              </a:rPr>
              <a:t>头手相抗</a:t>
            </a:r>
            <a:r>
              <a:rPr b="0" lang="en-US" sz="2400" spc="-1" strike="noStrike">
                <a:solidFill>
                  <a:srgbClr val="ff9933"/>
                </a:solidFill>
                <a:latin typeface="华文新魏"/>
                <a:ea typeface="华文新魏"/>
              </a:rPr>
              <a:t>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          </a:t>
            </a:r>
            <a:r>
              <a:rPr b="0" lang="zh-CN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双手交叉紧贴后颈部，用力顶头颈，头颈则向后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          </a:t>
            </a:r>
            <a:r>
              <a:rPr b="0" lang="zh-CN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力，互相抵抗</a:t>
            </a:r>
            <a:r>
              <a:rPr b="0" lang="en-US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次。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9933"/>
                </a:solidFill>
                <a:latin typeface="华文新魏"/>
                <a:ea typeface="华文新魏"/>
              </a:rPr>
              <a:t>6. </a:t>
            </a:r>
            <a:r>
              <a:rPr b="0" lang="zh-CN" sz="2400" spc="-1" strike="noStrike">
                <a:solidFill>
                  <a:srgbClr val="ff9933"/>
                </a:solidFill>
                <a:latin typeface="华文新魏"/>
                <a:ea typeface="华文新魏"/>
              </a:rPr>
              <a:t>双手托天</a:t>
            </a:r>
            <a:r>
              <a:rPr b="0" lang="en-US" sz="2400" spc="-1" strike="noStrike">
                <a:solidFill>
                  <a:srgbClr val="ff9933"/>
                </a:solidFill>
                <a:latin typeface="华文新魏"/>
                <a:ea typeface="华文新魏"/>
              </a:rPr>
              <a:t>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           </a:t>
            </a:r>
            <a:r>
              <a:rPr b="0" lang="zh-CN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双手上举过头，掌心向上，仰视手背</a:t>
            </a:r>
            <a:r>
              <a:rPr b="0" lang="en-US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秒钟。</a:t>
            </a:r>
            <a:br>
              <a:rPr sz="2400"/>
            </a:b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8" name="WordArt 5"/>
          <p:cNvSpPr txBox="1"/>
          <p:nvPr/>
        </p:nvSpPr>
        <p:spPr>
          <a:xfrm>
            <a:off x="2590920" y="914400"/>
            <a:ext cx="51051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颈椎病预防保健操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  <p:pic>
        <p:nvPicPr>
          <p:cNvPr id="249" name="Picture 6" descr="NA00864_"/>
          <p:cNvPicPr/>
          <p:nvPr/>
        </p:nvPicPr>
        <p:blipFill>
          <a:blip r:embed="rId1"/>
          <a:stretch/>
        </p:blipFill>
        <p:spPr>
          <a:xfrm>
            <a:off x="914400" y="914400"/>
            <a:ext cx="914400" cy="689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页脚占位符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d7a"/>
                </a:solidFill>
                <a:latin typeface="Times New Roman"/>
                <a:ea typeface="宋体"/>
              </a:rPr>
              <a:t>TJ ES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1" name="Text Box 1026"/>
          <p:cNvSpPr/>
          <p:nvPr/>
        </p:nvSpPr>
        <p:spPr>
          <a:xfrm>
            <a:off x="2651040" y="3330720"/>
            <a:ext cx="565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2" name="Text Box 1027"/>
          <p:cNvSpPr/>
          <p:nvPr/>
        </p:nvSpPr>
        <p:spPr>
          <a:xfrm>
            <a:off x="2270160" y="279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3" name="WordArt 1028"/>
          <p:cNvSpPr txBox="1"/>
          <p:nvPr/>
        </p:nvSpPr>
        <p:spPr>
          <a:xfrm>
            <a:off x="1836720" y="2781360"/>
            <a:ext cx="61437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1260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祝您健康！</a:t>
            </a:r>
            <a:endParaRPr b="1" i="1" lang="en-US" sz="2400" spc="1" strike="noStrike">
              <a:ln w="1260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幻灯片之家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b5249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EA9A-E2EB-45CE-AC23-2531A7234132}" type="slidenum">
              <a:t>23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页脚占位符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d7a"/>
                </a:solidFill>
                <a:latin typeface="Times New Roman"/>
                <a:ea typeface="宋体"/>
              </a:rPr>
              <a:t>TJ ES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680" y="228600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6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3399ff"/>
                </a:solidFill>
                <a:latin typeface="华文新魏"/>
                <a:ea typeface="华文新魏"/>
              </a:rPr>
              <a:t>1. </a:t>
            </a:r>
            <a:r>
              <a:rPr b="1" lang="zh-CN" sz="3200" spc="-1" strike="noStrike">
                <a:solidFill>
                  <a:srgbClr val="3399ff"/>
                </a:solidFill>
                <a:latin typeface="华文新魏"/>
                <a:ea typeface="华文新魏"/>
              </a:rPr>
              <a:t>颈型</a:t>
            </a:r>
            <a:r>
              <a:rPr b="1" lang="zh-CN" sz="3200" spc="-1" strike="noStrike">
                <a:solidFill>
                  <a:srgbClr val="3399ff"/>
                </a:solidFill>
                <a:latin typeface="华文新魏"/>
                <a:ea typeface="华文新魏"/>
              </a:rPr>
              <a:t>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667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华文新魏"/>
                <a:ea typeface="华文新魏"/>
              </a:rPr>
              <a:t>       </a:t>
            </a:r>
            <a:r>
              <a:rPr b="0" lang="zh-CN" sz="2700" spc="-1" strike="noStrike">
                <a:solidFill>
                  <a:srgbClr val="333333"/>
                </a:solidFill>
                <a:latin typeface="华文新魏"/>
                <a:ea typeface="华文新魏"/>
              </a:rPr>
              <a:t>主诉</a:t>
            </a:r>
            <a:r>
              <a:rPr b="0" lang="zh-CN" sz="2700" spc="-1" strike="noStrike">
                <a:solidFill>
                  <a:srgbClr val="ff3300"/>
                </a:solidFill>
                <a:latin typeface="华文新魏"/>
                <a:ea typeface="华文新魏"/>
              </a:rPr>
              <a:t>头、颈、肩疼痛</a:t>
            </a:r>
            <a:r>
              <a:rPr b="0" lang="zh-CN" sz="2700" spc="-1" strike="noStrike">
                <a:solidFill>
                  <a:srgbClr val="333333"/>
                </a:solidFill>
                <a:latin typeface="华文新魏"/>
                <a:ea typeface="华文新魏"/>
              </a:rPr>
              <a:t>等异常感觉，并伴有相应的</a:t>
            </a:r>
            <a:r>
              <a:rPr b="0" lang="zh-CN" sz="2700" spc="-1" strike="noStrike">
                <a:solidFill>
                  <a:srgbClr val="5b5249"/>
                </a:solidFill>
                <a:latin typeface="华文新魏"/>
                <a:ea typeface="华文新魏"/>
              </a:rPr>
              <a:t>压痛点</a:t>
            </a:r>
            <a:r>
              <a:rPr b="0" lang="zh-CN" sz="2700" spc="-1" strike="noStrike">
                <a:solidFill>
                  <a:srgbClr val="333333"/>
                </a:solidFill>
                <a:latin typeface="华文新魏"/>
                <a:ea typeface="华文新魏"/>
              </a:rPr>
              <a:t>。特征是颈部僵硬、不舒服、疼痛，以及活动不灵活，这也是最常见的一种类型。</a:t>
            </a:r>
            <a:endParaRPr b="0" lang="en-US" sz="2700" spc="-1" strike="noStrike">
              <a:solidFill>
                <a:srgbClr val="5b5249"/>
              </a:solidFill>
              <a:latin typeface="Times New Roman"/>
            </a:endParaRPr>
          </a:p>
          <a:p>
            <a:pPr marL="666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3399ff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3399ff"/>
                </a:solidFill>
                <a:latin typeface="华文新魏"/>
                <a:ea typeface="华文新魏"/>
              </a:rPr>
              <a:t>神经根型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667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华文新魏"/>
                <a:ea typeface="华文新魏"/>
              </a:rPr>
              <a:t>        </a:t>
            </a:r>
            <a:r>
              <a:rPr b="0" lang="zh-CN" sz="2700" spc="-1" strike="noStrike">
                <a:solidFill>
                  <a:srgbClr val="333333"/>
                </a:solidFill>
                <a:latin typeface="华文新魏"/>
                <a:ea typeface="华文新魏"/>
              </a:rPr>
              <a:t>病人的手掌或手臂</a:t>
            </a:r>
            <a:r>
              <a:rPr b="0" lang="zh-CN" sz="2700" spc="-1" strike="noStrike">
                <a:solidFill>
                  <a:srgbClr val="ff3300"/>
                </a:solidFill>
                <a:latin typeface="华文新魏"/>
                <a:ea typeface="华文新魏"/>
              </a:rPr>
              <a:t>麻木、疼痛、握力减弱</a:t>
            </a:r>
            <a:r>
              <a:rPr b="0" lang="zh-CN" sz="2700" spc="-1" strike="noStrike">
                <a:solidFill>
                  <a:srgbClr val="333333"/>
                </a:solidFill>
                <a:latin typeface="华文新魏"/>
                <a:ea typeface="华文新魏"/>
              </a:rPr>
              <a:t>，有时连拿杯都觉得没有力，病情严重时，整夜疼痛难于入睡。 </a:t>
            </a:r>
            <a:endParaRPr b="0" lang="en-US" sz="2700" spc="-1" strike="noStrike">
              <a:solidFill>
                <a:srgbClr val="5b5249"/>
              </a:solidFill>
              <a:latin typeface="Times New Roman"/>
            </a:endParaRPr>
          </a:p>
          <a:p>
            <a:pPr marL="6667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5b5249"/>
              </a:solidFill>
              <a:latin typeface="Times New Roman"/>
            </a:endParaRPr>
          </a:p>
          <a:p>
            <a:pPr marL="6667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5b5249"/>
              </a:solidFill>
              <a:latin typeface="Times New Roman"/>
            </a:endParaRPr>
          </a:p>
          <a:p>
            <a:pPr marL="666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66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083320" y="1229760"/>
            <a:ext cx="5743080" cy="42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Times New Roman"/>
                <a:ea typeface="华文隶书"/>
              </a:rPr>
              <a:t>    </a:t>
            </a: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华文隶书"/>
              </a:rPr>
              <a:t>颈椎病的症状有哪些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6" name="Picture 4" descr="28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48720" y="5791320"/>
            <a:ext cx="116496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d7a"/>
                </a:solidFill>
                <a:latin typeface="Times New Roman"/>
                <a:ea typeface="宋体"/>
              </a:rPr>
              <a:t>TJ ES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294920" y="2286000"/>
            <a:ext cx="7162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华文新魏"/>
                <a:ea typeface="华文新魏"/>
              </a:rPr>
              <a:t>3. </a:t>
            </a:r>
            <a:r>
              <a:rPr b="1" lang="zh-CN" sz="3200" spc="-1" strike="noStrike">
                <a:solidFill>
                  <a:srgbClr val="3399ff"/>
                </a:solidFill>
                <a:latin typeface="华文新魏"/>
                <a:ea typeface="华文新魏"/>
              </a:rPr>
              <a:t>椎动脉型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76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     </a:t>
            </a:r>
            <a:r>
              <a:rPr b="0" lang="zh-CN" sz="2700" spc="-1" strike="noStrike">
                <a:solidFill>
                  <a:srgbClr val="333333"/>
                </a:solidFill>
                <a:latin typeface="华文新魏"/>
                <a:ea typeface="华文新魏"/>
              </a:rPr>
              <a:t>病人的征状是偏头痛、头晕，或者胸闷、  </a:t>
            </a:r>
            <a:endParaRPr b="0" lang="en-US" sz="2700" spc="-1" strike="noStrike">
              <a:solidFill>
                <a:srgbClr val="5b5249"/>
              </a:solidFill>
              <a:latin typeface="Times New Roman"/>
            </a:endParaRPr>
          </a:p>
          <a:p>
            <a:pPr marL="476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华文新魏"/>
                <a:ea typeface="华文新魏"/>
              </a:rPr>
              <a:t>      </a:t>
            </a:r>
            <a:r>
              <a:rPr b="0" lang="zh-CN" sz="2700" spc="-1" strike="noStrike">
                <a:solidFill>
                  <a:srgbClr val="333333"/>
                </a:solidFill>
                <a:latin typeface="华文新魏"/>
                <a:ea typeface="华文新魏"/>
              </a:rPr>
              <a:t>胸痛。每次眩晕发作都和</a:t>
            </a:r>
            <a:r>
              <a:rPr b="0" lang="zh-CN" sz="2700" spc="-1" strike="noStrike">
                <a:solidFill>
                  <a:srgbClr val="5b5249"/>
                </a:solidFill>
                <a:latin typeface="华文新魏"/>
                <a:ea typeface="华文新魏"/>
              </a:rPr>
              <a:t>颈项转动</a:t>
            </a:r>
            <a:r>
              <a:rPr b="0" lang="zh-CN" sz="2700" spc="-1" strike="noStrike">
                <a:solidFill>
                  <a:srgbClr val="333333"/>
                </a:solidFill>
                <a:latin typeface="华文新魏"/>
                <a:ea typeface="华文新魏"/>
              </a:rPr>
              <a:t>有关。</a:t>
            </a:r>
            <a:endParaRPr b="0" lang="en-US" sz="2700" spc="-1" strike="noStrike">
              <a:solidFill>
                <a:srgbClr val="5b5249"/>
              </a:solidFill>
              <a:latin typeface="Times New Roman"/>
            </a:endParaRPr>
          </a:p>
          <a:p>
            <a:pPr marL="476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3399ff"/>
                </a:solidFill>
                <a:latin typeface="华文新魏"/>
                <a:ea typeface="华文新魏"/>
              </a:rPr>
              <a:t>交感神经型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76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     </a:t>
            </a:r>
            <a:r>
              <a:rPr b="0" lang="zh-CN" sz="2700" spc="-1" strike="noStrike">
                <a:solidFill>
                  <a:srgbClr val="333333"/>
                </a:solidFill>
                <a:latin typeface="华文新魏"/>
                <a:ea typeface="华文新魏"/>
              </a:rPr>
              <a:t>临床表现为头晕、眼花、耳鸣、手麻、心动过速、心前区疼痛等一系列交感神经症状。</a:t>
            </a:r>
            <a:endParaRPr b="0" lang="en-US" sz="2700" spc="-1" strike="noStrike">
              <a:solidFill>
                <a:srgbClr val="5b5249"/>
              </a:solidFill>
              <a:latin typeface="Times New Roman"/>
            </a:endParaRPr>
          </a:p>
          <a:p>
            <a:pPr marL="476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5b5249"/>
              </a:solidFill>
              <a:latin typeface="Times New Roman"/>
            </a:endParaRPr>
          </a:p>
          <a:p>
            <a:pPr marL="476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9" name="Object 3" descr=""/>
          <p:cNvPicPr/>
          <p:nvPr/>
        </p:nvPicPr>
        <p:blipFill>
          <a:blip r:embed="rId1"/>
          <a:stretch/>
        </p:blipFill>
        <p:spPr>
          <a:xfrm>
            <a:off x="7499520" y="5486400"/>
            <a:ext cx="1035000" cy="1295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083320" y="1229760"/>
            <a:ext cx="5743080" cy="42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Times New Roman"/>
                <a:ea typeface="华文隶书"/>
              </a:rPr>
              <a:t>    </a:t>
            </a: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华文隶书"/>
              </a:rPr>
              <a:t>颈椎病的症状有哪些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页脚占位符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d7a"/>
                </a:solidFill>
                <a:latin typeface="Times New Roman"/>
                <a:ea typeface="宋体"/>
              </a:rPr>
              <a:t>TJ ES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7560" y="2133720"/>
            <a:ext cx="7010280" cy="4114800"/>
          </a:xfrm>
          <a:prstGeom prst="rect">
            <a:avLst/>
          </a:prstGeom>
          <a:gradFill rotWithShape="0">
            <a:gsLst>
              <a:gs pos="0">
                <a:srgbClr val="f1fdb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长期从事</a:t>
            </a:r>
            <a:r>
              <a:rPr b="0" lang="zh-CN" sz="2600" spc="-1" strike="noStrike">
                <a:solidFill>
                  <a:srgbClr val="ff3300"/>
                </a:solidFill>
                <a:latin typeface="华文新魏"/>
                <a:ea typeface="华文新魏"/>
              </a:rPr>
              <a:t>财会、写作、打字、办公室</a:t>
            </a: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等职业的工作人员，由于长期低头伏案工作，使颈椎长时间处于屈曲位或某些特定体位，不仅使颈椎间盘内的压力增高，而且也使颈部肌肉长期处于非协调受力状态，颈后部</a:t>
            </a:r>
            <a:r>
              <a:rPr b="0" lang="zh-CN" sz="2600" spc="-1" strike="noStrike">
                <a:solidFill>
                  <a:srgbClr val="5a2bef"/>
                </a:solidFill>
                <a:latin typeface="华文新魏"/>
                <a:ea typeface="华文新魏"/>
              </a:rPr>
              <a:t>肌肉和韧带</a:t>
            </a: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受牵拉</a:t>
            </a:r>
            <a:r>
              <a:rPr b="0" lang="zh-CN" sz="2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劳损</a:t>
            </a: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椎体前缘相互磨损、</a:t>
            </a:r>
            <a:r>
              <a:rPr b="0" lang="zh-CN" sz="2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增生</a:t>
            </a:r>
            <a:r>
              <a:rPr b="0" lang="en-US" sz="2600" spc="-1" strike="noStrike">
                <a:solidFill>
                  <a:srgbClr val="ff0066"/>
                </a:solidFill>
                <a:latin typeface="华文新魏"/>
                <a:ea typeface="华文新魏"/>
              </a:rPr>
              <a:t>,</a:t>
            </a: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加上扭转、侧屈过度，更进一步导致损伤，</a:t>
            </a:r>
            <a:r>
              <a:rPr b="0" lang="zh-CN" sz="2600" spc="-1" strike="noStrike">
                <a:solidFill>
                  <a:srgbClr val="ff0066"/>
                </a:solidFill>
                <a:latin typeface="华文新魏"/>
                <a:ea typeface="华文新魏"/>
              </a:rPr>
              <a:t>易于发生颈椎病。</a:t>
            </a:r>
            <a:br>
              <a:rPr sz="2600"/>
            </a:br>
            <a:br>
              <a:rPr sz="2800"/>
            </a:b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4" name="Picture 7" descr="j0292020"/>
          <p:cNvPicPr/>
          <p:nvPr/>
        </p:nvPicPr>
        <p:blipFill>
          <a:blip r:embed="rId1"/>
          <a:stretch/>
        </p:blipFill>
        <p:spPr>
          <a:xfrm>
            <a:off x="7010280" y="5302080"/>
            <a:ext cx="1640160" cy="155592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8"/>
          <p:cNvSpPr/>
          <p:nvPr/>
        </p:nvSpPr>
        <p:spPr>
          <a:xfrm>
            <a:off x="1447920" y="838080"/>
            <a:ext cx="7086600" cy="1143000"/>
          </a:xfrm>
          <a:prstGeom prst="horizontalScroll">
            <a:avLst>
              <a:gd name="adj" fmla="val 12500"/>
            </a:avLst>
          </a:prstGeom>
          <a:solidFill>
            <a:srgbClr val="ccffcc">
              <a:alpha val="50000"/>
            </a:srgbClr>
          </a:solidFill>
          <a:ln w="9360">
            <a:solidFill>
              <a:srgbClr val="5b524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720800" y="1066680"/>
            <a:ext cx="658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33"/>
                </a:solidFill>
                <a:latin typeface="Times New Roman"/>
                <a:ea typeface="华文行楷"/>
              </a:rPr>
              <a:t>办公室工作人员如何预防颈椎病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7" name="Picture 10" descr="NA00864_"/>
          <p:cNvPicPr/>
          <p:nvPr/>
        </p:nvPicPr>
        <p:blipFill>
          <a:blip r:embed="rId2"/>
          <a:stretch/>
        </p:blipFill>
        <p:spPr>
          <a:xfrm>
            <a:off x="457200" y="1158840"/>
            <a:ext cx="990720" cy="746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页脚占位符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d7a"/>
                </a:solidFill>
                <a:latin typeface="Times New Roman"/>
                <a:ea typeface="宋体"/>
              </a:rPr>
              <a:t>TJ ES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880" y="2057400"/>
            <a:ext cx="4191120" cy="4114800"/>
          </a:xfrm>
          <a:prstGeom prst="rect">
            <a:avLst/>
          </a:prstGeom>
          <a:gradFill rotWithShape="0">
            <a:gsLst>
              <a:gs pos="0">
                <a:srgbClr val="f1fdb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办公室工作人员首先在</a:t>
            </a:r>
            <a:r>
              <a:rPr b="0" lang="zh-CN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坐姿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应保持自然的</a:t>
            </a:r>
            <a:r>
              <a:rPr b="0" lang="zh-CN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端坐位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臀部和背部要充分接触椅面，</a:t>
            </a:r>
            <a:r>
              <a:rPr b="0" lang="zh-CN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双肩后展，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两肩连线与桌缘平行，</a:t>
            </a:r>
            <a:r>
              <a:rPr b="0" lang="zh-CN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脊柱正直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两足着地。将桌椅高度调到与自己身高比例合适的最佳状态，使</a:t>
            </a:r>
            <a:r>
              <a:rPr b="0" lang="zh-CN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目光平视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电脑屏幕，双肩放松。</a:t>
            </a:r>
            <a:r>
              <a:rPr b="0" lang="zh-CN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避免头颈部过度前屈</a:t>
            </a:r>
            <a:r>
              <a:rPr b="0" lang="zh-CN" sz="2400" spc="-1" strike="noStrike">
                <a:solidFill>
                  <a:srgbClr val="5b5249"/>
                </a:solidFill>
                <a:latin typeface="华文新魏"/>
                <a:ea typeface="华文新魏"/>
              </a:rPr>
              <a:t>或过度后仰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以减轻长时间端坐引起的颈部疲劳。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1904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066680" y="83808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1447920" y="990720"/>
            <a:ext cx="77724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13716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4" name="Picture 7" descr="sitting040401"/>
          <p:cNvPicPr/>
          <p:nvPr/>
        </p:nvPicPr>
        <p:blipFill>
          <a:blip r:embed="rId1"/>
          <a:stretch/>
        </p:blipFill>
        <p:spPr>
          <a:xfrm>
            <a:off x="5715000" y="2057400"/>
            <a:ext cx="2801880" cy="403848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8"/>
          <p:cNvSpPr/>
          <p:nvPr/>
        </p:nvSpPr>
        <p:spPr>
          <a:xfrm>
            <a:off x="1371600" y="838080"/>
            <a:ext cx="7238880" cy="1143000"/>
          </a:xfrm>
          <a:prstGeom prst="horizontalScroll">
            <a:avLst>
              <a:gd name="adj" fmla="val 12500"/>
            </a:avLst>
          </a:prstGeom>
          <a:solidFill>
            <a:srgbClr val="ccffcc">
              <a:alpha val="50000"/>
            </a:srgbClr>
          </a:solidFill>
          <a:ln w="9360">
            <a:solidFill>
              <a:srgbClr val="5b524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1447920" y="10350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a0a8c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9933"/>
                </a:solidFill>
                <a:latin typeface="Times New Roman"/>
                <a:ea typeface="华文行楷"/>
              </a:rPr>
              <a:t>办公室工作人员如何预防颈椎病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7" name="Picture 10" descr="NA00864_"/>
          <p:cNvPicPr/>
          <p:nvPr/>
        </p:nvPicPr>
        <p:blipFill>
          <a:blip r:embed="rId2"/>
          <a:stretch/>
        </p:blipFill>
        <p:spPr>
          <a:xfrm>
            <a:off x="457200" y="1158840"/>
            <a:ext cx="990720" cy="746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页脚占位符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d7a"/>
                </a:solidFill>
                <a:latin typeface="Times New Roman"/>
                <a:ea typeface="宋体"/>
              </a:rPr>
              <a:t>TJ ES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523520" y="1980720"/>
            <a:ext cx="7086600" cy="4343400"/>
          </a:xfrm>
          <a:prstGeom prst="rect">
            <a:avLst/>
          </a:prstGeom>
          <a:gradFill rotWithShape="0">
            <a:gsLst>
              <a:gs pos="0">
                <a:srgbClr val="f1fdb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212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a3d7a"/>
                </a:solidFill>
                <a:latin typeface="华文新魏"/>
                <a:ea typeface="华文新魏"/>
              </a:rPr>
              <a:t>1. </a:t>
            </a:r>
            <a:r>
              <a:rPr b="0" lang="zh-CN" sz="2500" spc="-1" strike="noStrike" u="sng">
                <a:solidFill>
                  <a:srgbClr val="2a3d7a"/>
                </a:solidFill>
                <a:uFillTx/>
                <a:latin typeface="华文新魏"/>
                <a:ea typeface="华文新魏"/>
              </a:rPr>
              <a:t>坐姿正确 </a:t>
            </a:r>
            <a:r>
              <a:rPr b="1" lang="en-US" sz="2500" spc="-1" strike="noStrike">
                <a:solidFill>
                  <a:srgbClr val="2a3d7a"/>
                </a:solidFill>
                <a:latin typeface="华文新魏"/>
                <a:ea typeface="华文新魏"/>
              </a:rPr>
              <a:t>:</a:t>
            </a:r>
            <a:r>
              <a:rPr b="0" lang="en-US" sz="2500" spc="-1" strike="noStrike">
                <a:solidFill>
                  <a:srgbClr val="2a3d7a"/>
                </a:solidFill>
                <a:latin typeface="华文新魏"/>
                <a:ea typeface="华文新魏"/>
              </a:rPr>
              <a:t>  </a:t>
            </a:r>
            <a:r>
              <a:rPr b="0" lang="en-US" sz="2500" spc="-1" strike="noStrike">
                <a:solidFill>
                  <a:srgbClr val="ff00ff"/>
                </a:solidFill>
                <a:latin typeface="华文新魏"/>
                <a:ea typeface="华文新魏"/>
              </a:rPr>
              <a:t> </a:t>
            </a:r>
            <a:r>
              <a:rPr b="0" lang="zh-CN" sz="2500" spc="-1" strike="noStrike" u="sng">
                <a:solidFill>
                  <a:srgbClr val="ff3300"/>
                </a:solidFill>
                <a:uFillTx/>
                <a:latin typeface="华文新魏"/>
                <a:ea typeface="华文新魏"/>
              </a:rPr>
              <a:t>要预防颈椎病的发生，最重要的是坐姿要正确，使颈肩部放松，保持最舒适自然的姿势</a:t>
            </a:r>
            <a:r>
              <a:rPr b="0" lang="zh-CN" sz="25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。</a:t>
            </a:r>
            <a:r>
              <a:rPr b="0" lang="zh-CN" sz="2500" spc="-1" strike="noStrike">
                <a:solidFill>
                  <a:srgbClr val="5b5249"/>
                </a:solidFill>
                <a:latin typeface="华文新魏"/>
                <a:ea typeface="华文新魏"/>
              </a:rPr>
              <a:t>办公室工作者，还应不时站起来走动，活动一下颈肩部，使颈肩部的肌肉得到松弛。</a:t>
            </a:r>
            <a:endParaRPr b="0" lang="en-US" sz="2500" spc="-1" strike="noStrike">
              <a:solidFill>
                <a:srgbClr val="5b5249"/>
              </a:solidFill>
              <a:latin typeface="Times New Roman"/>
            </a:endParaRPr>
          </a:p>
          <a:p>
            <a:pPr marL="762120" indent="0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a3d7a"/>
                </a:solidFill>
                <a:latin typeface="华文新魏"/>
                <a:ea typeface="华文新魏"/>
              </a:rPr>
              <a:t>2.  </a:t>
            </a:r>
            <a:r>
              <a:rPr b="0" lang="zh-CN" sz="2500" spc="-1" strike="noStrike" u="sng">
                <a:solidFill>
                  <a:srgbClr val="2a3d7a"/>
                </a:solidFill>
                <a:uFillTx/>
                <a:latin typeface="华文新魏"/>
                <a:ea typeface="华文新魏"/>
              </a:rPr>
              <a:t>活动颈部</a:t>
            </a:r>
            <a:r>
              <a:rPr b="0" lang="zh-CN" sz="2500" spc="-1" strike="noStrike">
                <a:solidFill>
                  <a:srgbClr val="2a3d7a"/>
                </a:solidFill>
                <a:latin typeface="华文新魏"/>
                <a:ea typeface="华文新魏"/>
              </a:rPr>
              <a:t>：</a:t>
            </a:r>
            <a:r>
              <a:rPr b="0" lang="en-US" sz="2500" spc="-1" strike="noStrike">
                <a:solidFill>
                  <a:srgbClr val="ff00ff"/>
                </a:solidFill>
                <a:latin typeface="华文新魏"/>
                <a:ea typeface="华文新魏"/>
              </a:rPr>
              <a:t> </a:t>
            </a:r>
            <a:r>
              <a:rPr b="0" lang="zh-CN" sz="25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应在工作</a:t>
            </a:r>
            <a:r>
              <a:rPr b="1" lang="en-US" sz="2500" spc="-1" strike="noStrike">
                <a:solidFill>
                  <a:srgbClr val="ff0066"/>
                </a:solidFill>
                <a:latin typeface="华文新魏"/>
                <a:ea typeface="华文新魏"/>
              </a:rPr>
              <a:t>1</a:t>
            </a:r>
            <a:r>
              <a:rPr b="1" lang="zh-CN" sz="2500" spc="-1" strike="noStrike">
                <a:solidFill>
                  <a:srgbClr val="ff0066"/>
                </a:solidFill>
                <a:latin typeface="华文新魏"/>
                <a:ea typeface="华文新魏"/>
              </a:rPr>
              <a:t>～</a:t>
            </a:r>
            <a:r>
              <a:rPr b="1" lang="en-US" sz="2500" spc="-1" strike="noStrike">
                <a:solidFill>
                  <a:srgbClr val="ff0066"/>
                </a:solidFill>
                <a:latin typeface="华文新魏"/>
                <a:ea typeface="华文新魏"/>
              </a:rPr>
              <a:t>2</a:t>
            </a:r>
            <a:r>
              <a:rPr b="1" lang="zh-CN" sz="2500" spc="-1" strike="noStrike">
                <a:solidFill>
                  <a:srgbClr val="ff0066"/>
                </a:solidFill>
                <a:latin typeface="华文新魏"/>
                <a:ea typeface="华文新魏"/>
              </a:rPr>
              <a:t>小时</a:t>
            </a:r>
            <a:r>
              <a:rPr b="0" lang="zh-CN" sz="25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左右，有目的地让头颈部向前后左右转动数次，转动时应轻柔、缓慢，以达到各个方向的最大运动范围为准。使得颈椎关节疲劳得到缓解。</a:t>
            </a:r>
            <a:endParaRPr b="0" lang="en-US" sz="2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590840" y="980640"/>
            <a:ext cx="6953400" cy="8575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5b5249"/>
            </a:solidFill>
            <a:prstDash val="sysDot"/>
            <a:miter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1657440" y="1085760"/>
            <a:ext cx="68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33"/>
                </a:solidFill>
                <a:latin typeface="Times New Roman"/>
                <a:ea typeface="华文行楷"/>
              </a:rPr>
              <a:t> </a:t>
            </a:r>
            <a:r>
              <a:rPr b="0" lang="zh-CN" sz="3600" spc="-1" strike="noStrike">
                <a:solidFill>
                  <a:srgbClr val="ff9933"/>
                </a:solidFill>
                <a:latin typeface="Times New Roman"/>
                <a:ea typeface="华文行楷"/>
              </a:rPr>
              <a:t>办公室工作人员如何预防颈椎病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2" name="Picture 12" descr="NA00864_"/>
          <p:cNvPicPr/>
          <p:nvPr/>
        </p:nvPicPr>
        <p:blipFill>
          <a:blip r:embed="rId1"/>
          <a:stretch/>
        </p:blipFill>
        <p:spPr>
          <a:xfrm>
            <a:off x="457200" y="1066680"/>
            <a:ext cx="914400" cy="689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页脚占位符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d7a"/>
                </a:solidFill>
                <a:latin typeface="Times New Roman"/>
                <a:ea typeface="宋体"/>
              </a:rPr>
              <a:t>TJ ES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523520" y="2057400"/>
            <a:ext cx="7086600" cy="4114800"/>
          </a:xfrm>
          <a:prstGeom prst="rect">
            <a:avLst/>
          </a:prstGeom>
          <a:gradFill rotWithShape="0">
            <a:gsLst>
              <a:gs pos="0">
                <a:srgbClr val="f1fdb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华文新魏"/>
                <a:ea typeface="华文新魏"/>
              </a:rPr>
              <a:t>3.  </a:t>
            </a:r>
            <a:r>
              <a:rPr b="0" lang="zh-CN" sz="2800" spc="-1" strike="noStrike" u="sng">
                <a:solidFill>
                  <a:srgbClr val="ff00ff"/>
                </a:solidFill>
                <a:uFillTx/>
                <a:latin typeface="华文新魏"/>
                <a:ea typeface="华文新魏"/>
              </a:rPr>
              <a:t>抬头望远</a:t>
            </a:r>
            <a:r>
              <a:rPr b="0" lang="zh-CN" sz="2800" spc="-1" strike="noStrike">
                <a:solidFill>
                  <a:srgbClr val="ff00ff"/>
                </a:solidFill>
                <a:latin typeface="华文新魏"/>
                <a:ea typeface="华文新魏"/>
              </a:rPr>
              <a:t>：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当长时间近距离看物，尤其是处于低头状态者，既影响颈椎，又易引起视力疲劳，甚至诱发屈光不正。因此，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每当伏案过久后，应抬头向远方眺望半分钟左右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这样既可消除疲劳感，又有利于颈椎的保健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590480" y="980640"/>
            <a:ext cx="6877440" cy="8575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5b5249"/>
            </a:solidFill>
            <a:prstDash val="sysDot"/>
            <a:miter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c64c52"/>
                </a:solidFill>
                <a:latin typeface="_x000b__x000c_"/>
                <a:ea typeface="华文隶书"/>
              </a:rPr>
              <a:t>                                                                      </a:t>
            </a:r>
            <a:br>
              <a:rPr sz="3600"/>
            </a:br>
            <a:br>
              <a:rPr sz="2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1657440" y="1104840"/>
            <a:ext cx="658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33"/>
                </a:solidFill>
                <a:latin typeface="Times New Roman"/>
                <a:ea typeface="华文行楷"/>
              </a:rPr>
              <a:t>办公室工作人员如何预防颈椎病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7" name="Picture 10" descr="NA00864_"/>
          <p:cNvPicPr/>
          <p:nvPr/>
        </p:nvPicPr>
        <p:blipFill>
          <a:blip r:embed="rId1"/>
          <a:stretch/>
        </p:blipFill>
        <p:spPr>
          <a:xfrm>
            <a:off x="457200" y="1143000"/>
            <a:ext cx="838080" cy="7621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BD06790_"/>
          <p:cNvPicPr/>
          <p:nvPr/>
        </p:nvPicPr>
        <p:blipFill>
          <a:blip r:embed="rId2"/>
          <a:stretch/>
        </p:blipFill>
        <p:spPr>
          <a:xfrm>
            <a:off x="6172200" y="5207040"/>
            <a:ext cx="1676520" cy="1270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页脚占位符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d7a"/>
                </a:solidFill>
                <a:latin typeface="Times New Roman"/>
                <a:ea typeface="宋体"/>
              </a:rPr>
              <a:t>TJ ESH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523880" y="2114640"/>
            <a:ext cx="6934320" cy="3930480"/>
          </a:xfrm>
          <a:prstGeom prst="rect">
            <a:avLst/>
          </a:prstGeom>
          <a:gradFill rotWithShape="0">
            <a:gsLst>
              <a:gs pos="0">
                <a:srgbClr val="f1fdb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a3d7a"/>
                </a:solidFill>
                <a:latin typeface="华文新魏"/>
                <a:ea typeface="华文新魏"/>
              </a:rPr>
              <a:t>4.  </a:t>
            </a:r>
            <a:r>
              <a:rPr b="0" lang="zh-CN" sz="2600" spc="-1" strike="noStrike" u="sng">
                <a:solidFill>
                  <a:srgbClr val="2a3d7a"/>
                </a:solidFill>
                <a:uFillTx/>
                <a:latin typeface="华文新魏"/>
                <a:ea typeface="华文新魏"/>
              </a:rPr>
              <a:t>睡眠方式</a:t>
            </a:r>
            <a:r>
              <a:rPr b="1" lang="zh-CN" sz="2600" spc="-1" strike="noStrike">
                <a:solidFill>
                  <a:srgbClr val="2a3d7a"/>
                </a:solidFill>
                <a:latin typeface="华文新魏"/>
                <a:ea typeface="华文新魏"/>
              </a:rPr>
              <a:t>：</a:t>
            </a:r>
            <a:r>
              <a:rPr b="0" lang="zh-CN" sz="2600" spc="-1" strike="noStrike">
                <a:solidFill>
                  <a:srgbClr val="ff3300"/>
                </a:solidFill>
                <a:latin typeface="华文新魏"/>
                <a:ea typeface="华文新魏"/>
              </a:rPr>
              <a:t>睡觉时不可俯着睡，枕头不可以过高、过硬或过低。</a:t>
            </a:r>
            <a:r>
              <a:rPr b="0" lang="zh-CN" sz="2600" spc="-1" strike="noStrike">
                <a:solidFill>
                  <a:srgbClr val="333333"/>
                </a:solidFill>
                <a:latin typeface="华文新魏"/>
                <a:ea typeface="华文新魏"/>
              </a:rPr>
              <a:t>枕头：中央应 </a:t>
            </a:r>
            <a:r>
              <a:rPr b="0" lang="zh-CN" sz="2600" spc="-1" strike="noStrike">
                <a:solidFill>
                  <a:srgbClr val="f65b24"/>
                </a:solidFill>
                <a:latin typeface="华文新魏"/>
                <a:ea typeface="华文新魏"/>
              </a:rPr>
              <a:t>略凹进</a:t>
            </a:r>
            <a:r>
              <a:rPr b="0" lang="zh-CN" sz="2600" spc="-1" strike="noStrike">
                <a:solidFill>
                  <a:srgbClr val="333333"/>
                </a:solidFill>
                <a:latin typeface="华文新魏"/>
                <a:ea typeface="华文新魏"/>
              </a:rPr>
              <a:t>，颈部应充分接触枕头并保持略后仰，</a:t>
            </a:r>
            <a:r>
              <a:rPr b="0" lang="zh-CN" sz="2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不要悬空</a:t>
            </a:r>
            <a:r>
              <a:rPr b="0" lang="zh-CN" sz="2600" spc="-1" strike="noStrike">
                <a:solidFill>
                  <a:srgbClr val="333333"/>
                </a:solidFill>
                <a:latin typeface="华文新魏"/>
                <a:ea typeface="华文新魏"/>
              </a:rPr>
              <a:t>。习惯侧卧位者，应使</a:t>
            </a:r>
            <a:r>
              <a:rPr b="0" lang="zh-CN" sz="2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枕头与肩同高</a:t>
            </a:r>
            <a:r>
              <a:rPr b="0" lang="zh-CN" sz="2600" spc="-1" strike="noStrike">
                <a:solidFill>
                  <a:srgbClr val="333333"/>
                </a:solidFill>
                <a:latin typeface="华文新魏"/>
                <a:ea typeface="华文新魏"/>
              </a:rPr>
              <a:t>。</a:t>
            </a:r>
            <a:r>
              <a:rPr b="0" lang="zh-CN" sz="2500" spc="-1" strike="noStrike">
                <a:solidFill>
                  <a:srgbClr val="333333"/>
                </a:solidFill>
                <a:latin typeface="华文新魏"/>
                <a:ea typeface="华文新魏"/>
              </a:rPr>
              <a:t>睡觉时，不要躺着看书。不要对着头颈部吹冷风。</a:t>
            </a:r>
            <a:endParaRPr b="0" lang="en-US" sz="25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a3d7a"/>
                </a:solidFill>
                <a:latin typeface="华文新魏"/>
                <a:ea typeface="华文新魏"/>
              </a:rPr>
              <a:t>5.  </a:t>
            </a:r>
            <a:r>
              <a:rPr b="0" lang="zh-CN" sz="2600" spc="-1" strike="noStrike" u="sng">
                <a:solidFill>
                  <a:srgbClr val="2a3d7a"/>
                </a:solidFill>
                <a:uFillTx/>
                <a:latin typeface="华文新魏"/>
                <a:ea typeface="华文新魏"/>
              </a:rPr>
              <a:t>避免损伤</a:t>
            </a:r>
            <a:r>
              <a:rPr b="0" lang="zh-CN" sz="2600" spc="-1" strike="noStrike">
                <a:solidFill>
                  <a:srgbClr val="2a3d7a"/>
                </a:solidFill>
                <a:latin typeface="华文新魏"/>
                <a:ea typeface="华文新魏"/>
              </a:rPr>
              <a:t>：</a:t>
            </a:r>
            <a:r>
              <a:rPr b="0" lang="zh-CN" sz="2600" spc="-1" strike="noStrike">
                <a:solidFill>
                  <a:srgbClr val="5b5249"/>
                </a:solidFill>
                <a:latin typeface="华文新魏"/>
                <a:ea typeface="华文新魏"/>
              </a:rPr>
              <a:t>避免和减少急性颈椎损伤，如避免猛抬重物、紧急刹车等。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1" name="Picture 7" descr="BD07175_"/>
          <p:cNvPicPr/>
          <p:nvPr/>
        </p:nvPicPr>
        <p:blipFill>
          <a:blip r:embed="rId1"/>
          <a:stretch/>
        </p:blipFill>
        <p:spPr>
          <a:xfrm>
            <a:off x="6324480" y="5622840"/>
            <a:ext cx="1524240" cy="10065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1590480" y="980640"/>
            <a:ext cx="6877440" cy="8575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5b5249"/>
            </a:solidFill>
            <a:prstDash val="sysDot"/>
            <a:miter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676520" y="1066680"/>
            <a:ext cx="658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33"/>
                </a:solidFill>
                <a:latin typeface="Times New Roman"/>
                <a:ea typeface="华文行楷"/>
              </a:rPr>
              <a:t>办公室工作人员如何预防颈椎病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4" name="Picture 11" descr="NA00864_"/>
          <p:cNvPicPr/>
          <p:nvPr/>
        </p:nvPicPr>
        <p:blipFill>
          <a:blip r:embed="rId2"/>
          <a:stretch/>
        </p:blipFill>
        <p:spPr>
          <a:xfrm>
            <a:off x="457200" y="1158840"/>
            <a:ext cx="914400" cy="689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3T07:54:00Z</dcterms:created>
  <dc:creator/>
  <dc:description/>
  <dc:language>en-US</dc:language>
  <cp:lastModifiedBy>dingxiaoyan</cp:lastModifiedBy>
  <dcterms:modified xsi:type="dcterms:W3CDTF">2015-07-04T06:35:43Z</dcterms:modified>
  <cp:revision>71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