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FEE-8A7B-48D0-8CD1-9ECCFC9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133-965A-4AD9-9081-5FA7E823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033-3464-4C3B-B391-32D2531F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AD8-A6CC-45F3-8AAF-38A7DD46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1BFB-4E6A-4488-BA82-5E54EC9A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F9C4-AF54-438F-8544-73A231AA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6616-6465-478A-8501-2BA95980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8EA4-BA15-48F0-9706-D33BBE2E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E42F-200E-46F8-8529-6CEB8C1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7F2-CC48-4BCD-8996-7642E17E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D9F-0818-4069-B1B7-64B161C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74F-E00B-451E-8644-F194B5A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E4A-FFA4-438D-9FE1-FE6FE022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E62C-A054-46EA-847A-64C1CC4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9F7C-F7AB-4304-9029-79C0FFC7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5DF6-D898-4603-B112-837817FB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A237-D16B-4302-A349-8225411D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0B5-0B55-4BDD-B4B0-E412FA05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088-357A-4528-B2D5-175F26C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085-5930-4552-B5E6-8A0A160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188640"/>
            <a:ext cx="68407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FDD-88E6-4BFB-A390-50CA3F9B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39C-03FC-44A0-9F6F-F9AD84F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1C6-D0B7-4B2B-9C8A-18F459B3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F91-98D2-4CDD-BB2C-CCE047A0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840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B7D5-1428-4958-A1B0-0E4B741BE4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877-226D-421A-B0FC-57BABB162B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54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友好合作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6920" y="2781000"/>
            <a:ext cx="4176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 Rounded MT Bold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 Rounded MT Bold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"/>
          <p:cNvSpPr/>
          <p:nvPr/>
        </p:nvSpPr>
        <p:spPr>
          <a:xfrm>
            <a:off x="119160" y="645336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华文行楷"/>
                <a:ea typeface="华文行楷"/>
              </a:rPr>
              <a:t>我来自</a:t>
            </a:r>
            <a:r>
              <a:rPr b="0" lang="en-US" sz="1800" spc="-1" strike="noStrike">
                <a:solidFill>
                  <a:srgbClr val="009999"/>
                </a:solidFill>
                <a:latin typeface="华文行楷"/>
                <a:ea typeface="华文行楷"/>
              </a:rPr>
              <a:t>:</a:t>
            </a:r>
            <a:r>
              <a:rPr b="0" lang="en-US" sz="1800" spc="-1" strike="noStrike">
                <a:solidFill>
                  <a:srgbClr val="a1c9e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24000" y="156960"/>
            <a:ext cx="6840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Rounded MT Bold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6B72-2719-466F-A2F8-7BCE6F247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37:07Z</dcterms:created>
  <dc:creator/>
  <dc:description/>
  <dc:language>en-US</dc:language>
  <cp:lastModifiedBy/>
  <dcterms:modified xsi:type="dcterms:W3CDTF">2015-07-04T06:41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