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970-A4FD-43D8-AE8C-2EF933EA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270-885F-4028-A796-E2462325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42D8-2610-4805-A1BB-4A48761A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89F3-8C2C-4AFD-8DD6-85C58E0D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CC5-0BE5-40C0-9539-104B82D6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526-2A8E-404F-A053-F691D4F1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B1B0-D92A-4D72-80E7-483489D7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1FBA-363E-4F22-843C-DE8A7DB9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2C83-1248-40E2-8253-D2DE2DD7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CCE3-6355-4A21-AC0A-B91F776E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EB0-D581-47E8-AE81-12A63909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86D6-7EF5-4130-9942-FAEC54A7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1680" y="9360"/>
            <a:ext cx="9175680" cy="695196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FF8E-3FD7-45EC-B99D-AFC0A2437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e3e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e3e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樱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982800"/>
          </a:xfrm>
          <a:prstGeom prst="rect">
            <a:avLst/>
          </a:prstGeom>
          <a:solidFill>
            <a:srgbClr val="ffe3e3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5DE-EA1A-45AC-9E84-B3106454C0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10:09Z</dcterms:created>
  <dc:creator>Administrator</dc:creator>
  <dc:description/>
  <dc:language>en-US</dc:language>
  <cp:lastModifiedBy/>
  <dcterms:modified xsi:type="dcterms:W3CDTF">2015-07-04T06:44:4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