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AE5-0315-49D1-9B73-0FA5740A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D7C-BAB0-4AF0-878B-7F30D6B0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EF3-EFC2-49D6-BAA1-EE2E81FB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43E-A058-4327-9847-BFF7E31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871-C7AE-4703-8405-E7377F9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13B-8E67-4178-AEAA-454F2EC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6DE-EFCF-497A-9924-EC68941D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E838-2755-4ADF-AA48-BB783AD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98A-DB05-46E2-AC80-7299090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446-D7C5-47F5-BBFA-D566BEC2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CDD0-81D1-4CD3-B613-B40302B1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2AE-9681-4D09-A24A-8784BAE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FBB-93AA-4D60-A9D1-EFD5EA1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B37A-D9FB-41F1-BB15-5FB1340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AEB0-1A53-4BE7-9BB0-EA177D53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D088-6E42-4560-89DA-19303AEE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848D-D7A8-4586-A953-E4040E24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A65-E9EB-4EA8-B0BB-AF9FAE19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E07-4F6B-405B-AF50-FDD259F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CF1-44A6-4BD4-94ED-A5A4C2A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131-AF65-4D7A-B0C8-FEC1F616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7EF-3A13-41F8-8E4A-566B103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4B3-65FA-425B-BF6D-2BFEB66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F34-17A0-4CB9-AFA5-3170E0B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5e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FB5-BAAF-4391-8C3D-858EC55D8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4D4-AE41-4B21-8F6E-AC60AFA9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2437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演讲报告</a:t>
            </a:r>
            <a:r>
              <a:rPr b="0" lang="zh-CN" sz="3600" spc="-1" strike="noStrike">
                <a:solidFill>
                  <a:srgbClr val="d8c5b8"/>
                </a:solidFill>
                <a:latin typeface="Times New Roman"/>
                <a:ea typeface="宋体"/>
              </a:rPr>
              <a:t>PPT</a:t>
            </a:r>
            <a:r>
              <a:rPr b="0" lang="en-US" sz="3600" spc="-1" strike="noStrike">
                <a:solidFill>
                  <a:srgbClr val="d8c5b8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d8c5b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0720" y="31240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28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2505e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42505e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BB7-D24B-452F-9C8D-B74D757F7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0:13:18Z</dcterms:created>
  <dc:creator/>
  <dc:description/>
  <dc:language>en-US</dc:language>
  <cp:lastModifiedBy>eclipse</cp:lastModifiedBy>
  <dcterms:modified xsi:type="dcterms:W3CDTF">2015-07-04T07:05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