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6A4-3A81-4326-9B91-C3BB4D4C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4BC-528D-41A6-A2E4-8430BD8D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CFD-2EA0-45D9-9403-632C47CA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208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452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964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208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452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BAA-D538-4442-A0F8-0FB9BEE1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3B24-DBAE-4882-B0F3-28068CCC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72B9-6E82-4B52-8C01-EE0F09C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E740-7618-4DC5-B64A-3B7E93EB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BB88-B506-4BB7-839C-194EC261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05B-F11C-4FE5-8DD2-894D6A79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843280" y="259920"/>
            <a:ext cx="5618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D7B-4678-4651-8F6C-E2FD29D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612D-9994-437C-81F5-07F65AEC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F4F-F849-4206-A9BE-598806C0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DE51-2F3A-4A15-873D-2766848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B7A7-DF25-417F-939F-9EAE0F5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B2FB-4534-40CE-A945-C9C82A1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0C4A-4F68-47D8-BC45-80A87587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2208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452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964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2208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452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6B3B-7EE2-43D5-A5B0-3866ABD4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070-18DD-4D32-AB98-3E21DB4D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722-2884-4CED-ACDA-2AFF970F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5A2-10CC-4367-9FB1-32846A53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843280" y="259920"/>
            <a:ext cx="5618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D09-35C3-4EA0-9B93-AB1C5278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DE1-3833-41C7-965A-07F5CF8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341-C174-4B07-AF8A-AA795F0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FFA-2873-4160-85A6-C905005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0" y="620640"/>
            <a:ext cx="8713800" cy="583272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0000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667280" y="6093000"/>
            <a:ext cx="1081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fld id="{8B72810D-AE7D-443E-89B6-5B9F9358A968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71640" y="189000"/>
            <a:ext cx="57628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11111"/>
              </a:gs>
              <a:gs pos="100000">
                <a:srgbClr val="333333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413000"/>
            <a:ext cx="8353440" cy="439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32720" y="5661000"/>
            <a:ext cx="1493640" cy="1028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68360" y="1413000"/>
            <a:ext cx="8351640" cy="43210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89000"/>
            <a:ext cx="8496000" cy="655308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EC6E-D815-4A84-B2E2-34C52CE3E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4285"/>
          <a:stretch/>
        </p:blipFill>
        <p:spPr>
          <a:xfrm>
            <a:off x="5940360" y="5000760"/>
            <a:ext cx="2808360" cy="166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3360" y="476280"/>
            <a:ext cx="215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765000"/>
            <a:ext cx="21564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476280"/>
            <a:ext cx="21600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研究生毕业答辩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34920" y="3502080"/>
            <a:ext cx="4392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BB6-EA33-4F3F-9B8C-D8FC32C6B5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030-6887-4E0F-A8A6-32C669257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51:22Z</dcterms:created>
  <dc:creator/>
  <dc:description/>
  <dc:language>en-US</dc:language>
  <cp:lastModifiedBy/>
  <dcterms:modified xsi:type="dcterms:W3CDTF">2015-07-04T07:06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