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DDC-D39C-44F2-B0B0-88354E0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118-0563-4AFA-8941-E1AAA882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A6E-0D20-444B-8E11-01E5486D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595-01B7-43F4-99A2-FE261381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F8F-7C11-4B89-BFC2-96F62D0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706-3651-4767-9853-91B4805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FF7-824C-4E10-9F03-4700421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3BD-63C1-4B56-9D6E-FDC35B6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8DF-6113-4FA1-9748-052221E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75C-2BFE-4908-914C-BE500B8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158-4B08-4A1A-9D2F-18BCF5CB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D90-19E6-4D7E-9BB5-14C02E9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6D5C-3EE8-49B9-AABD-A0976784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愿景系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335772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2332080"/>
            <a:ext cx="82296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E77-3A17-49C2-90E7-AA2252885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37:41Z</dcterms:created>
  <dc:creator/>
  <dc:description/>
  <dc:language>en-US</dc:language>
  <cp:lastModifiedBy>alex</cp:lastModifiedBy>
  <dcterms:modified xsi:type="dcterms:W3CDTF">2015-07-04T06:33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