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yilia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华文细黑"/>
              </a:rPr>
              <a:t>医疗理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华文细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华文细黑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052720" y="3889080"/>
            <a:ext cx="57196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细黑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华文细黑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杜甫是大家分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20880" y="4152960"/>
            <a:ext cx="566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医疗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yil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华文细黑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7-04T06:57:55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