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1E0-B4CD-432D-8450-8B57A2D2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804-04E0-4F29-8E99-7F96DB06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2D2-7534-4FD3-92B4-44F27EF7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5DD-DC6B-42C5-8391-0E20CBA0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A20-6A79-42FE-ADFC-7FF722F2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41C-1176-49E1-A1EE-B404434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70A-A560-483E-B74C-0EF1A1F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721-B141-4338-9B35-1335059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F95-0FA5-4282-8DD8-9603751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D8C-1F93-4C7E-8E8C-1ED8FD9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6E7-6B2C-46B5-89A4-9F173D81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894-CE4F-492B-A0AE-8F63C56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5B13-7646-4DA2-BF05-32BE39356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饮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水果饮料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5120" cy="41274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600" cy="27050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3D1-D844-492B-A7B8-38D59FD3C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360" cy="1873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4785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856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7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520" cy="493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8040" cy="173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5640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1211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6926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720" cy="1989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8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9160" cy="198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960" cy="2004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997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3160" cy="3720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6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880" cy="2006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069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355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9040" cy="2641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3120" cy="2432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5040" cy="24890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211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392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1"/>
          <p:cNvSpPr/>
          <p:nvPr/>
        </p:nvSpPr>
        <p:spPr>
          <a:xfrm>
            <a:off x="5212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140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7140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5"/>
          <p:cNvSpPr/>
          <p:nvPr/>
        </p:nvSpPr>
        <p:spPr>
          <a:xfrm>
            <a:off x="5426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680" cy="5969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80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dc:language>en-US</dc:language>
  <cp:lastModifiedBy/>
  <dcterms:modified xsi:type="dcterms:W3CDTF">2015-07-03T15:48:00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