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0DAE-F701-4F08-92C7-A6EFECC6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A101-D80D-4DF9-ADCA-573A3790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00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7269-9EC8-4709-BDFE-D777A9E3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20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59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53AC-D881-4CAA-9097-B005E16AA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0FB0-2CD1-486F-86F2-A0D3CB40F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3422-DF31-4227-B6A2-E5EB4C6E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9DB2-947D-4942-B91C-C14379D4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6532-20FC-485A-8214-C553D115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C44B-100B-4DCC-8AF4-D48F9443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274680"/>
            <a:ext cx="73152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5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55D1-04D7-44CD-A8EF-A4D60399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9CEB-1CFE-4D2E-9191-C4CAC8D1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26B8-BA9C-4277-8498-F203566D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600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B7E3-1065-4A95-B340-939B6B11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8D8D-0B1A-42C7-A3DF-D5625CDA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ABC4-BF20-4BB8-8098-5F782EE1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600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9547-8A84-43A8-BE8A-6157EE7A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920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459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5501-6A9F-4721-94A1-98140A88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0B57-6F59-4688-8F54-6092DA5D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846B-D71E-4D01-BA9F-C25030EB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F229-7163-4209-92E5-73B754BA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274680"/>
            <a:ext cx="73152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5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62E3-1557-4D5D-BB35-19C34C54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8B13-5DB7-4CE6-9EB5-D48853DB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00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B931-0F46-4FC7-86B2-6239F9F6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231A-E1CA-4DC7-A836-122E8B88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Franklin Gothic Demi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2D3B-9BA7-4E68-BFB5-520B2EC951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24280" y="2130120"/>
            <a:ext cx="37339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Franklin Gothic Demi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76A1-7677-49CE-A3A3-13B35E1B5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5c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724280" y="2130120"/>
            <a:ext cx="37339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80808"/>
                </a:solidFill>
                <a:latin typeface="Franklin Gothic Demi"/>
                <a:ea typeface="宋体"/>
              </a:rPr>
              <a:t>艺术抽象类</a:t>
            </a:r>
            <a:r>
              <a:rPr b="0" lang="zh-CN" sz="4400" spc="-1" strike="noStrike">
                <a:solidFill>
                  <a:srgbClr val="080808"/>
                </a:solidFill>
                <a:latin typeface="Franklin Gothic Demi"/>
                <a:ea typeface="宋体"/>
              </a:rPr>
              <a:t>PPT</a:t>
            </a:r>
            <a:r>
              <a:rPr b="0" lang="zh-CN" sz="4400" spc="-1" strike="noStrike">
                <a:solidFill>
                  <a:srgbClr val="080808"/>
                </a:solidFill>
                <a:latin typeface="Franklin Gothic Demi"/>
                <a:ea typeface="宋体"/>
              </a:rPr>
              <a:t>模板</a:t>
            </a: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724280" y="480024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5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Franklin Gothic Demi"/>
                <a:ea typeface="宋体"/>
              </a:rPr>
              <a:t>Your Topic Goes Here</a:t>
            </a: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Your Subtopics Go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Franklin Gothic Demi"/>
                <a:ea typeface="宋体"/>
              </a:rPr>
              <a:t>Your Topic Goes Here</a:t>
            </a: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59092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80808"/>
                </a:solidFill>
                <a:latin typeface="Franklin Gothic Demi"/>
                <a:ea typeface="宋体"/>
              </a:rPr>
              <a:t>请输入文字</a:t>
            </a: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80808"/>
                </a:solidFill>
                <a:latin typeface="Franklin Gothic Demi"/>
              </a:rPr>
              <a:t>使用规范说明</a:t>
            </a: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AF11-70EB-40FB-A42F-717FDB7471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7T22:37:20Z</dcterms:created>
  <dc:creator/>
  <dc:description/>
  <dc:language>en-US</dc:language>
  <cp:lastModifiedBy>a</cp:lastModifiedBy>
  <dcterms:modified xsi:type="dcterms:W3CDTF">2015-07-04T06:54:05Z</dcterms:modified>
  <cp:revision>3</cp:revision>
  <dc:subject/>
  <dc:title>请输入文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