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282-42BA-4A61-B8F1-3FA8F1B4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4D8-790F-4979-BE35-BE614CCF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A34-A141-455A-AFA1-C7F8F204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769-9909-4735-8430-DB383B60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3B1-3498-4757-A88F-1212D802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6CE-E741-4E3B-9E9E-E3B9339B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9AF5-01A1-4F93-9EAB-A65B7BBA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5175-0403-4C81-B36C-3A4C4F77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BFC-7DAF-4482-A044-4F6ECAF6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55C-646E-4720-AF0D-3535DA21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CF57-E9F0-4D14-A78D-7D6F9F1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2A8-83AB-4D76-A3BC-9D1F101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3AEF-5762-4C46-814D-7D048325EBE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13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字方塊 4"/>
          <p:cNvSpPr/>
          <p:nvPr/>
        </p:nvSpPr>
        <p:spPr>
          <a:xfrm>
            <a:off x="428760" y="2357280"/>
            <a:ext cx="72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Happy Teacher’s Da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字方塊 6"/>
          <p:cNvSpPr/>
          <p:nvPr/>
        </p:nvSpPr>
        <p:spPr>
          <a:xfrm>
            <a:off x="428760" y="357192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Thank you 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字方塊 7"/>
          <p:cNvSpPr/>
          <p:nvPr/>
        </p:nvSpPr>
        <p:spPr>
          <a:xfrm>
            <a:off x="500040" y="4714920"/>
            <a:ext cx="62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I love yo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圖片 8" descr="j0446310.wmf"/>
          <p:cNvPicPr/>
          <p:nvPr/>
        </p:nvPicPr>
        <p:blipFill>
          <a:blip r:embed="rId1"/>
          <a:stretch/>
        </p:blipFill>
        <p:spPr>
          <a:xfrm>
            <a:off x="5784840" y="3645000"/>
            <a:ext cx="235260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Teacher’s Day </a:t>
            </a:r>
            <a:r>
              <a:rPr b="1" lang="zh-TW" sz="6000" spc="-1" strike="noStrike">
                <a:solidFill>
                  <a:srgbClr val="002060"/>
                </a:solidFill>
                <a:latin typeface="Comic Sans MS"/>
                <a:ea typeface="文鼎中圓"/>
              </a:rPr>
              <a:t>教師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文字方塊 4"/>
          <p:cNvSpPr/>
          <p:nvPr/>
        </p:nvSpPr>
        <p:spPr>
          <a:xfrm>
            <a:off x="826920" y="206064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Comic Sans MS"/>
                <a:ea typeface="文鼎中楷"/>
              </a:rPr>
              <a:t>September 2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5"/>
          <p:cNvSpPr/>
          <p:nvPr/>
        </p:nvSpPr>
        <p:spPr>
          <a:xfrm>
            <a:off x="1285920" y="328608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文鼎中楷"/>
              </a:rPr>
              <a:t>九月二十八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字方塊 6"/>
          <p:cNvSpPr/>
          <p:nvPr/>
        </p:nvSpPr>
        <p:spPr>
          <a:xfrm>
            <a:off x="755640" y="4724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Comic Sans MS"/>
                <a:ea typeface="文鼎中楷"/>
              </a:rPr>
              <a:t>Happy  Teacher’s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圖片 7" descr="AG00399_.gif"/>
          <p:cNvPicPr/>
          <p:nvPr/>
        </p:nvPicPr>
        <p:blipFill>
          <a:blip r:embed="rId1"/>
          <a:stretch/>
        </p:blipFill>
        <p:spPr>
          <a:xfrm>
            <a:off x="7667640" y="5732640"/>
            <a:ext cx="1114560" cy="876240"/>
          </a:xfrm>
          <a:prstGeom prst="rect">
            <a:avLst/>
          </a:prstGeom>
          <a:ln w="0">
            <a:noFill/>
          </a:ln>
        </p:spPr>
      </p:pic>
      <p:pic>
        <p:nvPicPr>
          <p:cNvPr id="51" name="圖片 8" descr="j0446314.wmf"/>
          <p:cNvPicPr/>
          <p:nvPr/>
        </p:nvPicPr>
        <p:blipFill>
          <a:blip r:embed="rId2"/>
          <a:stretch/>
        </p:blipFill>
        <p:spPr>
          <a:xfrm>
            <a:off x="6804000" y="1341360"/>
            <a:ext cx="180036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zh-TW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F2BB-AF2E-4EFD-A8EC-0FC4CCD7BC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07:00Z</dcterms:created>
  <dc:creator/>
  <dc:description/>
  <dc:language>en-US</dc:language>
  <cp:lastModifiedBy/>
  <dcterms:modified xsi:type="dcterms:W3CDTF">2015-07-03T23:18:15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