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3139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语文课件幻灯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41080" y="4076280"/>
            <a:ext cx="543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3746520"/>
            <a:ext cx="6912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116000" y="1616040"/>
            <a:ext cx="6912000" cy="1092240"/>
            <a:chOff x="1116000" y="1616040"/>
            <a:chExt cx="6912000" cy="1092240"/>
          </a:xfrm>
        </p:grpSpPr>
        <p:sp>
          <p:nvSpPr>
            <p:cNvPr id="82" name=""/>
            <p:cNvSpPr/>
            <p:nvPr/>
          </p:nvSpPr>
          <p:spPr>
            <a:xfrm>
              <a:off x="1116000" y="170172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3280" y="161604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527120" y="174780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0000" y="170172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00" y="242100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03280" y="212400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16000" y="2681280"/>
            <a:ext cx="6912000" cy="1092240"/>
            <a:chOff x="1116000" y="2681280"/>
            <a:chExt cx="6912000" cy="1092240"/>
          </a:xfrm>
        </p:grpSpPr>
        <p:sp>
          <p:nvSpPr>
            <p:cNvPr id="89" name=""/>
            <p:cNvSpPr/>
            <p:nvPr/>
          </p:nvSpPr>
          <p:spPr>
            <a:xfrm>
              <a:off x="1116000" y="276696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268128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527120" y="28130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0000" y="276696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6000" y="348624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3280" y="318924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16000" y="3719520"/>
            <a:ext cx="6912000" cy="1092240"/>
            <a:chOff x="1116000" y="3719520"/>
            <a:chExt cx="6912000" cy="1092240"/>
          </a:xfrm>
        </p:grpSpPr>
        <p:sp>
          <p:nvSpPr>
            <p:cNvPr id="96" name=""/>
            <p:cNvSpPr/>
            <p:nvPr/>
          </p:nvSpPr>
          <p:spPr>
            <a:xfrm>
              <a:off x="1116000" y="380520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3280" y="371952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1527120" y="385128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0000" y="380520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16000" y="452448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03280" y="422748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16000" y="4784760"/>
            <a:ext cx="6912000" cy="1092240"/>
            <a:chOff x="1116000" y="4784760"/>
            <a:chExt cx="6912000" cy="1092240"/>
          </a:xfrm>
        </p:grpSpPr>
        <p:sp>
          <p:nvSpPr>
            <p:cNvPr id="103" name=""/>
            <p:cNvSpPr/>
            <p:nvPr/>
          </p:nvSpPr>
          <p:spPr>
            <a:xfrm>
              <a:off x="1116000" y="4870440"/>
              <a:ext cx="6912000" cy="7192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784760"/>
              <a:ext cx="2376720" cy="517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527120" y="491652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0000" y="4870440"/>
              <a:ext cx="42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6000" y="5589720"/>
              <a:ext cx="6912000" cy="287280"/>
            </a:xfrm>
            <a:custGeom>
              <a:avLst/>
              <a:gdLst>
                <a:gd name="textAreaLeft" fmla="*/ 750600 w 6912000"/>
                <a:gd name="textAreaRight" fmla="*/ 6161400 w 691200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03280" y="529272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70000" y="1490760"/>
            <a:ext cx="625968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63520" y="153360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70000" y="2604960"/>
            <a:ext cx="625968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63520" y="2647800"/>
            <a:ext cx="559296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70000" y="3699000"/>
            <a:ext cx="625968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63520" y="374184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0000" y="4792680"/>
            <a:ext cx="6259680" cy="66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63520" y="483552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915240" y="1424160"/>
            <a:ext cx="825120" cy="802800"/>
            <a:chOff x="6915240" y="1424160"/>
            <a:chExt cx="825120" cy="802800"/>
          </a:xfrm>
        </p:grpSpPr>
        <p:grpSp>
          <p:nvGrpSpPr>
            <p:cNvPr id="119" name=""/>
            <p:cNvGrpSpPr/>
            <p:nvPr/>
          </p:nvGrpSpPr>
          <p:grpSpPr>
            <a:xfrm>
              <a:off x="6915240" y="1424160"/>
              <a:ext cx="825120" cy="802800"/>
              <a:chOff x="6915240" y="1424160"/>
              <a:chExt cx="825120" cy="80280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6915240" y="1424160"/>
                <a:ext cx="825120" cy="802800"/>
                <a:chOff x="6915240" y="1424160"/>
                <a:chExt cx="825120" cy="8028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15240" y="142416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6915240" y="1424160"/>
                  <a:ext cx="819720" cy="80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143172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 txBox="1"/>
            <p:nvPr/>
          </p:nvSpPr>
          <p:spPr>
            <a:xfrm>
              <a:off x="7196760" y="164016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915240" y="2538360"/>
            <a:ext cx="825480" cy="803160"/>
            <a:chOff x="6915240" y="2538360"/>
            <a:chExt cx="825480" cy="803160"/>
          </a:xfrm>
        </p:grpSpPr>
        <p:grpSp>
          <p:nvGrpSpPr>
            <p:cNvPr id="126" name=""/>
            <p:cNvGrpSpPr/>
            <p:nvPr/>
          </p:nvGrpSpPr>
          <p:grpSpPr>
            <a:xfrm>
              <a:off x="6915240" y="2538360"/>
              <a:ext cx="825480" cy="803160"/>
              <a:chOff x="6915240" y="2538360"/>
              <a:chExt cx="825480" cy="8031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915240" y="2538360"/>
                <a:ext cx="825480" cy="803160"/>
                <a:chOff x="6915240" y="2538360"/>
                <a:chExt cx="825480" cy="803160"/>
              </a:xfrm>
            </p:grpSpPr>
            <p:pic>
              <p:nvPicPr>
                <p:cNvPr id="12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15240" y="2538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6915240" y="25383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7680" y="2545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"/>
            <p:cNvSpPr txBox="1"/>
            <p:nvPr/>
          </p:nvSpPr>
          <p:spPr>
            <a:xfrm>
              <a:off x="7223040" y="2754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915240" y="3630600"/>
            <a:ext cx="825480" cy="803160"/>
            <a:chOff x="6915240" y="3630600"/>
            <a:chExt cx="825480" cy="803160"/>
          </a:xfrm>
        </p:grpSpPr>
        <p:grpSp>
          <p:nvGrpSpPr>
            <p:cNvPr id="133" name=""/>
            <p:cNvGrpSpPr/>
            <p:nvPr/>
          </p:nvGrpSpPr>
          <p:grpSpPr>
            <a:xfrm>
              <a:off x="6915240" y="3630600"/>
              <a:ext cx="825480" cy="803160"/>
              <a:chOff x="6915240" y="3630600"/>
              <a:chExt cx="825480" cy="8031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915240" y="3630600"/>
                <a:ext cx="825480" cy="803160"/>
                <a:chOff x="6915240" y="3630600"/>
                <a:chExt cx="825480" cy="803160"/>
              </a:xfrm>
            </p:grpSpPr>
            <p:pic>
              <p:nvPicPr>
                <p:cNvPr id="1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5240" y="363060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6915240" y="363060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97680" y="363816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"/>
            <p:cNvSpPr txBox="1"/>
            <p:nvPr/>
          </p:nvSpPr>
          <p:spPr>
            <a:xfrm>
              <a:off x="7223040" y="384660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915240" y="4713120"/>
            <a:ext cx="825480" cy="803160"/>
            <a:chOff x="6915240" y="4713120"/>
            <a:chExt cx="825480" cy="803160"/>
          </a:xfrm>
        </p:grpSpPr>
        <p:grpSp>
          <p:nvGrpSpPr>
            <p:cNvPr id="140" name=""/>
            <p:cNvGrpSpPr/>
            <p:nvPr/>
          </p:nvGrpSpPr>
          <p:grpSpPr>
            <a:xfrm>
              <a:off x="6915240" y="4713120"/>
              <a:ext cx="825480" cy="803160"/>
              <a:chOff x="6915240" y="4713120"/>
              <a:chExt cx="825480" cy="80316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915240" y="4713120"/>
                <a:ext cx="825480" cy="803160"/>
                <a:chOff x="6915240" y="4713120"/>
                <a:chExt cx="825480" cy="803160"/>
              </a:xfrm>
            </p:grpSpPr>
            <p:pic>
              <p:nvPicPr>
                <p:cNvPr id="14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915240" y="47131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>
                  <a:off x="6915240" y="47131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97680" y="47206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 txBox="1"/>
            <p:nvPr/>
          </p:nvSpPr>
          <p:spPr>
            <a:xfrm>
              <a:off x="7185240" y="492912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14560" y="60930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0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26920" y="1555920"/>
            <a:ext cx="2305080" cy="936000"/>
            <a:chOff x="826920" y="1555920"/>
            <a:chExt cx="2305080" cy="936000"/>
          </a:xfrm>
        </p:grpSpPr>
        <p:sp>
          <p:nvSpPr>
            <p:cNvPr id="149" name=""/>
            <p:cNvSpPr/>
            <p:nvPr/>
          </p:nvSpPr>
          <p:spPr>
            <a:xfrm>
              <a:off x="826920" y="169992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833040" y="1555920"/>
              <a:ext cx="2298600" cy="14400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040 h 144000"/>
                <a:gd name="textAreaBottom" fmla="*/ 12996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19640" y="1555920"/>
            <a:ext cx="2304720" cy="936000"/>
            <a:chOff x="3419640" y="1555920"/>
            <a:chExt cx="2304720" cy="936000"/>
          </a:xfrm>
        </p:grpSpPr>
        <p:sp>
          <p:nvSpPr>
            <p:cNvPr id="152" name=""/>
            <p:cNvSpPr/>
            <p:nvPr/>
          </p:nvSpPr>
          <p:spPr>
            <a:xfrm>
              <a:off x="3419640" y="1699920"/>
              <a:ext cx="2304720" cy="792000"/>
            </a:xfrm>
            <a:prstGeom prst="downArrowCallout">
              <a:avLst>
                <a:gd name="adj1" fmla="val 72703"/>
                <a:gd name="adj2" fmla="val 36348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3422520" y="1555920"/>
              <a:ext cx="2298240" cy="144000"/>
            </a:xfrm>
            <a:custGeom>
              <a:avLst/>
              <a:gdLst>
                <a:gd name="textAreaLeft" fmla="*/ 228600 w 2298240"/>
                <a:gd name="textAreaRight" fmla="*/ 2069640 w 2298240"/>
                <a:gd name="textAreaTop" fmla="*/ 14040 h 144000"/>
                <a:gd name="textAreaBottom" fmla="*/ 12996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11640" y="1555920"/>
            <a:ext cx="2305440" cy="936000"/>
            <a:chOff x="6011640" y="1555920"/>
            <a:chExt cx="2305440" cy="936000"/>
          </a:xfrm>
        </p:grpSpPr>
        <p:sp>
          <p:nvSpPr>
            <p:cNvPr id="155" name=""/>
            <p:cNvSpPr/>
            <p:nvPr/>
          </p:nvSpPr>
          <p:spPr>
            <a:xfrm>
              <a:off x="6012000" y="169992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60"/>
                <a:gd name="adj4" fmla="val 8594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6011640" y="1555920"/>
              <a:ext cx="2298600" cy="144000"/>
            </a:xfrm>
            <a:custGeom>
              <a:avLst/>
              <a:gdLst>
                <a:gd name="textAreaLeft" fmla="*/ 228600 w 2298600"/>
                <a:gd name="textAreaRight" fmla="*/ 2070000 w 2298600"/>
                <a:gd name="textAreaTop" fmla="*/ 14040 h 144000"/>
                <a:gd name="textAreaBottom" fmla="*/ 12996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79" y="21600"/>
                  </a:lnTo>
                  <a:lnTo>
                    <a:pt x="72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26560" y="2421000"/>
            <a:ext cx="2305080" cy="2879280"/>
            <a:chOff x="826560" y="2421000"/>
            <a:chExt cx="2305080" cy="2879280"/>
          </a:xfrm>
        </p:grpSpPr>
        <p:sp>
          <p:nvSpPr>
            <p:cNvPr id="158" name=""/>
            <p:cNvSpPr/>
            <p:nvPr/>
          </p:nvSpPr>
          <p:spPr>
            <a:xfrm rot="10800000">
              <a:off x="826560" y="2707920"/>
              <a:ext cx="230508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826560" y="2421000"/>
              <a:ext cx="2305080" cy="287280"/>
            </a:xfrm>
            <a:custGeom>
              <a:avLst/>
              <a:gdLst>
                <a:gd name="textAreaLeft" fmla="*/ 250200 w 2305080"/>
                <a:gd name="textAreaRight" fmla="*/ 2054880 w 230508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996840" y="1924200"/>
            <a:ext cx="1943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2708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19640" y="2421000"/>
            <a:ext cx="2304720" cy="2879280"/>
            <a:chOff x="3419640" y="2421000"/>
            <a:chExt cx="2304720" cy="2879280"/>
          </a:xfrm>
        </p:grpSpPr>
        <p:sp>
          <p:nvSpPr>
            <p:cNvPr id="163" name=""/>
            <p:cNvSpPr/>
            <p:nvPr/>
          </p:nvSpPr>
          <p:spPr>
            <a:xfrm rot="10800000">
              <a:off x="3419640" y="2707920"/>
              <a:ext cx="230472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3419640" y="2421000"/>
              <a:ext cx="2304720" cy="287280"/>
            </a:xfrm>
            <a:custGeom>
              <a:avLst/>
              <a:gdLst>
                <a:gd name="textAreaLeft" fmla="*/ 250200 w 2304720"/>
                <a:gd name="textAreaRight" fmla="*/ 2054520 w 2304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3589200" y="1924200"/>
            <a:ext cx="1943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708280"/>
            <a:ext cx="230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1640" y="2421000"/>
            <a:ext cx="2305080" cy="2879280"/>
            <a:chOff x="6011640" y="2421000"/>
            <a:chExt cx="2305080" cy="2879280"/>
          </a:xfrm>
        </p:grpSpPr>
        <p:sp>
          <p:nvSpPr>
            <p:cNvPr id="168" name=""/>
            <p:cNvSpPr/>
            <p:nvPr/>
          </p:nvSpPr>
          <p:spPr>
            <a:xfrm rot="10800000">
              <a:off x="6011640" y="2707920"/>
              <a:ext cx="2305080" cy="25923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6011640" y="2421000"/>
              <a:ext cx="2305080" cy="287280"/>
            </a:xfrm>
            <a:custGeom>
              <a:avLst/>
              <a:gdLst>
                <a:gd name="textAreaLeft" fmla="*/ 250200 w 2305080"/>
                <a:gd name="textAreaRight" fmla="*/ 2054880 w 230508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6181560" y="1924200"/>
            <a:ext cx="194328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708280"/>
            <a:ext cx="23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55440" y="2362320"/>
            <a:ext cx="7235640" cy="2368080"/>
            <a:chOff x="955440" y="2362320"/>
            <a:chExt cx="7235640" cy="2368080"/>
          </a:xfrm>
        </p:grpSpPr>
        <p:sp>
          <p:nvSpPr>
            <p:cNvPr id="174" name=""/>
            <p:cNvSpPr/>
            <p:nvPr/>
          </p:nvSpPr>
          <p:spPr>
            <a:xfrm rot="10800000">
              <a:off x="955440" y="2361960"/>
              <a:ext cx="7235640" cy="118440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955440" y="3546000"/>
              <a:ext cx="7235640" cy="118404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00000">
            <a:off x="3706560" y="2681280"/>
            <a:ext cx="1730520" cy="1730160"/>
          </a:xfrm>
          <a:prstGeom prst="roundRect">
            <a:avLst>
              <a:gd name="adj" fmla="val 4199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54520" y="3425760"/>
            <a:ext cx="144144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/>
          <p:nvPr/>
        </p:nvSpPr>
        <p:spPr>
          <a:xfrm>
            <a:off x="974880" y="2394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3500000">
            <a:off x="3110400" y="412632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700000">
            <a:off x="4469760" y="277740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rot="18900000">
            <a:off x="3113280" y="277740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rot="8100000">
            <a:off x="4462200" y="4126320"/>
            <a:ext cx="1558800" cy="185760"/>
          </a:xfrm>
          <a:custGeom>
            <a:avLst/>
            <a:gdLst>
              <a:gd name="textAreaLeft" fmla="*/ 126000 w 1558800"/>
              <a:gd name="textAreaRight" fmla="*/ 1432800 w 1558800"/>
              <a:gd name="textAreaTop" fmla="*/ 14760 h 185760"/>
              <a:gd name="textAreaBottom" fmla="*/ 171000 h 1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5960" y="2394000"/>
            <a:ext cx="287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4880" y="3546360"/>
            <a:ext cx="266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5960" y="3546360"/>
            <a:ext cx="2879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0480" y="623736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9840" y="2119320"/>
            <a:ext cx="4861080" cy="340848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7560" y="1542960"/>
            <a:ext cx="5168880" cy="639720"/>
          </a:xfrm>
          <a:prstGeom prst="roundRect">
            <a:avLst>
              <a:gd name="adj" fmla="val 7940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720" y="5530680"/>
            <a:ext cx="4825800" cy="130320"/>
          </a:xfrm>
          <a:custGeom>
            <a:avLst/>
            <a:gdLst>
              <a:gd name="textAreaLeft" fmla="*/ 472680 w 4825800"/>
              <a:gd name="textAreaRight" fmla="*/ 4353120 w 4825800"/>
              <a:gd name="textAreaTop" fmla="*/ 12600 h 130320"/>
              <a:gd name="textAreaBottom" fmla="*/ 117720 h 13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41" y="21600"/>
                </a:lnTo>
                <a:lnTo>
                  <a:pt x="659" y="216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17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7-04T06:36:59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