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147-8C5C-4DDE-AC88-45F8CB1D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951-CAB0-4BDE-BE90-A40E4BE5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4BB-7AC8-40F4-AAC7-3537A05C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51D-CB9E-4802-926F-290678F8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A57-4835-45AD-B799-67CF9547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0AA-F39D-4C0E-B50A-6130F32F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3A7-6057-4690-B726-958571B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222-8F4A-44FE-87F7-24A1E3AF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429-2632-4CAC-9071-A410459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C09-443D-4A79-A003-01D9FA2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E2C-C28E-4F90-9A29-D81A233E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CC5-8DF2-4774-AA10-E81062CD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2211-4E9F-4079-B3D4-DEF3CBB3383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5788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英语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BC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0944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ABA-9EE0-4F4D-9D88-44E291F5C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7:31:27Z</dcterms:created>
  <dc:creator/>
  <dc:description/>
  <dc:language>en-US</dc:language>
  <cp:lastModifiedBy>Admin</cp:lastModifiedBy>
  <dcterms:modified xsi:type="dcterms:W3CDTF">2015-07-04T06:46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