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38E-547A-4BD8-AA96-EFB514A1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45D-C6E7-4EC9-8F04-52600405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E92-1B0F-4F9A-AEDB-B6376D42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27E-7208-4820-9E05-80EBA4EE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59FC-DC8A-4998-B8D4-1BE0A055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F4FD-4493-442A-A3A6-8B9C7F5D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5E68-483D-49A8-8985-1C9CCC77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1777-37C1-43C3-97C6-923C5FDB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C813-2581-498D-8D4D-FC75C6C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D071-2139-4975-BF40-EA7B334E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8A65-7646-4447-A13E-C2D38637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AC2-4BDB-4E52-8F0E-C271F827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617C-6779-4269-9342-4ADFFB95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9E38-6487-45C2-AA47-9007733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7497-E960-4772-98CB-8005B2E0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1EE8-5798-4CD8-B57B-20214272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331E-B0E6-484E-A6F7-BF1BC952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D77A-0463-4C5B-AE85-3433D074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E093-B988-47E4-9041-406EE014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5A23-CCF1-4F34-B275-A0E3384F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12CD-0FE7-4E75-A517-D5C622FD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3414C-AF93-4E2C-9B55-5FB97AEA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B12-154D-492B-A069-1BABE25A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0F7A-AC88-4BC7-A997-6D786FA8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FD5D-9B00-4B59-A2C6-48CAA22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61F15-0207-4AF8-A6B0-623AB418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DFE2-F6A1-4B61-9BBB-57688531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9802-D7D6-4330-83B9-4F21380A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AD54B-EFAD-4DBF-A9B8-1D126ADD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334D-270B-4E5C-9CAF-C9038610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7ED7F-B948-4FCB-9CC9-36A7A651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D5835-6025-4DF4-935F-82C1B012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09D5-7B36-4388-8EB7-7898F863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19F-ACD7-4377-B48F-F882C95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42D1C-7E5D-4A52-8460-5548920F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F600-C769-4454-8EDB-68F14841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328E-2082-4C5E-A54F-EDF99259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492D-4A43-4E94-8BD3-AC8A0B6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B42D4-6624-4CE7-8443-13C44D7B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967F4-68F4-4780-817F-C47C4C59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B2D3B-E862-4D4C-8659-ECCBD2A4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F6B7B-A0FD-452E-9077-0747112A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BB31C-13DD-4711-AF38-D8A46C2B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2D5-27C4-44B2-919E-4C853A7D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CC2-CED6-44C2-91E3-323BC52D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E47-101C-4B5C-86A1-7DABECDE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E5C-2D26-4FA4-A58E-79A92B9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7F9-3535-4391-B220-9FB04F9F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DC50-2DC0-44B1-AD01-6E2C7013B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685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A381-2117-4755-8E62-BCFB986D4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84872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68320" y="1219320"/>
            <a:ext cx="60195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7DF5-D56B-46BD-8215-320FF843D7D5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98D4-40C2-4142-BC4C-426BA4746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685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优雅蝴蝶保护大自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84872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8320" y="1219320"/>
            <a:ext cx="60195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在【格式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幻灯片设计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配色方案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编辑配色方案】下调整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修改在【视图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母版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幻灯片母版】下调整。直接选择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删除或修改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括标题和文本格式的设置在【视图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母版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幻灯片母版】下调整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首页主标题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36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中文黑体英文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Arial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加粗；副标题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16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中文黑体英文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Arial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加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内页标题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24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中文黑体英文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Arial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加粗；内页内容文字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华文细黑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8360" y="623880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438624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B2E-0B8E-448F-8FBF-20E81F1540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6:25:13Z</dcterms:created>
  <dc:creator/>
  <dc:description/>
  <dc:language>en-US</dc:language>
  <cp:lastModifiedBy>番茄花园</cp:lastModifiedBy>
  <dcterms:modified xsi:type="dcterms:W3CDTF">2015-07-04T06:42:23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