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1D48-9F93-4627-B18C-A561D4357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56700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BF0A-A224-4927-8921-C19AA5B6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34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29AD-721B-4048-8AC8-318A18C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744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34920" y="17604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744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34920" y="5670000"/>
            <a:ext cx="19688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7F03-FFA7-4033-B766-B0AB135F5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E55D-5BC9-4391-B3EE-9CF8BB67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8C95-0FFB-48E1-87AF-61B5962B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2459-C5F9-40CD-98B0-6F73826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040B-BC72-4B36-B5F2-4A65F32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3080" y="385920"/>
            <a:ext cx="545760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4E53-7704-46F9-B0A5-0D62028C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2E65-618C-4BAB-A14C-B1000A95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3400" y="56700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A5BA-3D31-46E9-9F22-25BD1320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3400" y="1760400"/>
            <a:ext cx="29840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5670000"/>
            <a:ext cx="611532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0B62-9983-4412-BEBF-232E148F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4348080" y="272880"/>
            <a:ext cx="239400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385920"/>
            <a:ext cx="54576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09520" y="9410400"/>
            <a:ext cx="9144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5886000" y="9553320"/>
            <a:ext cx="971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5D2-5D40-4EF9-8932-6B2430E0DF08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99600" y="1760400"/>
            <a:ext cx="6115320" cy="74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15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Line 33"/>
          <p:cNvSpPr/>
          <p:nvPr/>
        </p:nvSpPr>
        <p:spPr>
          <a:xfrm>
            <a:off x="838080" y="9632880"/>
            <a:ext cx="35100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直接连接符 4"/>
          <p:cNvSpPr/>
          <p:nvPr/>
        </p:nvSpPr>
        <p:spPr>
          <a:xfrm>
            <a:off x="0" y="1136520"/>
            <a:ext cx="6858000" cy="0"/>
          </a:xfrm>
          <a:prstGeom prst="line">
            <a:avLst/>
          </a:prstGeom>
          <a:ln w="38160">
            <a:solidFill>
              <a:srgbClr val="5753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1166760"/>
            <a:ext cx="6848640" cy="86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灯片编号占位符 3"/>
          <p:cNvSpPr/>
          <p:nvPr/>
        </p:nvSpPr>
        <p:spPr>
          <a:xfrm>
            <a:off x="5886360" y="9553680"/>
            <a:ext cx="971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7B5-D3FC-4B3F-980B-C8FE8ABF14D5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4200" y="1424160"/>
            <a:ext cx="2206800" cy="398880"/>
            <a:chOff x="214200" y="1424160"/>
            <a:chExt cx="2206800" cy="398880"/>
          </a:xfrm>
        </p:grpSpPr>
        <p:sp>
          <p:nvSpPr>
            <p:cNvPr id="46" name="圆角矩形 81"/>
            <p:cNvSpPr/>
            <p:nvPr/>
          </p:nvSpPr>
          <p:spPr>
            <a:xfrm>
              <a:off x="214200" y="143028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Box 83"/>
            <p:cNvSpPr/>
            <p:nvPr/>
          </p:nvSpPr>
          <p:spPr>
            <a:xfrm>
              <a:off x="240840" y="142416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同侧圆角矩形 84"/>
            <p:cNvSpPr/>
            <p:nvPr/>
          </p:nvSpPr>
          <p:spPr>
            <a:xfrm rot="16200000">
              <a:off x="171000" y="152388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4b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49480" y="1512000"/>
              <a:ext cx="219240" cy="255960"/>
              <a:chOff x="249480" y="1512000"/>
              <a:chExt cx="219240" cy="255960"/>
            </a:xfrm>
          </p:grpSpPr>
          <p:pic>
            <p:nvPicPr>
              <p:cNvPr id="50" name="L 形 8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9480" y="1512000"/>
                <a:ext cx="219240" cy="2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13500000">
                <a:off x="288360" y="158112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" name="Rectangle 3"/>
          <p:cNvSpPr/>
          <p:nvPr/>
        </p:nvSpPr>
        <p:spPr>
          <a:xfrm>
            <a:off x="189000" y="1857240"/>
            <a:ext cx="6406920" cy="71928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从事职业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***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从事行业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***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期望工作地区：不限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78"/>
          <p:cNvSpPr/>
          <p:nvPr/>
        </p:nvSpPr>
        <p:spPr>
          <a:xfrm>
            <a:off x="476280" y="22212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梁 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11560" y="200160"/>
            <a:ext cx="2665440" cy="307080"/>
            <a:chOff x="3211560" y="200160"/>
            <a:chExt cx="2665440" cy="307080"/>
          </a:xfrm>
        </p:grpSpPr>
        <p:sp>
          <p:nvSpPr>
            <p:cNvPr id="55" name="TextBox 79"/>
            <p:cNvSpPr/>
            <p:nvPr/>
          </p:nvSpPr>
          <p:spPr>
            <a:xfrm>
              <a:off x="3211560" y="200160"/>
              <a:ext cx="26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直接连接符 82"/>
            <p:cNvSpPr/>
            <p:nvPr/>
          </p:nvSpPr>
          <p:spPr>
            <a:xfrm>
              <a:off x="350028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00280" y="200160"/>
            <a:ext cx="2664000" cy="307080"/>
            <a:chOff x="3500280" y="200160"/>
            <a:chExt cx="2664000" cy="307080"/>
          </a:xfrm>
        </p:grpSpPr>
        <p:sp>
          <p:nvSpPr>
            <p:cNvPr id="58" name="TextBox 93"/>
            <p:cNvSpPr/>
            <p:nvPr/>
          </p:nvSpPr>
          <p:spPr>
            <a:xfrm>
              <a:off x="3500280" y="20016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未婚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直接连接符 94"/>
            <p:cNvSpPr/>
            <p:nvPr/>
          </p:nvSpPr>
          <p:spPr>
            <a:xfrm>
              <a:off x="400356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03560" y="200160"/>
            <a:ext cx="2665440" cy="307080"/>
            <a:chOff x="4003560" y="200160"/>
            <a:chExt cx="2665440" cy="307080"/>
          </a:xfrm>
        </p:grpSpPr>
        <p:sp>
          <p:nvSpPr>
            <p:cNvPr id="61" name="TextBox 98"/>
            <p:cNvSpPr/>
            <p:nvPr/>
          </p:nvSpPr>
          <p:spPr>
            <a:xfrm>
              <a:off x="4003560" y="200160"/>
              <a:ext cx="26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986.6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生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直接连接符 99"/>
            <p:cNvSpPr/>
            <p:nvPr/>
          </p:nvSpPr>
          <p:spPr>
            <a:xfrm>
              <a:off x="486864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69000" y="200160"/>
            <a:ext cx="2663640" cy="307080"/>
            <a:chOff x="4869000" y="200160"/>
            <a:chExt cx="2663640" cy="307080"/>
          </a:xfrm>
        </p:grpSpPr>
        <p:sp>
          <p:nvSpPr>
            <p:cNvPr id="64" name="TextBox 101"/>
            <p:cNvSpPr/>
            <p:nvPr/>
          </p:nvSpPr>
          <p:spPr>
            <a:xfrm>
              <a:off x="4869000" y="20016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籍贯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山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直接连接符 102"/>
            <p:cNvSpPr/>
            <p:nvPr/>
          </p:nvSpPr>
          <p:spPr>
            <a:xfrm>
              <a:off x="573264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076640" y="560520"/>
            <a:ext cx="2664000" cy="307080"/>
            <a:chOff x="4076640" y="560520"/>
            <a:chExt cx="2664000" cy="307080"/>
          </a:xfrm>
        </p:grpSpPr>
        <p:sp>
          <p:nvSpPr>
            <p:cNvPr id="67" name="TextBox 101"/>
            <p:cNvSpPr/>
            <p:nvPr/>
          </p:nvSpPr>
          <p:spPr>
            <a:xfrm>
              <a:off x="4076640" y="56052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年工作经验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(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零售管理、企划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直接连接符 90"/>
            <p:cNvSpPr/>
            <p:nvPr/>
          </p:nvSpPr>
          <p:spPr>
            <a:xfrm>
              <a:off x="6595920" y="63180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732640" y="200160"/>
            <a:ext cx="2663640" cy="307080"/>
            <a:chOff x="5732640" y="200160"/>
            <a:chExt cx="2663640" cy="307080"/>
          </a:xfrm>
        </p:grpSpPr>
        <p:sp>
          <p:nvSpPr>
            <p:cNvPr id="70" name="TextBox 101"/>
            <p:cNvSpPr/>
            <p:nvPr/>
          </p:nvSpPr>
          <p:spPr>
            <a:xfrm>
              <a:off x="5732640" y="200160"/>
              <a:ext cx="26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现居</a:t>
              </a:r>
              <a:r>
                <a:rPr b="0" lang="en-US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:</a:t>
              </a:r>
              <a:r>
                <a:rPr b="0" lang="zh-CN" sz="1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长沙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直接连接符 95"/>
            <p:cNvSpPr/>
            <p:nvPr/>
          </p:nvSpPr>
          <p:spPr>
            <a:xfrm>
              <a:off x="6596280" y="271440"/>
              <a:ext cx="0" cy="21744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84640" y="920880"/>
            <a:ext cx="2663640" cy="246240"/>
            <a:chOff x="3284640" y="920880"/>
            <a:chExt cx="2663640" cy="246240"/>
          </a:xfrm>
        </p:grpSpPr>
        <p:sp>
          <p:nvSpPr>
            <p:cNvPr id="73" name="TextBox 101"/>
            <p:cNvSpPr/>
            <p:nvPr/>
          </p:nvSpPr>
          <p:spPr>
            <a:xfrm>
              <a:off x="3284640" y="920880"/>
              <a:ext cx="266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327202****</a:t>
              </a:r>
              <a:r>
                <a:rPr b="0" lang="zh-CN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（手机）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直接连接符 100"/>
            <p:cNvSpPr/>
            <p:nvPr/>
          </p:nvSpPr>
          <p:spPr>
            <a:xfrm>
              <a:off x="4724280" y="992160"/>
              <a:ext cx="0" cy="12528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724280" y="920880"/>
            <a:ext cx="2664000" cy="246240"/>
            <a:chOff x="4724280" y="920880"/>
            <a:chExt cx="2664000" cy="246240"/>
          </a:xfrm>
        </p:grpSpPr>
        <p:sp>
          <p:nvSpPr>
            <p:cNvPr id="76" name="TextBox 101"/>
            <p:cNvSpPr/>
            <p:nvPr/>
          </p:nvSpPr>
          <p:spPr>
            <a:xfrm>
              <a:off x="4724280" y="920880"/>
              <a:ext cx="266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90341577@qq.com(email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直接连接符 105"/>
            <p:cNvSpPr/>
            <p:nvPr/>
          </p:nvSpPr>
          <p:spPr>
            <a:xfrm>
              <a:off x="6596280" y="992160"/>
              <a:ext cx="0" cy="125280"/>
            </a:xfrm>
            <a:prstGeom prst="line">
              <a:avLst/>
            </a:prstGeom>
            <a:ln w="381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14200" y="2792520"/>
            <a:ext cx="2206800" cy="398880"/>
            <a:chOff x="214200" y="2792520"/>
            <a:chExt cx="2206800" cy="398880"/>
          </a:xfrm>
        </p:grpSpPr>
        <p:sp>
          <p:nvSpPr>
            <p:cNvPr id="79" name="圆角矩形 110"/>
            <p:cNvSpPr/>
            <p:nvPr/>
          </p:nvSpPr>
          <p:spPr>
            <a:xfrm>
              <a:off x="214200" y="279864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111"/>
            <p:cNvSpPr/>
            <p:nvPr/>
          </p:nvSpPr>
          <p:spPr>
            <a:xfrm>
              <a:off x="240840" y="279252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自我评价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同侧圆角矩形 112"/>
            <p:cNvSpPr/>
            <p:nvPr/>
          </p:nvSpPr>
          <p:spPr>
            <a:xfrm rot="16200000">
              <a:off x="171000" y="289224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249480" y="2877120"/>
              <a:ext cx="219240" cy="262080"/>
              <a:chOff x="249480" y="2877120"/>
              <a:chExt cx="219240" cy="262080"/>
            </a:xfrm>
          </p:grpSpPr>
          <p:pic>
            <p:nvPicPr>
              <p:cNvPr id="83" name="L 形 1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480" y="2877120"/>
                <a:ext cx="2192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 rot="13500000">
                <a:off x="288360" y="294948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3"/>
          <p:cNvSpPr/>
          <p:nvPr/>
        </p:nvSpPr>
        <p:spPr>
          <a:xfrm>
            <a:off x="189000" y="3224160"/>
            <a:ext cx="6406920" cy="72072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拥有敏锐的市场洞察力和创造、思维能力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计划性强、思路清晰，对团队工作品质要求高。具有较强的学习欲望与适应能力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可信赖、乐于助人、关心他人，有很强的责任感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4200" y="6176880"/>
            <a:ext cx="2422800" cy="398880"/>
            <a:chOff x="214200" y="6176880"/>
            <a:chExt cx="2422800" cy="398880"/>
          </a:xfrm>
        </p:grpSpPr>
        <p:sp>
          <p:nvSpPr>
            <p:cNvPr id="87" name="圆角矩形 63"/>
            <p:cNvSpPr/>
            <p:nvPr/>
          </p:nvSpPr>
          <p:spPr>
            <a:xfrm>
              <a:off x="214200" y="6176880"/>
              <a:ext cx="220716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65"/>
            <p:cNvSpPr/>
            <p:nvPr/>
          </p:nvSpPr>
          <p:spPr>
            <a:xfrm>
              <a:off x="247320" y="6176880"/>
              <a:ext cx="23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教育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培训经历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同侧圆角矩形 69"/>
            <p:cNvSpPr/>
            <p:nvPr/>
          </p:nvSpPr>
          <p:spPr>
            <a:xfrm rot="16200000">
              <a:off x="199800" y="6286320"/>
              <a:ext cx="318960" cy="22680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620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6966" h="340426">
                  <a:moveTo>
                    <a:pt x="84718" y="0"/>
                  </a:moveTo>
                  <a:lnTo>
                    <a:pt x="462248" y="0"/>
                  </a:lnTo>
                  <a:lnTo>
                    <a:pt x="462248" y="0"/>
                  </a:lnTo>
                  <a:arcTo wR="84718" hR="84718" stAng="-5400000" swAng="5400000"/>
                  <a:lnTo>
                    <a:pt x="546966" y="340426"/>
                  </a:lnTo>
                  <a:lnTo>
                    <a:pt x="0" y="340426"/>
                  </a:lnTo>
                  <a:lnTo>
                    <a:pt x="0" y="84718"/>
                  </a:lnTo>
                  <a:lnTo>
                    <a:pt x="0" y="84718"/>
                  </a:lnTo>
                  <a:arcTo wR="84718" hR="84718" stAng="10800000" swAng="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73960" y="6284880"/>
              <a:ext cx="225360" cy="280440"/>
              <a:chOff x="273960" y="6284880"/>
              <a:chExt cx="225360" cy="280440"/>
            </a:xfrm>
          </p:grpSpPr>
          <p:pic>
            <p:nvPicPr>
              <p:cNvPr id="91" name="L 形 7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3960" y="6284880"/>
                <a:ext cx="225360" cy="28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13500000">
                <a:off x="349920" y="6370560"/>
                <a:ext cx="2520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3"/>
          <p:cNvSpPr/>
          <p:nvPr/>
        </p:nvSpPr>
        <p:spPr>
          <a:xfrm>
            <a:off x="189000" y="6608880"/>
            <a:ext cx="6406920" cy="115884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1/04 -- 2011/04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上海竞越有限公司，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团队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任务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长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12 -- 2011/04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中研（国际）管理咨询集团， 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思维拓展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团队特质沟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项目管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职业生涯规划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长沙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9/10 -- 2009/10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韩国某咨询公司，培训课程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【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设计与色彩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】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北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4/09 -- 2008/06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南华大学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艺术设计（室内、园林、城市规划）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工商管理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本科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4200" y="8048520"/>
            <a:ext cx="2422800" cy="398880"/>
            <a:chOff x="214200" y="8048520"/>
            <a:chExt cx="2422800" cy="398880"/>
          </a:xfrm>
        </p:grpSpPr>
        <p:sp>
          <p:nvSpPr>
            <p:cNvPr id="95" name="圆角矩形 74"/>
            <p:cNvSpPr/>
            <p:nvPr/>
          </p:nvSpPr>
          <p:spPr>
            <a:xfrm>
              <a:off x="214200" y="8048520"/>
              <a:ext cx="2207160" cy="36864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Box 78"/>
            <p:cNvSpPr/>
            <p:nvPr/>
          </p:nvSpPr>
          <p:spPr>
            <a:xfrm>
              <a:off x="247320" y="8048520"/>
              <a:ext cx="23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证书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专业技能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同侧圆角矩形 79"/>
            <p:cNvSpPr/>
            <p:nvPr/>
          </p:nvSpPr>
          <p:spPr>
            <a:xfrm rot="16200000">
              <a:off x="199440" y="8157600"/>
              <a:ext cx="319320" cy="226800"/>
            </a:xfrm>
            <a:custGeom>
              <a:avLst/>
              <a:gdLst>
                <a:gd name="textAreaLeft" fmla="*/ 14400 w 319320"/>
                <a:gd name="textAreaRight" fmla="*/ 304920 w 319320"/>
                <a:gd name="textAreaTop" fmla="*/ 1620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547052" h="340426">
                  <a:moveTo>
                    <a:pt x="84718" y="0"/>
                  </a:moveTo>
                  <a:lnTo>
                    <a:pt x="462334" y="0"/>
                  </a:lnTo>
                  <a:lnTo>
                    <a:pt x="462334" y="0"/>
                  </a:lnTo>
                  <a:arcTo wR="84718" hR="84718" stAng="-5400000" swAng="5400000"/>
                  <a:lnTo>
                    <a:pt x="547052" y="340426"/>
                  </a:lnTo>
                  <a:lnTo>
                    <a:pt x="0" y="340426"/>
                  </a:lnTo>
                  <a:lnTo>
                    <a:pt x="0" y="84718"/>
                  </a:lnTo>
                  <a:lnTo>
                    <a:pt x="0" y="84718"/>
                  </a:lnTo>
                  <a:arcTo wR="84718" hR="84718" stAng="10800000" swAng="5400000"/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3960" y="8156160"/>
              <a:ext cx="225360" cy="280800"/>
              <a:chOff x="273960" y="8156160"/>
              <a:chExt cx="225360" cy="280800"/>
            </a:xfrm>
          </p:grpSpPr>
          <p:pic>
            <p:nvPicPr>
              <p:cNvPr id="99" name="L 形 8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3960" y="8156160"/>
                <a:ext cx="22536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13500000">
                <a:off x="349920" y="8242200"/>
                <a:ext cx="25200" cy="1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Rectangle 3"/>
          <p:cNvSpPr/>
          <p:nvPr/>
        </p:nvSpPr>
        <p:spPr>
          <a:xfrm>
            <a:off x="189000" y="8481960"/>
            <a:ext cx="6406920" cy="94140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年优秀员工奖，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9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年最佳业绩奖；大学四年期间，综合表现优秀，每年都有获得奖学金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CAD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owerpoint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Word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Excel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HOTOSHOP |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熟练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| 72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个月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4200" y="4160880"/>
            <a:ext cx="2206800" cy="398880"/>
            <a:chOff x="214200" y="4160880"/>
            <a:chExt cx="2206800" cy="398880"/>
          </a:xfrm>
        </p:grpSpPr>
        <p:sp>
          <p:nvSpPr>
            <p:cNvPr id="103" name="圆角矩形 91"/>
            <p:cNvSpPr/>
            <p:nvPr/>
          </p:nvSpPr>
          <p:spPr>
            <a:xfrm>
              <a:off x="214200" y="4167000"/>
              <a:ext cx="2206800" cy="368280"/>
            </a:xfrm>
            <a:prstGeom prst="roundRect">
              <a:avLst>
                <a:gd name="adj" fmla="val 19264"/>
              </a:avLst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Box 96"/>
            <p:cNvSpPr/>
            <p:nvPr/>
          </p:nvSpPr>
          <p:spPr>
            <a:xfrm>
              <a:off x="240840" y="4160880"/>
              <a:ext cx="18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工作经历</a:t>
              </a:r>
              <a:r>
                <a:rPr b="1" lang="en-US" sz="2000" spc="-1" strike="noStrike">
                  <a:solidFill>
                    <a:srgbClr val="1f1029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同侧圆角矩形 97"/>
            <p:cNvSpPr/>
            <p:nvPr/>
          </p:nvSpPr>
          <p:spPr>
            <a:xfrm rot="16200000">
              <a:off x="171000" y="4260600"/>
              <a:ext cx="318960" cy="182520"/>
            </a:xfrm>
            <a:custGeom>
              <a:avLst/>
              <a:gdLst>
                <a:gd name="textAreaLeft" fmla="*/ 14400 w 318960"/>
                <a:gd name="textAreaRight" fmla="*/ 304560 w 318960"/>
                <a:gd name="textAreaTop" fmla="*/ 1332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546884" h="340646">
                  <a:moveTo>
                    <a:pt x="84773" y="0"/>
                  </a:moveTo>
                  <a:lnTo>
                    <a:pt x="462111" y="0"/>
                  </a:lnTo>
                  <a:lnTo>
                    <a:pt x="462111" y="0"/>
                  </a:lnTo>
                  <a:arcTo wR="84773" hR="84773" stAng="-5400000" swAng="5400000"/>
                  <a:lnTo>
                    <a:pt x="546884" y="340646"/>
                  </a:lnTo>
                  <a:lnTo>
                    <a:pt x="0" y="340646"/>
                  </a:lnTo>
                  <a:lnTo>
                    <a:pt x="0" y="84773"/>
                  </a:lnTo>
                  <a:lnTo>
                    <a:pt x="0" y="84773"/>
                  </a:lnTo>
                  <a:arcTo wR="84773" hR="84773" stAng="10800000" swAng="5400000"/>
                  <a:close/>
                </a:path>
              </a:pathLst>
            </a:cu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9480" y="4242600"/>
              <a:ext cx="219240" cy="262080"/>
              <a:chOff x="249480" y="4242600"/>
              <a:chExt cx="219240" cy="262080"/>
            </a:xfrm>
          </p:grpSpPr>
          <p:pic>
            <p:nvPicPr>
              <p:cNvPr id="107" name="L 形 101" descr=""/>
              <p:cNvPicPr/>
              <p:nvPr/>
            </p:nvPicPr>
            <p:blipFill>
              <a:blip r:embed="rId6"/>
              <a:stretch/>
            </p:blipFill>
            <p:spPr>
              <a:xfrm>
                <a:off x="249480" y="4242600"/>
                <a:ext cx="219240" cy="2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13500000">
                <a:off x="288360" y="4317840"/>
                <a:ext cx="95040" cy="2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Rectangle 3"/>
          <p:cNvSpPr/>
          <p:nvPr/>
        </p:nvSpPr>
        <p:spPr>
          <a:xfrm>
            <a:off x="189000" y="4592520"/>
            <a:ext cx="6406920" cy="1368720"/>
          </a:xfrm>
          <a:prstGeom prst="rect">
            <a:avLst/>
          </a:prstGeom>
          <a:solidFill>
            <a:srgbClr val="bfbfbf">
              <a:alpha val="69000"/>
            </a:srgbClr>
          </a:solidFill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07 --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至今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（中国）湖南分公司企划部主管，负责新品上市推广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POP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管理、商品出清，负责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组织策划的某项目使公司当月销售业绩同比提升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388%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，单店销售业绩最高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9.3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万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/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天。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8/04 --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10/07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**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（中国）湖南分公司零售客服主管、销售主管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557fe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2005/05 -- 2008/01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：方案策划、新品推广、促销、</a:t>
            </a:r>
            <a:r>
              <a:rPr b="0" lang="en-US" sz="10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销售代表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曾在学工会的支持下，带领多名同学负责雀巢、维达、家润多、香江精彩生活、蒙牛、光明等品牌的产品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宋体"/>
              </a:rPr>
              <a:t>的促销以及新品推广，团队多次获得用人单位的好评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272520"/>
            <a:ext cx="61545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000" y="1834920"/>
            <a:ext cx="6696000" cy="75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351c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465880" y="480960"/>
            <a:ext cx="10411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F7262-858D-4425-8981-3892CF700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7:44:00Z</dcterms:created>
  <dc:creator>RD</dc:creator>
  <dc:description/>
  <dc:language>en-US</dc:language>
  <cp:lastModifiedBy>微软用户</cp:lastModifiedBy>
  <dcterms:modified xsi:type="dcterms:W3CDTF">2015-07-04T06:58:10Z</dcterms:modified>
  <cp:revision>56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