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B185-3BCE-4985-BB9E-8CE72C79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DFB-6C9E-45F9-A905-293DDB3F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2A4-D642-43DC-8AF3-BABA8A71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F9F-D29F-45C1-9686-C074A681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DA1-5657-4E4D-988E-9452997F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57D9-1406-4417-A94B-546A7CA9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324E-3EFD-4DE9-A6FB-DEA13FD5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9C1-6713-42D8-B635-93C7B18D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71E0-CADD-4C9E-B7E9-8FD11936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2B4C-AA4D-4EE1-9A2A-A0B8745F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613-BD4A-4C16-9DC8-A04F028C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D7A-4E7D-4E48-B241-CCDE0736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78AC-DBF4-40FF-89ED-C7568A56A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628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66"/>
                </a:solidFill>
                <a:latin typeface="Verdana"/>
              </a:rPr>
              <a:t>英语课件</a:t>
            </a:r>
            <a:r>
              <a:rPr b="1" i="1" lang="en-US" sz="6000" spc="-1" strike="noStrike">
                <a:solidFill>
                  <a:srgbClr val="ff0066"/>
                </a:solidFill>
                <a:latin typeface="Verdana"/>
              </a:rPr>
              <a:t>ppt</a:t>
            </a:r>
            <a:r>
              <a:rPr b="1" i="1" lang="zh-CN" sz="6000" spc="-1" strike="noStrike">
                <a:solidFill>
                  <a:srgbClr val="ff0066"/>
                </a:solidFill>
                <a:latin typeface="Verdana"/>
              </a:rPr>
              <a:t>模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920" y="2637000"/>
            <a:ext cx="41907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2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Revisio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7080480" y="616572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7905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 1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她在十四岁时开始学习法语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started learning French ________ 1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戴维出生在１９９０年。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was born ________ 199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们周二去打网球。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play tennis ________ Tues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爸爸在吃早饭时看报纸。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father reads newspapers ________ breakfa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假期开始于七月十五日。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liday started ________ 15th Ju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一个寒冷的早上，他带他的小狗散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lked his dog ________ a cold mor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每个周五吉姆都去游泳。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m goes swimming ________ every Fri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820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们可以用特殊疑问词来对人和事物询问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1) Jim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 is Jim do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I’d like th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weater.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 sweater would you lik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Mr. Chen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r English teac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 is Mr. Che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This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llie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g.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 bag is th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Lily gets up 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 a.m. in the mo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 does Millie get up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His pen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the pencil 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 is his pe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He goes to schoo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y b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very day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 does he go to school every d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 I like my classro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cause it’s cl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 do you like your classroo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词填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ass      fun      play    help    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like my uncle .He often tells me many______s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cy is  pretty.She enjoys ________to some English so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!Mrs Wang wears a pair of _______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know the teacher in our scool are all ________to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ndy likes singing,and she is also good at _______the pi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720" y="152388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un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8920" y="213372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03320" y="335268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g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3600" y="434340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5000" y="533412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80480" y="616572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wear    have    like    be  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iel and Tommy _______in the Reading Clu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Tom _______speaking Chinese? Yes,he d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________English  aloud every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llie ______a dog.Its name is ed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 friend Li Rui _______a pair of glasse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come     not like    take    write   l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usually _____a bus home after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ck and I ___________cooking fish.But we like eating f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udents often________letters to their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cy_________from Rugao.What about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you ______to BBC in the mo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68320" y="8380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2720" y="83808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16600" y="5335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97440" y="16002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50440" y="21337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4840" y="259092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40440" y="35812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5720" y="403848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n’t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3960" y="48769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5360" y="533412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8680" y="579132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2720" y="586728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have   come    send    water   not l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ndy sometimes ________the young t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day _______after Sun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______your father often_______e-mails to his friends? B: Yes,he d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 grandmother ________lunch at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da _______           to music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one   good   friend   know  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 friend wants ________more about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scores two wonderful goals in the _____ma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 friend Tony is always so _______to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plays very ________in the ma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Who is the________    member in the football te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Mike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5000" y="114300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60280" y="60948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8360" y="30492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56120" y="1143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36440" y="18288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7120" y="2286000"/>
            <a:ext cx="24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esn’t l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56280" y="320040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83120" y="36576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4038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4495680"/>
            <a:ext cx="119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74680" y="495288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e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6237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have   be   talk    read    score   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 morning he_______sports in the play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Paul and Mike often ______about their less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Where ______your fri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He ______at tennis cou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always _______English or Chinese in the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g Qing is good at _______    go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 Do you know how _______tenn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7440" y="23623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69560" y="137160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5400" y="13716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60120" y="4572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1640" y="28195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3080" y="34290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6280" y="426708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c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93640" y="480060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o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play   watch   stay   win   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on loves _______football and he wants to be a football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enjoys_______   TV and he ______    for an hour every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’s raining outside.Let’s _______at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wants ________in the next World C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people like _______in a river or a l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real    play     usual      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________are there in a football te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oy is______good at dra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iel________wears a yellow shirt but today he is in b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 father and mother are ________of the Swimming Clu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9760" y="38088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30600" y="76212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36960" y="1219320"/>
            <a:ext cx="17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89640" y="1295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50480" y="21337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t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9920" y="251460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o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55560" y="304812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4480" y="396252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10760" y="449568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02720" y="487692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s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51200" y="571500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.Thanks ___ e-mails to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for write  B.to write  C.for writing  D.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.If you don’t know how to say something in English,you say ‘__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I’ll start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I don’t nu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Excuse me,how do you say that in Eng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I.m sorry,I don’t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3.Can you ___ the words in Eng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speak  B.talk  C.tell  D.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.Freddy often  ___ at home and ___TV on Sun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stay,watches  B.stays,watch  C.is staying,w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stays,watch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-3175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1197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84360" y="378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32000" y="4869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9604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.A:Oh,you look so beautiful. B: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No,I don’t B.Yes,I do C.Not at all D.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.Mum,___ at 5:30 tomorrow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wakes me up  B.wakes up me  C.wake me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wake up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.A:Who teaches ___English?B:Mr Wu d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they  B.their  C.them  D.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.You shouldn’t watch ___TV of fil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too much  B.much too C.too many  D.si 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9.Mr Black,I can’t ___ you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listen  B.listen to  C.sound  D.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.No news ___ good n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are  b.is  C.be  D.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9810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92360" y="234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3357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2360" y="4221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522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-9604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1.Each of them ___ready for the coming exam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gets  B.get  C.is getting  D.are g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.The shop __ from 8a.m. to 9p.a.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opened  B.is open  C.closed  D.is o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.He spends 10yuan __ a comic 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to buy  B.buy  C.buying  D.bu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.A:Is this ticket_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Yes,please give it to 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he,his  B.he,him  C.his,him  D.him,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.Do you practise ___the piano every 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play  B.playing  C.to play  D.p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3640" y="260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11280" y="1268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51280" y="2205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14172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360" y="4724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893080" cy="73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基础词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名词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牙齿（复数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冬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饮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    6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儿童（复数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8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卡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季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春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夏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秋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七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八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九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十一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2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十二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星期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星期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钱，货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假期，假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厨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狮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午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西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蜡烛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糖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4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方式，方法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邻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      36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   38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恶作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  39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食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   4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集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  4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铅笔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火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   44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红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 45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.At weekends,I spend an hour __ my English stud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do B.in  C.on  D.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7.The children are looking forward __ a trip s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to have  B.to having  C.have  D.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.A:Basketball is hard for me,because I’m not t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____.You can do it well if you practise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All right  B.I’m sorry  C.Don’t worry  D.Of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9.I’m very busy.I have___ things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much  B.no  C.a lot  D. lot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.Jim’s sister often ___ kites with her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to fly  B.flying  C.flies  D.is f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.We go to school___ Monday __ Fri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on,and  B.from,for  C.from,to  D.at,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80000" y="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84720" y="1341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56536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40360" y="357336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08360" y="4581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64000" y="5445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80480" y="616572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920" y="-1320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58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.Daniel and Simon are __ good __ foot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all,playing  B.both,at  C.all,at play  D.both,in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.A:Would you like some milk? B: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No,I don’t    B.Yes,I do C.Yes,please D.No,I w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4.Thank yo for ___ the weekend football ma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organize  B.organizing  C.to organize  D.organ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.A:Can I use your computer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Ｂ：＿＿＿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Yes,you may   B.Sorry, I’m using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No,yo don,t       D.Sorry,it’s not 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.I like chatting ___ my friend __ the ph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with,on  B.with,with  C.to,with  D.to,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7.The story books are ____.The textbooks are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hers,him  B.yours,ours  C.our,yours  D.his,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84720" y="692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32000" y="1700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64360" y="2565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4005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27640" y="48690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.I sleep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ine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.He usually listens to music before supper. 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否定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.I read and write for three hours every day. 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改写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.Millie loves read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cause s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ants to learn 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out the wor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.I live with my fami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a flat in Beij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.Milli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alks her d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very ev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692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ow long do you sleep every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6920" y="155736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 doesn’t usually listen to music before sup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85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 spend three hours reading and writing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00000" y="41497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y does Millie love rea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1280" y="49417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ere do you live with your fami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59500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at does Millie do every eve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8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8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8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8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8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8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8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8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8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oing morning exerci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 us get ready for the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.He goes to school on foot every day. 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义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.Tom and Bob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ke a ph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 once a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.Sandy spend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wo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her dancing lessons on Sun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.They don’t often organize class trips. 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r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替换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.Each of her parents works in a muse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692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at helps us get ready for the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557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 walks to school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2492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at do Tom and Bob do once a w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3500280"/>
            <a:ext cx="71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ow long does Sandy spend on her dancing lessons on Sun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00000" y="4653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girl doesn’t often organize class tr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5516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r parents both work in a muse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8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8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8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8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8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8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8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8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8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8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8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.Simon can dance very well. 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义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.Alice, it’s time for supper. 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义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.He takes a bus to the park. 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义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.We will go on a trip next Monday. 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义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4.Kitty dances for an hour every day. 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改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.Millie goes to the Reading Club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ce a we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r W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ten chats with us between me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692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imon is good at dan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484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lice , it’s time for you to have sup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2421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 goes to the park by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3213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e will take a trip next Mo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4076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itty spends an hour dancing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4360" y="494172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ow often does Millie go to the Reading Clu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595008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o often chats with you between me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8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8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8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8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8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8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8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8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8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8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8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8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8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8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8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8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8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8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8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8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8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2057400" y="1752480"/>
            <a:ext cx="6019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Goodbye!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E48D-CDC2-41D5-B7F2-7C297C092F61}" type="slidenum">
              <a:t>26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748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动词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喊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习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把…叫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        4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敲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给……涂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    6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完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结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      8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发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闪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给…穿衣服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招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款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形容词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dj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别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己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出色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4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人）兴奋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传统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热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趣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冷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介词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ep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作为，当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穿过，通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，靠（通过某种方式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连词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j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，假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当……什么时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27892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…作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吃许多可口的热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喝热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做某事感谢某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告诉我有关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最喜欢的节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举行一个特殊的聚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吃许多特殊的巧克力和糖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玩一个“不招待就使坏“的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敲人们的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给我们一些糖果作为招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待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609480"/>
            <a:ext cx="43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87640" y="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get ready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54936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eat lots of nice, hot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98100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have hot dr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141300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thank sb for doing s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59280" y="184464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tell me about s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22766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my favourite fest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27082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have a special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306864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eat a lot of special chocolates and can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400536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play a game called ‘trict or trea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436572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knock on/at people’s d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51280" y="465300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give us some candies as a t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27280" y="5445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give us a t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捉弄他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扮起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穿带有面具的特殊戏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给我们的脸涂上颜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穿一件老虎的戏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我们自己特殊的南瓜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切出眼睛，鼻子和尖尖的牙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十月三十一号晚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3280" y="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play a trick o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6206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ress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170028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wear special costumes with m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360" y="22766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paint our 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56000" y="2997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wear a tiger cost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41497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make our own special pumpkin lan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515772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ut out the eyes, the nose and the sharp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72000" y="609300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on the evening of October 31 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9640" y="4508640"/>
            <a:ext cx="39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75280" y="6093000"/>
            <a:ext cx="4968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42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早餐时看报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给别人礼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国的儿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去看医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有一个长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岁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我们俱乐部的集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一起学数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9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想要黄色的这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0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为她办一个大型的聚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1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在笔袋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2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吃什么作为中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3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喜欢钓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8000" y="2602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ead newspapers at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765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give others pres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59280" y="1197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hildren in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6000" y="17002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go to see the do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00360" y="21337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ave a long holi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71640" y="256536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t 15 / at the age of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5280" y="2997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ur club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27280" y="357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tudy Math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19640" y="4005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ould like this yellow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19640" y="4437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ave a big party for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49417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 the pencil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48000" y="53737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ave sth for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59500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ke 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4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去度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5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那个穿着特殊戏服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6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想要一个模型火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7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在厨房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8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即将来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9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吃粽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0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买一些圣诞礼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1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玩一些特殊的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2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得到一些红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3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去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itty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4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乘公共汽车去上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5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带它做长时间的散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2602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go on holi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19640" y="836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at person in a special cost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12682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ant a model 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177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 the kit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2205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e co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27082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at rice dump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3068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uy some Christmas pres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08360" y="3645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lay some special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4076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get some red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1640" y="458136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go to Kitty’s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501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go to school by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67280" y="5516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ake it for a long w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80480" y="616572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665280" y="12600"/>
            <a:ext cx="10487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9900"/>
                </a:solidFill>
                <a:latin typeface="Palatino Linotype"/>
              </a:rPr>
              <a:t>Translate the following phrases into Chinese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2800" y="914400"/>
            <a:ext cx="2771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Monotype Corsiva"/>
                <a:ea typeface="楷体_GB2312"/>
              </a:rPr>
              <a:t>西方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Monotype Corsiva"/>
                <a:ea typeface="楷体_GB2312"/>
              </a:rPr>
              <a:t>以多种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Monotype Corsiva"/>
                <a:ea typeface="楷体_GB2312"/>
              </a:rPr>
              <a:t>穿上特殊的戏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Monotype Corsiva"/>
                <a:ea typeface="楷体_GB2312"/>
              </a:rPr>
              <a:t>敲邻居的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Monotype Corsiva"/>
                <a:ea typeface="楷体_GB2312"/>
              </a:rPr>
              <a:t>吃许多特殊的巧克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Monotype Corsiva"/>
                <a:ea typeface="楷体_GB2312"/>
              </a:rPr>
              <a:t>得到一些糖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Monotype Corsiva"/>
                <a:ea typeface="楷体_GB2312"/>
              </a:rPr>
              <a:t>捉弄邻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Monotype Corsiva"/>
                <a:ea typeface="楷体_GB2312"/>
              </a:rPr>
              <a:t>用橙色的大南瓜做灯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Monotype Corsiva"/>
                <a:ea typeface="楷体_GB2312"/>
              </a:rPr>
              <a:t>把蜡烛放进灯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Monotype Corsiva"/>
                <a:ea typeface="楷体_GB2312"/>
              </a:rPr>
              <a:t>庆祝春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Monotype Corsiva"/>
                <a:ea typeface="楷体_GB2312"/>
              </a:rPr>
              <a:t>切割出锋利的牙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Monotype Corsiva"/>
                <a:ea typeface="楷体_GB2312"/>
              </a:rPr>
              <a:t>以…招待某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Monotype Corsiva"/>
                <a:ea typeface="楷体_GB2312"/>
              </a:rPr>
              <a:t>透过…发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8880" y="692280"/>
            <a:ext cx="28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in the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2520" y="11253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many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89800" y="1557360"/>
            <a:ext cx="35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ar special cost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86520" y="1916280"/>
            <a:ext cx="442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ck on neighbours’ d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67280" y="2349360"/>
            <a:ext cx="44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t lots of special choco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29440" y="2924280"/>
            <a:ext cx="27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some can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4160" y="335772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y a trick on the neighb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67280" y="3716280"/>
            <a:ext cx="48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ke lanterns out of big orange pumpk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9240" y="4365720"/>
            <a:ext cx="419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t candles in the lan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91240" y="4724280"/>
            <a:ext cx="45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ebrate  Chinese New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5440" y="510552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 out the sharp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93560" y="556272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e sb a treat of/ give sb sth as a t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83640" y="6019920"/>
            <a:ext cx="22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ine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难点语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状语前介词的用法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用不同的介词来谈论时间，日期，月份和季节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介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在具体时间，就餐时间，节日和年龄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介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在具体的日期和星期几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介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在每天的某一时间段，月份，季节和年份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当时间状语前有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is, that, every, last, next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等修饰词时，不再需要用介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3:46:36Z</dcterms:created>
  <dc:creator>高一年级A</dc:creator>
  <dc:description/>
  <dc:language>en-US</dc:language>
  <cp:lastModifiedBy>le</cp:lastModifiedBy>
  <dcterms:modified xsi:type="dcterms:W3CDTF">2015-07-04T06:45:27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