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8DF-5CE5-44E4-A492-499BA3BE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F31-0915-4D0E-94AE-876C7797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B60-6AA2-4963-A3EF-D1E5CC4F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0F1-804D-4B2F-BCFB-0DE783E2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928-FF87-400F-A1F3-3474E33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42A-542B-4A63-87D9-8CE3FE37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F05-1A0A-4F1D-A34A-21750EE4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BBE-3ED4-4407-883E-4993A89F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B52-958C-46E4-BFB6-294ACE1D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1FB-8C9C-4B88-9091-F8EEBD2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678-F3D8-4807-88DA-04202294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CA7-98FF-4B1B-8098-AECCCAE7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FBF-E99C-4D4F-9CEE-AB21937A1415}" type="datetime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ndara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4200-0A29-450D-9D33-807E535C3BCB}" type="slidenum">
              <a:rPr b="0" lang="zh-CN" sz="1200" spc="-1" strike="noStrike">
                <a:solidFill>
                  <a:srgbClr val="ffffff"/>
                </a:solidFill>
                <a:latin typeface="Candara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187280" y="2205000"/>
            <a:ext cx="69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最初的梦想</a:t>
            </a: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PPT</a:t>
            </a: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模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0920" y="620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186000" y="2133720"/>
            <a:ext cx="27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WHA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ndara"/>
                <a:ea typeface="华文细黑"/>
              </a:rPr>
              <a:t>HOW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284720" y="2852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华文细黑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4067280" y="4202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367200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067280" y="1998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067280" y="2813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067280" y="1484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左大括号 6"/>
          <p:cNvSpPr/>
          <p:nvPr/>
        </p:nvSpPr>
        <p:spPr>
          <a:xfrm>
            <a:off x="3419640" y="1700280"/>
            <a:ext cx="288720" cy="28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808360"/>
              <a:gd name="textAreaBottom" fmla="*/ 280116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7"/>
                </a:cubicBezTo>
                <a:lnTo>
                  <a:pt x="10800" y="10623"/>
                </a:lnTo>
                <a:cubicBezTo>
                  <a:pt x="10800" y="10712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7"/>
                </a:cubicBezTo>
                <a:lnTo>
                  <a:pt x="10800" y="21423"/>
                </a:lnTo>
                <a:cubicBezTo>
                  <a:pt x="10800" y="2151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140360" y="3429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140360" y="3789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9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0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3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4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8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74C-8518-47FC-8F0B-68ADCDA559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27280" y="1427040"/>
            <a:ext cx="1692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708360" y="2060640"/>
            <a:ext cx="27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种风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50920" y="3068280"/>
            <a:ext cx="2376360" cy="1008360"/>
            <a:chOff x="3850920" y="3068280"/>
            <a:chExt cx="2376360" cy="1008360"/>
          </a:xfrm>
        </p:grpSpPr>
        <p:sp>
          <p:nvSpPr>
            <p:cNvPr id="46" name="矩形 5"/>
            <p:cNvSpPr/>
            <p:nvPr/>
          </p:nvSpPr>
          <p:spPr>
            <a:xfrm flipH="1" flipV="1">
              <a:off x="3850560" y="3648240"/>
              <a:ext cx="237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矩形 3"/>
            <p:cNvSpPr/>
            <p:nvPr/>
          </p:nvSpPr>
          <p:spPr>
            <a:xfrm flipH="1" flipV="1">
              <a:off x="3850560" y="3428280"/>
              <a:ext cx="2376360" cy="40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矩形 4"/>
            <p:cNvSpPr/>
            <p:nvPr/>
          </p:nvSpPr>
          <p:spPr>
            <a:xfrm flipH="1" flipV="1">
              <a:off x="3850560" y="3213000"/>
              <a:ext cx="2376360" cy="54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 flipH="1" flipV="1">
              <a:off x="3850560" y="3067920"/>
              <a:ext cx="2376360" cy="431640"/>
            </a:xfrm>
            <a:prstGeom prst="rect">
              <a:avLst/>
            </a:prstGeom>
            <a:solidFill>
              <a:srgbClr val="1e0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627280" y="2060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>
            <a:lum bright="88000"/>
          </a:blip>
          <a:stretch/>
        </p:blipFill>
        <p:spPr>
          <a:xfrm>
            <a:off x="3716280" y="3500280"/>
            <a:ext cx="171144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023920" y="2496960"/>
            <a:ext cx="50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图片 3" descr=""/>
          <p:cNvPicPr/>
          <p:nvPr/>
        </p:nvPicPr>
        <p:blipFill>
          <a:blip r:embed="rId1"/>
          <a:stretch/>
        </p:blipFill>
        <p:spPr>
          <a:xfrm>
            <a:off x="4932360" y="2316240"/>
            <a:ext cx="100332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948360" y="623880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幻灯片之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340000" y="4005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887640" y="2048040"/>
            <a:ext cx="1368720" cy="145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268360" y="1236600"/>
            <a:ext cx="460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763640" y="1413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图片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32360" y="328464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422604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717640" y="4221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62" name="不等于号 5"/>
          <p:cNvSpPr/>
          <p:nvPr/>
        </p:nvSpPr>
        <p:spPr>
          <a:xfrm>
            <a:off x="3753000" y="4653000"/>
            <a:ext cx="1223640" cy="43164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19280" y="465300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3311640" y="3716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3635280" y="17445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636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2448000" y="3044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79600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796000" y="4941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输入文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左大括号 5"/>
          <p:cNvSpPr/>
          <p:nvPr/>
        </p:nvSpPr>
        <p:spPr>
          <a:xfrm>
            <a:off x="5003640" y="1628640"/>
            <a:ext cx="216000" cy="360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 h 3600720"/>
              <a:gd name="textAreaBottom" fmla="*/ 359568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2"/>
                  <a:pt x="10800" y="103"/>
                </a:cubicBezTo>
                <a:lnTo>
                  <a:pt x="10800" y="10697"/>
                </a:lnTo>
                <a:cubicBezTo>
                  <a:pt x="10800" y="10749"/>
                  <a:pt x="5400" y="10800"/>
                  <a:pt x="0" y="10800"/>
                </a:cubicBezTo>
                <a:cubicBezTo>
                  <a:pt x="5400" y="10800"/>
                  <a:pt x="10800" y="10852"/>
                  <a:pt x="10800" y="10903"/>
                </a:cubicBezTo>
                <a:lnTo>
                  <a:pt x="10800" y="21497"/>
                </a:lnTo>
                <a:cubicBezTo>
                  <a:pt x="10800" y="215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3469E-006 L -0.10833 2.53469E-006 E">
                                      <p:cBhvr>
                                        <p:cTn id="6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01:10:00Z</dcterms:created>
  <dc:creator>Gin</dc:creator>
  <dc:description/>
  <cp:keywords>YT-竞赛宣讲;XS-普屏 4：3;DH-静态</cp:keywords>
  <dc:language>en-US</dc:language>
  <cp:lastModifiedBy>a</cp:lastModifiedBy>
  <dcterms:modified xsi:type="dcterms:W3CDTF">2015-07-04T05:53:32Z</dcterms:modified>
  <cp:revision>80</cp:revision>
  <dc:subject>SW-信息概要类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