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559-2723-4820-920D-3D8FA178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DE-0084-44AE-93F5-36C86E20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286-CF49-42EB-B03E-C71DC198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2EF-384E-4CC1-878D-6AA27971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3C4-4663-4719-A23B-5D0A97B6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51C1-3075-4E80-B26F-AE55B0A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F47-171F-48D2-B8CB-09EDEEA6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3EC-F6C7-4A66-B0F0-0541CBAB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A984-3371-4B70-B0AA-27776304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A4AB-D19E-4D2D-814B-D40BF469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DD09-F9BF-442A-ADF2-4104A63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A8F-A617-414C-A8AF-6E998E5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69C8-FEFF-4E0E-85FE-223B4A29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DC76-533F-455A-9CE8-595DA9EE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6DC1-8A27-4FE9-B262-77A5DCB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953-4D57-46C5-9086-B7BAE3B1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D08A-FC91-4A5D-AB76-932593B2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0E8-413C-4E91-B0B2-0DEE50ED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9F0E-BDAC-4F73-86A0-08F06EFC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DA68-5554-412C-9CBD-B0A359F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4B3-4DB6-43A1-BF4F-DD4BFE09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55C-5D21-4D78-8449-21D66A5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F04-EEA9-4E69-8421-04C511AA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F0C-288A-4B87-8584-9DC040F8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我的文件\素材文件\3D小人\8.JPG"/>
          <p:cNvPicPr/>
          <p:nvPr/>
        </p:nvPicPr>
        <p:blipFill>
          <a:blip r:embed="rId2"/>
          <a:srcRect l="0" t="10264" r="7692" b="12823"/>
          <a:stretch/>
        </p:blipFill>
        <p:spPr>
          <a:xfrm>
            <a:off x="7429680" y="0"/>
            <a:ext cx="171432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6"/>
          <p:cNvSpPr/>
          <p:nvPr/>
        </p:nvSpPr>
        <p:spPr>
          <a:xfrm>
            <a:off x="0" y="-12600"/>
            <a:ext cx="7858080" cy="1084320"/>
          </a:xfrm>
          <a:prstGeom prst="pie">
            <a:avLst/>
          </a:prstGeom>
          <a:gradFill rotWithShape="0">
            <a:gsLst>
              <a:gs pos="0">
                <a:srgbClr val="94c0e8"/>
              </a:gs>
              <a:gs pos="100000">
                <a:srgbClr val="2287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FE20-16F7-444D-84C8-F589B0F4961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我的文件\素材文件\3D小人\8.JPG"/>
          <p:cNvPicPr/>
          <p:nvPr/>
        </p:nvPicPr>
        <p:blipFill>
          <a:blip r:embed="rId2"/>
          <a:srcRect l="27275" t="0" r="0" b="0"/>
          <a:stretch/>
        </p:blipFill>
        <p:spPr>
          <a:xfrm>
            <a:off x="0" y="0"/>
            <a:ext cx="5334120" cy="5500800"/>
          </a:xfrm>
          <a:prstGeom prst="rect">
            <a:avLst/>
          </a:prstGeom>
          <a:ln w="0">
            <a:noFill/>
          </a:ln>
        </p:spPr>
      </p:pic>
      <p:sp>
        <p:nvSpPr>
          <p:cNvPr id="44" name="任意多边形 5"/>
          <p:cNvSpPr/>
          <p:nvPr/>
        </p:nvSpPr>
        <p:spPr>
          <a:xfrm>
            <a:off x="2571840" y="0"/>
            <a:ext cx="6572160" cy="685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4"/>
          <p:cNvSpPr/>
          <p:nvPr/>
        </p:nvSpPr>
        <p:spPr>
          <a:xfrm>
            <a:off x="3000240" y="0"/>
            <a:ext cx="6143760" cy="6858000"/>
          </a:xfrm>
          <a:prstGeom prst="pi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3429000" y="0"/>
            <a:ext cx="5715000" cy="6858000"/>
          </a:xfrm>
          <a:prstGeom prst="pie">
            <a:avLst/>
          </a:prstGeom>
          <a:gradFill rotWithShape="0">
            <a:gsLst>
              <a:gs pos="0">
                <a:srgbClr val="4b9feb"/>
              </a:gs>
              <a:gs pos="100000">
                <a:srgbClr val="558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0" y="1701720"/>
            <a:ext cx="4748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81CC-C4DC-4DAF-9264-F18BAD65E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55640" y="1701720"/>
            <a:ext cx="46818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职场规划演讲</a:t>
            </a:r>
            <a:r>
              <a:rPr b="0" lang="en-US" sz="36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000" y="2781000"/>
            <a:ext cx="487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华文细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9080" y="2349360"/>
            <a:ext cx="2786040" cy="503280"/>
            <a:chOff x="5869080" y="2349360"/>
            <a:chExt cx="2786040" cy="503280"/>
          </a:xfrm>
        </p:grpSpPr>
        <p:sp>
          <p:nvSpPr>
            <p:cNvPr id="91" name="Rectangle 10"/>
            <p:cNvSpPr/>
            <p:nvPr/>
          </p:nvSpPr>
          <p:spPr>
            <a:xfrm>
              <a:off x="5869080" y="2349360"/>
              <a:ext cx="2786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8" descr="Unbenannt-2"/>
            <p:cNvPicPr/>
            <p:nvPr/>
          </p:nvPicPr>
          <p:blipFill>
            <a:blip r:embed="rId1"/>
            <a:stretch/>
          </p:blipFill>
          <p:spPr>
            <a:xfrm>
              <a:off x="6094080" y="2420640"/>
              <a:ext cx="28116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360" y="2565360"/>
            <a:ext cx="4748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5D2-F421-43B1-8B3D-58FBD45586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23Z</dcterms:created>
  <dc:creator/>
  <dc:description/>
  <dc:language>en-US</dc:language>
  <cp:lastModifiedBy>dell</cp:lastModifiedBy>
  <dcterms:modified xsi:type="dcterms:W3CDTF">2015-07-04T06:24:3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