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F8B-C7CB-4AFE-8EF0-02BB3A22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1B7-BD7F-4763-9FB5-B855FC14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206-F726-4625-816F-34122CBD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5FD-1CC0-4C4F-B1F2-3FE75FE4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3629-6CA8-4486-B68B-9EC507AA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43EE-2C59-4B07-A260-A2DFAC1A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A376-1A9D-4150-B01A-C0337040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6B67-6DBF-4922-A5C1-E5256833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FA27-CC75-4662-8469-523CDEB3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01440" y="274320"/>
            <a:ext cx="59864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98E0-E4DA-4D5D-85A2-FA882119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C46D-8AF2-42A3-8EBD-C6809AB9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C1D-90D9-4C63-9FE4-1885F650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5361-68F8-4CCD-BE32-3AE87BD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92DF-DC57-44B5-B7C1-D8778919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CA25-8523-4744-BE21-9169929F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C961-4B53-4CD9-82FA-5F5E3FB5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C722-F0B2-43BD-8D7B-BA331FA1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FB4-356D-457A-942D-DA60149A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4B6-2262-4304-B489-8ADEEFA7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C07-3C4B-4674-AB17-90263749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01440" y="274320"/>
            <a:ext cx="59864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0F6-E778-4AB4-AC9E-B020768D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6A7-CFA9-45E5-A5F3-0C77728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AE7-CF05-460F-873D-317C840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8F7-95BC-44A0-820A-3860347F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9282" t="47367" r="54942" b="32551"/>
          <a:stretch/>
        </p:blipFill>
        <p:spPr>
          <a:xfrm>
            <a:off x="0" y="0"/>
            <a:ext cx="2809800" cy="136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978E-C57C-4460-A14B-4B3E8C7CA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56668" t="0" r="14820" b="0"/>
          <a:stretch/>
        </p:blipFill>
        <p:spPr>
          <a:xfrm>
            <a:off x="7077240" y="1341360"/>
            <a:ext cx="26064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16332" b="0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4510080"/>
            <a:ext cx="640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2478-AF7A-4ED9-842B-DC639E758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4510080"/>
            <a:ext cx="640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国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5376960"/>
            <a:ext cx="3889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4CA-D056-4513-B8EE-93DC318A40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52:57Z</dcterms:created>
  <dc:creator/>
  <dc:description/>
  <dc:language>en-US</dc:language>
  <cp:lastModifiedBy/>
  <dcterms:modified xsi:type="dcterms:W3CDTF">2015-07-04T06:22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