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AE46-1BB5-4209-B2E2-7E8ED8D3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0035-9BF9-4F9D-9005-7D27FA07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A589-AF82-478A-8E7E-6D5B209D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35E9-66B3-4D30-9EE1-5B86464D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0FED-5285-4507-91CE-90B97640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A3571-9557-47CC-BCE4-2D28848C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351C5-6592-4BC6-829E-55E6958A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AF185-3715-4628-B372-D971AAD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D0834-91A1-4F5D-8B46-802362C2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AA8D9-0EFB-479D-9F7A-7AF14E8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95EB9-FB0D-4252-B899-D7108F0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882F-285B-47B1-A577-7F873A86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42F04-349C-4C3E-8278-E97EFBD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2A47-CE88-41B2-A19B-31D2A07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BBF4B-4160-45E6-87D2-EE92FE54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5BE55-A270-4B3A-AAD5-8343E551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AF408-005D-4B7A-9D34-88BA1B11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0C6F-CE80-4D8B-A562-6056EE3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1A24-2337-481F-B87D-533ECE5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A30F-435A-4874-9CFE-11DDE32E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52D3-D58F-4778-9184-0FC67E5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E4DA-310C-4759-ACD4-113740A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F453-9BE7-42D1-84C3-2DDB1B6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ADCA-FF2A-43F7-96AB-CF9193E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848-A1F6-4A3E-A598-5BA5526B70A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455F-69A7-483B-8052-10B79E28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8" descr="5.png"/>
          <p:cNvPicPr/>
          <p:nvPr/>
        </p:nvPicPr>
        <p:blipFill>
          <a:blip r:embed="rId3"/>
          <a:stretch/>
        </p:blipFill>
        <p:spPr>
          <a:xfrm>
            <a:off x="-321624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5.png"/>
          <p:cNvPicPr/>
          <p:nvPr/>
        </p:nvPicPr>
        <p:blipFill>
          <a:blip r:embed="rId4"/>
          <a:stretch/>
        </p:blipFill>
        <p:spPr>
          <a:xfrm>
            <a:off x="-192420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" descr="5.png"/>
          <p:cNvPicPr/>
          <p:nvPr/>
        </p:nvPicPr>
        <p:blipFill>
          <a:blip r:embed="rId5"/>
          <a:stretch/>
        </p:blipFill>
        <p:spPr>
          <a:xfrm>
            <a:off x="-199548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zhongguofeng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中国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板荷塘春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-179280" y="6670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454" name="Oval 14"/>
            <p:cNvSpPr/>
            <p:nvPr/>
          </p:nvSpPr>
          <p:spPr>
            <a:xfrm>
              <a:off x="1295280" y="575568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6ade">
                    <a:alpha val="50196"/>
                  </a:srgbClr>
                </a:gs>
                <a:gs pos="50000">
                  <a:srgbClr val="2e3167"/>
                </a:gs>
                <a:gs pos="100000">
                  <a:srgbClr val="646ade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457" name="Oval 17"/>
            <p:cNvSpPr/>
            <p:nvPr/>
          </p:nvSpPr>
          <p:spPr>
            <a:xfrm>
              <a:off x="1295280" y="466344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>
                    <a:alpha val="50196"/>
                  </a:srgbClr>
                </a:gs>
                <a:gs pos="50000">
                  <a:srgbClr val="434e51"/>
                </a:gs>
                <a:gs pos="100000">
                  <a:srgbClr val="90a8b0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460" name="Oval 20"/>
            <p:cNvSpPr/>
            <p:nvPr/>
          </p:nvSpPr>
          <p:spPr>
            <a:xfrm>
              <a:off x="1295280" y="356796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afc3">
                    <a:alpha val="50196"/>
                  </a:srgbClr>
                </a:gs>
                <a:gs pos="50000">
                  <a:srgbClr val="0d515a"/>
                </a:gs>
                <a:gs pos="100000">
                  <a:srgbClr val="1bafc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60560" y="36385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471" name="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472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prstGeom prst="pie">
                <a:avLst/>
              </a:pr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127880" y="4138920"/>
              <a:ext cx="2802240" cy="1582560"/>
              <a:chOff x="1127880" y="4138920"/>
              <a:chExt cx="2802240" cy="1582560"/>
            </a:xfrm>
          </p:grpSpPr>
          <p:sp>
            <p:nvSpPr>
              <p:cNvPr id="476" name="Freeform 12"/>
              <p:cNvSpPr/>
              <p:nvPr/>
            </p:nvSpPr>
            <p:spPr>
              <a:xfrm>
                <a:off x="1127880" y="4671720"/>
                <a:ext cx="110052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"/>
              <p:cNvSpPr/>
              <p:nvPr/>
            </p:nvSpPr>
            <p:spPr>
              <a:xfrm>
                <a:off x="2216160" y="4590720"/>
                <a:ext cx="1713600" cy="1126080"/>
              </a:xfrm>
              <a:prstGeom prst="pie">
                <a:avLst/>
              </a:pr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4"/>
              <p:cNvSpPr/>
              <p:nvPr/>
            </p:nvSpPr>
            <p:spPr>
              <a:xfrm>
                <a:off x="1127880" y="4138920"/>
                <a:ext cx="280224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480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484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prstGeom prst="pie">
                <a:avLst/>
              </a:pr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9" descr="num11"/>
          <p:cNvPicPr/>
          <p:nvPr/>
        </p:nvPicPr>
        <p:blipFill>
          <a:blip r:embed="rId1"/>
          <a:stretch/>
        </p:blipFill>
        <p:spPr>
          <a:xfrm>
            <a:off x="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90a8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98bf1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500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503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506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509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90a8b0">
                    <a:alpha val="0"/>
                  </a:srgbClr>
                </a:gs>
                <a:gs pos="50000">
                  <a:srgbClr val="c9d5d9"/>
                </a:gs>
                <a:gs pos="100000">
                  <a:srgbClr val="90a8b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5"/>
          <p:cNvSpPr/>
          <p:nvPr/>
        </p:nvSpPr>
        <p:spPr>
          <a:xfrm rot="16020000">
            <a:off x="5590800" y="2011320"/>
            <a:ext cx="3399120" cy="3531960"/>
          </a:xfrm>
          <a:prstGeom prst="pie">
            <a:avLst/>
          </a:prstGeom>
          <a:gradFill rotWithShape="0">
            <a:gsLst>
              <a:gs pos="0">
                <a:srgbClr val="646ade"/>
              </a:gs>
              <a:gs pos="50000">
                <a:srgbClr val="3c4086"/>
              </a:gs>
              <a:gs pos="100000">
                <a:srgbClr val="646ade"/>
              </a:gs>
            </a:gsLst>
            <a:lin ang="136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rot="10800000">
            <a:off x="5579640" y="2349000"/>
            <a:ext cx="3343320" cy="3343320"/>
          </a:xfrm>
          <a:prstGeom prst="pie">
            <a:avLst/>
          </a:prstGeom>
          <a:gradFill rotWithShape="0">
            <a:gsLst>
              <a:gs pos="0">
                <a:srgbClr val="90a8b0"/>
              </a:gs>
              <a:gs pos="50000">
                <a:srgbClr val="57656a"/>
              </a:gs>
              <a:gs pos="100000">
                <a:srgbClr val="90a8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7"/>
          <p:cNvSpPr/>
          <p:nvPr/>
        </p:nvSpPr>
        <p:spPr>
          <a:xfrm rot="5400000">
            <a:off x="5417640" y="2080800"/>
            <a:ext cx="3343320" cy="3343320"/>
          </a:xfrm>
          <a:prstGeom prst="pie">
            <a:avLst/>
          </a:prstGeom>
          <a:gradFill rotWithShape="0">
            <a:gsLst>
              <a:gs pos="0">
                <a:srgbClr val="98bf1d"/>
              </a:gs>
              <a:gs pos="50000">
                <a:srgbClr val="5c7312"/>
              </a:gs>
              <a:gs pos="100000">
                <a:srgbClr val="98bf1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5419800" y="2082960"/>
            <a:ext cx="3343320" cy="3342960"/>
          </a:xfrm>
          <a:prstGeom prst="pie">
            <a:avLst/>
          </a:prstGeom>
          <a:gradFill rotWithShape="0">
            <a:gsLst>
              <a:gs pos="0">
                <a:srgbClr val="1bafc3"/>
              </a:gs>
              <a:gs pos="50000">
                <a:srgbClr val="106a76"/>
              </a:gs>
              <a:gs pos="100000">
                <a:srgbClr val="1bafc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6377040" y="350532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0" descr="1"/>
          <p:cNvPicPr/>
          <p:nvPr/>
        </p:nvPicPr>
        <p:blipFill>
          <a:blip r:embed="rId1"/>
          <a:stretch/>
        </p:blipFill>
        <p:spPr>
          <a:xfrm>
            <a:off x="312840" y="2801880"/>
            <a:ext cx="5800680" cy="961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1" descr="1"/>
          <p:cNvPicPr/>
          <p:nvPr/>
        </p:nvPicPr>
        <p:blipFill>
          <a:blip r:embed="rId2"/>
          <a:stretch/>
        </p:blipFill>
        <p:spPr>
          <a:xfrm>
            <a:off x="312840" y="4622760"/>
            <a:ext cx="5800680" cy="9619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12"/>
          <p:cNvSpPr/>
          <p:nvPr/>
        </p:nvSpPr>
        <p:spPr>
          <a:xfrm>
            <a:off x="558720" y="18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46ade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65200" y="216540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558720" y="2835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afc3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565200" y="316080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6"/>
          <p:cNvSpPr/>
          <p:nvPr/>
        </p:nvSpPr>
        <p:spPr>
          <a:xfrm>
            <a:off x="558720" y="3772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bf1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565200" y="408636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558720" y="469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0a8b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565200" y="500076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bafc3"/>
              </a:gs>
              <a:gs pos="100000">
                <a:srgbClr val="1274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8bf1d"/>
              </a:gs>
              <a:gs pos="100000">
                <a:srgbClr val="556b1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646ade"/>
              </a:gs>
              <a:gs pos="100000">
                <a:srgbClr val="393d7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4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5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-250920" y="638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ffffff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465280" y="3594240"/>
            <a:ext cx="1788840" cy="407520"/>
            <a:chOff x="2465280" y="3594240"/>
            <a:chExt cx="1788840" cy="407520"/>
          </a:xfrm>
        </p:grpSpPr>
        <p:sp>
          <p:nvSpPr>
            <p:cNvPr id="556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465280" y="3652200"/>
              <a:ext cx="97200" cy="320400"/>
              <a:chOff x="2465280" y="3652200"/>
              <a:chExt cx="97200" cy="320400"/>
            </a:xfrm>
          </p:grpSpPr>
          <p:sp>
            <p:nvSpPr>
              <p:cNvPr id="558" name="AutoShape 7"/>
              <p:cNvSpPr/>
              <p:nvPr/>
            </p:nvSpPr>
            <p:spPr>
              <a:xfrm flipV="1" rot="21333000">
                <a:off x="24775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8"/>
              <p:cNvSpPr/>
              <p:nvPr/>
            </p:nvSpPr>
            <p:spPr>
              <a:xfrm flipV="1" rot="21333000">
                <a:off x="24822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9"/>
              <p:cNvSpPr/>
              <p:nvPr/>
            </p:nvSpPr>
            <p:spPr>
              <a:xfrm flipV="1" rot="21333000">
                <a:off x="24804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562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12"/>
              <p:cNvSpPr/>
              <p:nvPr/>
            </p:nvSpPr>
            <p:spPr>
              <a:xfrm flipH="1" flipV="1" rot="267000">
                <a:off x="41868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13"/>
              <p:cNvSpPr/>
              <p:nvPr/>
            </p:nvSpPr>
            <p:spPr>
              <a:xfrm flipH="1" flipV="1" rot="267000">
                <a:off x="42069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9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1480" y="3594240"/>
            <a:ext cx="1788840" cy="407520"/>
            <a:chOff x="501480" y="3594240"/>
            <a:chExt cx="1788840" cy="407520"/>
          </a:xfrm>
        </p:grpSpPr>
        <p:sp>
          <p:nvSpPr>
            <p:cNvPr id="582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01480" y="3652200"/>
              <a:ext cx="97200" cy="320400"/>
              <a:chOff x="501480" y="3652200"/>
              <a:chExt cx="97200" cy="320400"/>
            </a:xfrm>
          </p:grpSpPr>
          <p:sp>
            <p:nvSpPr>
              <p:cNvPr id="584" name="AutoShape 33"/>
              <p:cNvSpPr/>
              <p:nvPr/>
            </p:nvSpPr>
            <p:spPr>
              <a:xfrm flipV="1" rot="21333000">
                <a:off x="5137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34"/>
              <p:cNvSpPr/>
              <p:nvPr/>
            </p:nvSpPr>
            <p:spPr>
              <a:xfrm flipV="1" rot="21333000">
                <a:off x="5184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5"/>
              <p:cNvSpPr/>
              <p:nvPr/>
            </p:nvSpPr>
            <p:spPr>
              <a:xfrm flipV="1" rot="21333000">
                <a:off x="5166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588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8"/>
              <p:cNvSpPr/>
              <p:nvPr/>
            </p:nvSpPr>
            <p:spPr>
              <a:xfrm flipH="1" flipV="1" rot="267000">
                <a:off x="22230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39"/>
              <p:cNvSpPr/>
              <p:nvPr/>
            </p:nvSpPr>
            <p:spPr>
              <a:xfrm flipH="1" flipV="1" rot="267000">
                <a:off x="22431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1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71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4586040" y="3594240"/>
            <a:ext cx="1787400" cy="407520"/>
            <a:chOff x="4586040" y="3594240"/>
            <a:chExt cx="1787400" cy="407520"/>
          </a:xfrm>
        </p:grpSpPr>
        <p:sp>
          <p:nvSpPr>
            <p:cNvPr id="593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586040" y="3652200"/>
              <a:ext cx="97200" cy="320400"/>
              <a:chOff x="4586040" y="3652200"/>
              <a:chExt cx="97200" cy="320400"/>
            </a:xfrm>
          </p:grpSpPr>
          <p:sp>
            <p:nvSpPr>
              <p:cNvPr id="595" name="AutoShape 44"/>
              <p:cNvSpPr/>
              <p:nvPr/>
            </p:nvSpPr>
            <p:spPr>
              <a:xfrm flipV="1" rot="21333000">
                <a:off x="459828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utoShape 45"/>
              <p:cNvSpPr/>
              <p:nvPr/>
            </p:nvSpPr>
            <p:spPr>
              <a:xfrm flipV="1" rot="21333000">
                <a:off x="460296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46"/>
              <p:cNvSpPr/>
              <p:nvPr/>
            </p:nvSpPr>
            <p:spPr>
              <a:xfrm flipV="1" rot="21333000">
                <a:off x="460116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599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49"/>
              <p:cNvSpPr/>
              <p:nvPr/>
            </p:nvSpPr>
            <p:spPr>
              <a:xfrm flipH="1" flipV="1" rot="267000">
                <a:off x="630612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50"/>
              <p:cNvSpPr/>
              <p:nvPr/>
            </p:nvSpPr>
            <p:spPr>
              <a:xfrm flipH="1" flipV="1" rot="267000">
                <a:off x="632628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2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960" y="292140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3" name=""/>
          <p:cNvGrpSpPr/>
          <p:nvPr/>
        </p:nvGrpSpPr>
        <p:grpSpPr>
          <a:xfrm>
            <a:off x="6541920" y="3594240"/>
            <a:ext cx="1788840" cy="407520"/>
            <a:chOff x="6541920" y="3594240"/>
            <a:chExt cx="1788840" cy="407520"/>
          </a:xfrm>
        </p:grpSpPr>
        <p:sp>
          <p:nvSpPr>
            <p:cNvPr id="604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541920" y="3652200"/>
              <a:ext cx="97200" cy="320400"/>
              <a:chOff x="6541920" y="3652200"/>
              <a:chExt cx="97200" cy="320400"/>
            </a:xfrm>
          </p:grpSpPr>
          <p:sp>
            <p:nvSpPr>
              <p:cNvPr id="606" name="AutoShape 55"/>
              <p:cNvSpPr/>
              <p:nvPr/>
            </p:nvSpPr>
            <p:spPr>
              <a:xfrm flipV="1" rot="21333000">
                <a:off x="655416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56"/>
              <p:cNvSpPr/>
              <p:nvPr/>
            </p:nvSpPr>
            <p:spPr>
              <a:xfrm flipV="1" rot="21333000">
                <a:off x="655884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57"/>
              <p:cNvSpPr/>
              <p:nvPr/>
            </p:nvSpPr>
            <p:spPr>
              <a:xfrm flipV="1" rot="21333000">
                <a:off x="655704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610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60"/>
              <p:cNvSpPr/>
              <p:nvPr/>
            </p:nvSpPr>
            <p:spPr>
              <a:xfrm flipH="1" flipV="1" rot="267000">
                <a:off x="826344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61"/>
              <p:cNvSpPr/>
              <p:nvPr/>
            </p:nvSpPr>
            <p:spPr>
              <a:xfrm flipH="1" flipV="1" rot="267000">
                <a:off x="828360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56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14" name="AutoShape 63"/>
          <p:cNvCxnSpPr>
            <a:stCxn id="615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AutoShape 64"/>
          <p:cNvCxnSpPr>
            <a:stCxn id="615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6078960" y="1219320"/>
            <a:ext cx="1483920" cy="366120"/>
            <a:chOff x="6078960" y="1219320"/>
            <a:chExt cx="1483920" cy="366120"/>
          </a:xfrm>
        </p:grpSpPr>
        <p:sp>
          <p:nvSpPr>
            <p:cNvPr id="618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6078960" y="1271520"/>
              <a:ext cx="81720" cy="288000"/>
              <a:chOff x="6078960" y="1271520"/>
              <a:chExt cx="81720" cy="288000"/>
            </a:xfrm>
          </p:grpSpPr>
          <p:sp>
            <p:nvSpPr>
              <p:cNvPr id="620" name="AutoShape 68"/>
              <p:cNvSpPr/>
              <p:nvPr/>
            </p:nvSpPr>
            <p:spPr>
              <a:xfrm flipV="1" rot="21333000">
                <a:off x="6089760" y="127332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69"/>
              <p:cNvSpPr/>
              <p:nvPr/>
            </p:nvSpPr>
            <p:spPr>
              <a:xfrm flipV="1" rot="21333000">
                <a:off x="6093000" y="129420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70"/>
              <p:cNvSpPr/>
              <p:nvPr/>
            </p:nvSpPr>
            <p:spPr>
              <a:xfrm flipV="1" rot="21333000">
                <a:off x="6091560" y="132588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624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73"/>
              <p:cNvSpPr/>
              <p:nvPr/>
            </p:nvSpPr>
            <p:spPr>
              <a:xfrm flipH="1" flipV="1" rot="267000">
                <a:off x="7506360" y="12920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4"/>
              <p:cNvSpPr/>
              <p:nvPr/>
            </p:nvSpPr>
            <p:spPr>
              <a:xfrm flipH="1" flipV="1" rot="267000">
                <a:off x="7523640" y="132552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7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60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6078960" y="1825560"/>
            <a:ext cx="1483920" cy="366480"/>
            <a:chOff x="6078960" y="1825560"/>
            <a:chExt cx="1483920" cy="366480"/>
          </a:xfrm>
        </p:grpSpPr>
        <p:sp>
          <p:nvSpPr>
            <p:cNvPr id="629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6078960" y="1877760"/>
              <a:ext cx="81720" cy="288000"/>
              <a:chOff x="6078960" y="1877760"/>
              <a:chExt cx="81720" cy="288000"/>
            </a:xfrm>
          </p:grpSpPr>
          <p:sp>
            <p:nvSpPr>
              <p:cNvPr id="631" name="AutoShape 79"/>
              <p:cNvSpPr/>
              <p:nvPr/>
            </p:nvSpPr>
            <p:spPr>
              <a:xfrm flipV="1" rot="21333000">
                <a:off x="6089760" y="187956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80"/>
              <p:cNvSpPr/>
              <p:nvPr/>
            </p:nvSpPr>
            <p:spPr>
              <a:xfrm flipV="1" rot="21333000">
                <a:off x="6093000" y="189972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81"/>
              <p:cNvSpPr/>
              <p:nvPr/>
            </p:nvSpPr>
            <p:spPr>
              <a:xfrm flipV="1" rot="21333000">
                <a:off x="6091560" y="193140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635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84"/>
              <p:cNvSpPr/>
              <p:nvPr/>
            </p:nvSpPr>
            <p:spPr>
              <a:xfrm flipH="1" flipV="1" rot="267000">
                <a:off x="7506360" y="189792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85"/>
              <p:cNvSpPr/>
              <p:nvPr/>
            </p:nvSpPr>
            <p:spPr>
              <a:xfrm flipH="1" flipV="1" rot="267000">
                <a:off x="7523640" y="193176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8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360" y="12765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39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1" name=""/>
          <p:cNvGrpSpPr/>
          <p:nvPr/>
        </p:nvGrpSpPr>
        <p:grpSpPr>
          <a:xfrm>
            <a:off x="1304640" y="2695680"/>
            <a:ext cx="2048400" cy="364680"/>
            <a:chOff x="1304640" y="2695680"/>
            <a:chExt cx="2048400" cy="364680"/>
          </a:xfrm>
        </p:grpSpPr>
        <p:sp>
          <p:nvSpPr>
            <p:cNvPr id="642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304640" y="2746800"/>
              <a:ext cx="105120" cy="288720"/>
              <a:chOff x="1304640" y="2746800"/>
              <a:chExt cx="105120" cy="288720"/>
            </a:xfrm>
          </p:grpSpPr>
          <p:sp>
            <p:nvSpPr>
              <p:cNvPr id="644" name="AutoShape 92"/>
              <p:cNvSpPr/>
              <p:nvPr/>
            </p:nvSpPr>
            <p:spPr>
              <a:xfrm flipV="1" rot="21333000">
                <a:off x="131580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93"/>
              <p:cNvSpPr/>
              <p:nvPr/>
            </p:nvSpPr>
            <p:spPr>
              <a:xfrm flipV="1" rot="21333000">
                <a:off x="132048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94"/>
              <p:cNvSpPr/>
              <p:nvPr/>
            </p:nvSpPr>
            <p:spPr>
              <a:xfrm flipV="1" rot="21333000">
                <a:off x="131796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648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97"/>
              <p:cNvSpPr/>
              <p:nvPr/>
            </p:nvSpPr>
            <p:spPr>
              <a:xfrm flipH="1" flipV="1" rot="267000">
                <a:off x="327852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98"/>
              <p:cNvSpPr/>
              <p:nvPr/>
            </p:nvSpPr>
            <p:spPr>
              <a:xfrm flipH="1" flipV="1" rot="267000">
                <a:off x="330192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1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680" y="188748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52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AutoShape 102"/>
          <p:cNvCxnSpPr>
            <a:stCxn id="615" idx="3"/>
            <a:endCxn id="620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AutoShape 103"/>
          <p:cNvCxnSpPr>
            <a:stCxn id="615" idx="3"/>
            <a:endCxn id="631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56" name=""/>
          <p:cNvGrpSpPr/>
          <p:nvPr/>
        </p:nvGrpSpPr>
        <p:grpSpPr>
          <a:xfrm>
            <a:off x="5425560" y="2695680"/>
            <a:ext cx="2050560" cy="364680"/>
            <a:chOff x="5425560" y="2695680"/>
            <a:chExt cx="2050560" cy="364680"/>
          </a:xfrm>
        </p:grpSpPr>
        <p:sp>
          <p:nvSpPr>
            <p:cNvPr id="657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425560" y="2746800"/>
              <a:ext cx="105120" cy="288720"/>
              <a:chOff x="5425560" y="2746800"/>
              <a:chExt cx="105120" cy="288720"/>
            </a:xfrm>
          </p:grpSpPr>
          <p:sp>
            <p:nvSpPr>
              <p:cNvPr id="659" name="AutoShape 107"/>
              <p:cNvSpPr/>
              <p:nvPr/>
            </p:nvSpPr>
            <p:spPr>
              <a:xfrm flipV="1" rot="21333000">
                <a:off x="543672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08"/>
              <p:cNvSpPr/>
              <p:nvPr/>
            </p:nvSpPr>
            <p:spPr>
              <a:xfrm flipV="1" rot="21333000">
                <a:off x="544140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utoShape 109"/>
              <p:cNvSpPr/>
              <p:nvPr/>
            </p:nvSpPr>
            <p:spPr>
              <a:xfrm flipV="1" rot="21333000">
                <a:off x="543888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663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112"/>
              <p:cNvSpPr/>
              <p:nvPr/>
            </p:nvSpPr>
            <p:spPr>
              <a:xfrm flipH="1" flipV="1" rot="267000">
                <a:off x="740160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113"/>
              <p:cNvSpPr/>
              <p:nvPr/>
            </p:nvSpPr>
            <p:spPr>
              <a:xfrm flipH="1" flipV="1" rot="267000">
                <a:off x="742500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6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40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615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2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184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31B0-CD80-4F2F-9E6E-C340DE1D997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92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4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7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99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02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4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7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09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126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62720" y="2198520"/>
            <a:ext cx="2379960" cy="3833280"/>
            <a:chOff x="6462720" y="2198520"/>
            <a:chExt cx="2379960" cy="3833280"/>
          </a:xfrm>
        </p:grpSpPr>
        <p:grpSp>
          <p:nvGrpSpPr>
            <p:cNvPr id="129" name=""/>
            <p:cNvGrpSpPr/>
            <p:nvPr/>
          </p:nvGrpSpPr>
          <p:grpSpPr>
            <a:xfrm>
              <a:off x="7132320" y="3344400"/>
              <a:ext cx="1710360" cy="2687400"/>
              <a:chOff x="7132320" y="3344400"/>
              <a:chExt cx="1710360" cy="26874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132320" y="3524400"/>
                <a:ext cx="1581840" cy="2507400"/>
                <a:chOff x="7132320" y="3524400"/>
                <a:chExt cx="1581840" cy="2507400"/>
              </a:xfrm>
            </p:grpSpPr>
            <p:sp>
              <p:nvSpPr>
                <p:cNvPr id="131" name="Freeform 8"/>
                <p:cNvSpPr/>
                <p:nvPr/>
              </p:nvSpPr>
              <p:spPr>
                <a:xfrm rot="3876600">
                  <a:off x="6668280" y="4498200"/>
                  <a:ext cx="2509920" cy="559800"/>
                </a:xfrm>
                <a:prstGeom prst="pie">
                  <a:avLst/>
                </a:pr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9"/>
                <p:cNvSpPr/>
                <p:nvPr/>
              </p:nvSpPr>
              <p:spPr>
                <a:xfrm rot="3876600">
                  <a:off x="8176680" y="5468760"/>
                  <a:ext cx="394560" cy="458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628760" y="3344400"/>
                <a:ext cx="1213920" cy="1924200"/>
                <a:chOff x="7628760" y="3344400"/>
                <a:chExt cx="1213920" cy="1924200"/>
              </a:xfrm>
            </p:grpSpPr>
            <p:sp>
              <p:nvSpPr>
                <p:cNvPr id="134" name="Freeform 11"/>
                <p:cNvSpPr/>
                <p:nvPr/>
              </p:nvSpPr>
              <p:spPr>
                <a:xfrm flipV="1" rot="3876600">
                  <a:off x="7272360" y="4091040"/>
                  <a:ext cx="192600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1bafc3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2"/>
                <p:cNvSpPr/>
                <p:nvPr/>
              </p:nvSpPr>
              <p:spPr>
                <a:xfrm flipV="1" rot="3876600">
                  <a:off x="8412480" y="484488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Oval 13"/>
            <p:cNvSpPr/>
            <p:nvPr/>
          </p:nvSpPr>
          <p:spPr>
            <a:xfrm>
              <a:off x="6462720" y="219852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6467400" y="220320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bafc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6558480" y="2311200"/>
              <a:ext cx="1508040" cy="15037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6553440" y="2303280"/>
              <a:ext cx="1508400" cy="15037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0"/>
                  </a:srgbClr>
                </a:gs>
                <a:gs pos="100000">
                  <a:srgbClr val="116f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6633360" y="2387880"/>
              <a:ext cx="1358280" cy="13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663600" y="2408400"/>
              <a:ext cx="1316520" cy="1312920"/>
              <a:chOff x="6663600" y="2408400"/>
              <a:chExt cx="1316520" cy="1312920"/>
            </a:xfrm>
          </p:grpSpPr>
          <p:sp>
            <p:nvSpPr>
              <p:cNvPr id="142" name="Oval 19"/>
              <p:cNvSpPr/>
              <p:nvPr/>
            </p:nvSpPr>
            <p:spPr>
              <a:xfrm>
                <a:off x="6663600" y="2408400"/>
                <a:ext cx="1316520" cy="131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0"/>
              <p:cNvSpPr/>
              <p:nvPr/>
            </p:nvSpPr>
            <p:spPr>
              <a:xfrm>
                <a:off x="6680520" y="2415600"/>
                <a:ext cx="1284840" cy="128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1"/>
              <p:cNvSpPr/>
              <p:nvPr/>
            </p:nvSpPr>
            <p:spPr>
              <a:xfrm>
                <a:off x="6693840" y="2428200"/>
                <a:ext cx="1221840" cy="119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2"/>
              <p:cNvSpPr/>
              <p:nvPr/>
            </p:nvSpPr>
            <p:spPr>
              <a:xfrm>
                <a:off x="6765480" y="2461680"/>
                <a:ext cx="1086120" cy="97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23"/>
            <p:cNvSpPr/>
            <p:nvPr/>
          </p:nvSpPr>
          <p:spPr>
            <a:xfrm rot="3925800">
              <a:off x="7151040" y="4465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 rot="3925800">
              <a:off x="7648560" y="4167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495680" y="2327400"/>
            <a:ext cx="2145600" cy="3506040"/>
            <a:chOff x="4495680" y="2327400"/>
            <a:chExt cx="2145600" cy="3506040"/>
          </a:xfrm>
        </p:grpSpPr>
        <p:grpSp>
          <p:nvGrpSpPr>
            <p:cNvPr id="149" name=""/>
            <p:cNvGrpSpPr/>
            <p:nvPr/>
          </p:nvGrpSpPr>
          <p:grpSpPr>
            <a:xfrm>
              <a:off x="4930560" y="3145680"/>
              <a:ext cx="1710720" cy="2687760"/>
              <a:chOff x="4930560" y="3145680"/>
              <a:chExt cx="1710720" cy="26877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4930560" y="3325320"/>
                <a:ext cx="1582560" cy="2508120"/>
                <a:chOff x="4930560" y="3325320"/>
                <a:chExt cx="1582560" cy="2508120"/>
              </a:xfrm>
            </p:grpSpPr>
            <p:sp>
              <p:nvSpPr>
                <p:cNvPr id="151" name="Freeform 28"/>
                <p:cNvSpPr/>
                <p:nvPr/>
              </p:nvSpPr>
              <p:spPr>
                <a:xfrm rot="3876600">
                  <a:off x="4466520" y="4299120"/>
                  <a:ext cx="2510280" cy="56016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9"/>
                <p:cNvSpPr/>
                <p:nvPr/>
              </p:nvSpPr>
              <p:spPr>
                <a:xfrm rot="3876600">
                  <a:off x="5975280" y="527040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27360" y="3145680"/>
                <a:ext cx="1213920" cy="1924560"/>
                <a:chOff x="5427360" y="3145680"/>
                <a:chExt cx="1213920" cy="1924560"/>
              </a:xfrm>
            </p:grpSpPr>
            <p:sp>
              <p:nvSpPr>
                <p:cNvPr id="154" name="Freeform 31"/>
                <p:cNvSpPr/>
                <p:nvPr/>
              </p:nvSpPr>
              <p:spPr>
                <a:xfrm flipV="1" rot="3876600">
                  <a:off x="5070960" y="3893040"/>
                  <a:ext cx="19263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8bf1d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2"/>
                <p:cNvSpPr/>
                <p:nvPr/>
              </p:nvSpPr>
              <p:spPr>
                <a:xfrm flipV="1" rot="3876600">
                  <a:off x="6211080" y="4646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33"/>
            <p:cNvSpPr/>
            <p:nvPr/>
          </p:nvSpPr>
          <p:spPr>
            <a:xfrm rot="3925800">
              <a:off x="4941720" y="4187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4"/>
            <p:cNvSpPr/>
            <p:nvPr/>
          </p:nvSpPr>
          <p:spPr>
            <a:xfrm rot="3925800">
              <a:off x="5438880" y="3889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5"/>
            <p:cNvSpPr/>
            <p:nvPr/>
          </p:nvSpPr>
          <p:spPr>
            <a:xfrm>
              <a:off x="4495680" y="232740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4495680" y="23511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8bf1d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7"/>
            <p:cNvSpPr/>
            <p:nvPr/>
          </p:nvSpPr>
          <p:spPr>
            <a:xfrm>
              <a:off x="4586400" y="242280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38"/>
            <p:cNvSpPr/>
            <p:nvPr/>
          </p:nvSpPr>
          <p:spPr>
            <a:xfrm>
              <a:off x="4572360" y="243216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100000">
                  <a:srgbClr val="657f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4648680" y="249444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672440" y="2502360"/>
              <a:ext cx="1096200" cy="1109520"/>
              <a:chOff x="4672440" y="2502360"/>
              <a:chExt cx="1096200" cy="1109520"/>
            </a:xfrm>
          </p:grpSpPr>
          <p:sp>
            <p:nvSpPr>
              <p:cNvPr id="164" name="Oval 41"/>
              <p:cNvSpPr/>
              <p:nvPr/>
            </p:nvSpPr>
            <p:spPr>
              <a:xfrm>
                <a:off x="4672440" y="250236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42"/>
              <p:cNvSpPr/>
              <p:nvPr/>
            </p:nvSpPr>
            <p:spPr>
              <a:xfrm>
                <a:off x="4686480" y="250848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43"/>
              <p:cNvSpPr/>
              <p:nvPr/>
            </p:nvSpPr>
            <p:spPr>
              <a:xfrm>
                <a:off x="4697640" y="251892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44"/>
              <p:cNvSpPr/>
              <p:nvPr/>
            </p:nvSpPr>
            <p:spPr>
              <a:xfrm>
                <a:off x="4757400" y="254736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2438280" y="2327400"/>
            <a:ext cx="2145600" cy="3506040"/>
            <a:chOff x="2438280" y="2327400"/>
            <a:chExt cx="2145600" cy="3506040"/>
          </a:xfrm>
        </p:grpSpPr>
        <p:grpSp>
          <p:nvGrpSpPr>
            <p:cNvPr id="169" name=""/>
            <p:cNvGrpSpPr/>
            <p:nvPr/>
          </p:nvGrpSpPr>
          <p:grpSpPr>
            <a:xfrm>
              <a:off x="2873160" y="3145680"/>
              <a:ext cx="1710720" cy="2687760"/>
              <a:chOff x="2873160" y="3145680"/>
              <a:chExt cx="1710720" cy="26877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873160" y="3325320"/>
                <a:ext cx="1582560" cy="2508120"/>
                <a:chOff x="2873160" y="3325320"/>
                <a:chExt cx="1582560" cy="2508120"/>
              </a:xfrm>
            </p:grpSpPr>
            <p:sp>
              <p:nvSpPr>
                <p:cNvPr id="171" name="Freeform 49"/>
                <p:cNvSpPr/>
                <p:nvPr/>
              </p:nvSpPr>
              <p:spPr>
                <a:xfrm rot="3876600">
                  <a:off x="2409120" y="4299120"/>
                  <a:ext cx="2510280" cy="56016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0"/>
                <p:cNvSpPr/>
                <p:nvPr/>
              </p:nvSpPr>
              <p:spPr>
                <a:xfrm rot="3876600">
                  <a:off x="3917880" y="527040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69960" y="3145680"/>
                <a:ext cx="1213920" cy="1924560"/>
                <a:chOff x="3369960" y="3145680"/>
                <a:chExt cx="1213920" cy="1924560"/>
              </a:xfrm>
            </p:grpSpPr>
            <p:sp>
              <p:nvSpPr>
                <p:cNvPr id="174" name="Freeform 52"/>
                <p:cNvSpPr/>
                <p:nvPr/>
              </p:nvSpPr>
              <p:spPr>
                <a:xfrm flipV="1" rot="3876600">
                  <a:off x="3013560" y="3893040"/>
                  <a:ext cx="19263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8bf1d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53"/>
                <p:cNvSpPr/>
                <p:nvPr/>
              </p:nvSpPr>
              <p:spPr>
                <a:xfrm flipV="1" rot="3876600">
                  <a:off x="4153680" y="4646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Text Box 54"/>
            <p:cNvSpPr/>
            <p:nvPr/>
          </p:nvSpPr>
          <p:spPr>
            <a:xfrm rot="3925800">
              <a:off x="2884320" y="4187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5"/>
            <p:cNvSpPr/>
            <p:nvPr/>
          </p:nvSpPr>
          <p:spPr>
            <a:xfrm rot="3925800">
              <a:off x="3381480" y="3889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6"/>
            <p:cNvSpPr/>
            <p:nvPr/>
          </p:nvSpPr>
          <p:spPr>
            <a:xfrm>
              <a:off x="2438280" y="232740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7"/>
            <p:cNvSpPr/>
            <p:nvPr/>
          </p:nvSpPr>
          <p:spPr>
            <a:xfrm>
              <a:off x="2438280" y="23511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8bf1d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8"/>
            <p:cNvSpPr/>
            <p:nvPr/>
          </p:nvSpPr>
          <p:spPr>
            <a:xfrm>
              <a:off x="2529000" y="242280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9"/>
            <p:cNvSpPr/>
            <p:nvPr/>
          </p:nvSpPr>
          <p:spPr>
            <a:xfrm>
              <a:off x="2514960" y="243216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100000">
                  <a:srgbClr val="657f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0"/>
            <p:cNvSpPr/>
            <p:nvPr/>
          </p:nvSpPr>
          <p:spPr>
            <a:xfrm>
              <a:off x="2591280" y="249444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615040" y="2502360"/>
              <a:ext cx="1096200" cy="1109520"/>
              <a:chOff x="2615040" y="2502360"/>
              <a:chExt cx="1096200" cy="1109520"/>
            </a:xfrm>
          </p:grpSpPr>
          <p:sp>
            <p:nvSpPr>
              <p:cNvPr id="184" name="Oval 62"/>
              <p:cNvSpPr/>
              <p:nvPr/>
            </p:nvSpPr>
            <p:spPr>
              <a:xfrm>
                <a:off x="2615040" y="250236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63"/>
              <p:cNvSpPr/>
              <p:nvPr/>
            </p:nvSpPr>
            <p:spPr>
              <a:xfrm>
                <a:off x="2629080" y="250848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64"/>
              <p:cNvSpPr/>
              <p:nvPr/>
            </p:nvSpPr>
            <p:spPr>
              <a:xfrm>
                <a:off x="2640240" y="251892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65"/>
              <p:cNvSpPr/>
              <p:nvPr/>
            </p:nvSpPr>
            <p:spPr>
              <a:xfrm>
                <a:off x="2700000" y="254736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457200" y="2327400"/>
            <a:ext cx="2145600" cy="3506040"/>
            <a:chOff x="457200" y="2327400"/>
            <a:chExt cx="2145600" cy="3506040"/>
          </a:xfrm>
        </p:grpSpPr>
        <p:grpSp>
          <p:nvGrpSpPr>
            <p:cNvPr id="189" name=""/>
            <p:cNvGrpSpPr/>
            <p:nvPr/>
          </p:nvGrpSpPr>
          <p:grpSpPr>
            <a:xfrm>
              <a:off x="892080" y="3145680"/>
              <a:ext cx="1710720" cy="2687760"/>
              <a:chOff x="892080" y="3145680"/>
              <a:chExt cx="1710720" cy="26877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92080" y="3325320"/>
                <a:ext cx="1582560" cy="2508120"/>
                <a:chOff x="892080" y="3325320"/>
                <a:chExt cx="1582560" cy="2508120"/>
              </a:xfrm>
            </p:grpSpPr>
            <p:sp>
              <p:nvSpPr>
                <p:cNvPr id="191" name="Freeform 69"/>
                <p:cNvSpPr/>
                <p:nvPr/>
              </p:nvSpPr>
              <p:spPr>
                <a:xfrm rot="3876600">
                  <a:off x="428040" y="4299120"/>
                  <a:ext cx="2510280" cy="56016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70"/>
                <p:cNvSpPr/>
                <p:nvPr/>
              </p:nvSpPr>
              <p:spPr>
                <a:xfrm rot="3876600">
                  <a:off x="1936800" y="527040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388880" y="3145680"/>
                <a:ext cx="1213920" cy="1924560"/>
                <a:chOff x="1388880" y="3145680"/>
                <a:chExt cx="1213920" cy="1924560"/>
              </a:xfrm>
            </p:grpSpPr>
            <p:sp>
              <p:nvSpPr>
                <p:cNvPr id="194" name="Freeform 72"/>
                <p:cNvSpPr/>
                <p:nvPr/>
              </p:nvSpPr>
              <p:spPr>
                <a:xfrm flipV="1" rot="3876600">
                  <a:off x="1032480" y="3893040"/>
                  <a:ext cx="19263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8bf1d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73"/>
                <p:cNvSpPr/>
                <p:nvPr/>
              </p:nvSpPr>
              <p:spPr>
                <a:xfrm flipV="1" rot="3876600">
                  <a:off x="2172600" y="4646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Text Box 74"/>
            <p:cNvSpPr/>
            <p:nvPr/>
          </p:nvSpPr>
          <p:spPr>
            <a:xfrm rot="3925800">
              <a:off x="903240" y="4187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5"/>
            <p:cNvSpPr/>
            <p:nvPr/>
          </p:nvSpPr>
          <p:spPr>
            <a:xfrm rot="3925800">
              <a:off x="1400400" y="3889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6"/>
            <p:cNvSpPr/>
            <p:nvPr/>
          </p:nvSpPr>
          <p:spPr>
            <a:xfrm>
              <a:off x="457200" y="232740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7"/>
            <p:cNvSpPr/>
            <p:nvPr/>
          </p:nvSpPr>
          <p:spPr>
            <a:xfrm>
              <a:off x="457200" y="23511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8bf1d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8"/>
            <p:cNvSpPr/>
            <p:nvPr/>
          </p:nvSpPr>
          <p:spPr>
            <a:xfrm>
              <a:off x="547920" y="242280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9"/>
            <p:cNvSpPr/>
            <p:nvPr/>
          </p:nvSpPr>
          <p:spPr>
            <a:xfrm>
              <a:off x="533880" y="243216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100000">
                  <a:srgbClr val="657f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0"/>
            <p:cNvSpPr/>
            <p:nvPr/>
          </p:nvSpPr>
          <p:spPr>
            <a:xfrm>
              <a:off x="610200" y="249444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33960" y="2502360"/>
              <a:ext cx="1096200" cy="1109520"/>
              <a:chOff x="633960" y="2502360"/>
              <a:chExt cx="1096200" cy="1109520"/>
            </a:xfrm>
          </p:grpSpPr>
          <p:sp>
            <p:nvSpPr>
              <p:cNvPr id="204" name="Oval 82"/>
              <p:cNvSpPr/>
              <p:nvPr/>
            </p:nvSpPr>
            <p:spPr>
              <a:xfrm>
                <a:off x="633960" y="250236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83"/>
              <p:cNvSpPr/>
              <p:nvPr/>
            </p:nvSpPr>
            <p:spPr>
              <a:xfrm>
                <a:off x="648000" y="250848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84"/>
              <p:cNvSpPr/>
              <p:nvPr/>
            </p:nvSpPr>
            <p:spPr>
              <a:xfrm>
                <a:off x="659160" y="251892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5"/>
              <p:cNvSpPr/>
              <p:nvPr/>
            </p:nvSpPr>
            <p:spPr>
              <a:xfrm>
                <a:off x="718920" y="254736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687400" y="1725120"/>
            <a:ext cx="3636000" cy="3619800"/>
            <a:chOff x="2687400" y="1725120"/>
            <a:chExt cx="3636000" cy="3619800"/>
          </a:xfrm>
        </p:grpSpPr>
        <p:sp>
          <p:nvSpPr>
            <p:cNvPr id="232" name="AutoShape 21"/>
            <p:cNvSpPr/>
            <p:nvPr/>
          </p:nvSpPr>
          <p:spPr>
            <a:xfrm rot="6774000">
              <a:off x="3152520" y="2276280"/>
              <a:ext cx="2679480" cy="264132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22"/>
            <p:cNvSpPr/>
            <p:nvPr/>
          </p:nvSpPr>
          <p:spPr>
            <a:xfrm rot="12174000">
              <a:off x="3095280" y="225792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090b0b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1374000">
              <a:off x="3235320" y="2209680"/>
              <a:ext cx="2679840" cy="264096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45132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76cfdb"/>
              </a:gs>
              <a:gs pos="100000">
                <a:srgbClr val="1bafc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bccbd0"/>
              </a:gs>
              <a:gs pos="100000">
                <a:srgbClr val="90a8b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a2a6eb"/>
              </a:gs>
              <a:gs pos="100000">
                <a:srgbClr val="646ad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c1d977"/>
              </a:gs>
              <a:gs pos="100000">
                <a:srgbClr val="98bf1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08720" y="6670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ffffff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268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271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38080" y="4038480"/>
            <a:ext cx="7021440" cy="1936800"/>
            <a:chOff x="838080" y="403848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1120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3032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14588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288" name="AutoShape 10"/>
            <p:cNvSpPr/>
            <p:nvPr/>
          </p:nvSpPr>
          <p:spPr>
            <a:xfrm>
              <a:off x="124776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1"/>
            <p:cNvSpPr/>
            <p:nvPr/>
          </p:nvSpPr>
          <p:spPr>
            <a:xfrm>
              <a:off x="1248840" y="49190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291" name="AutoShape 13"/>
            <p:cNvSpPr/>
            <p:nvPr/>
          </p:nvSpPr>
          <p:spPr>
            <a:xfrm>
              <a:off x="286704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4"/>
            <p:cNvSpPr/>
            <p:nvPr/>
          </p:nvSpPr>
          <p:spPr>
            <a:xfrm>
              <a:off x="2868120" y="49190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294" name="AutoShape 16"/>
            <p:cNvSpPr/>
            <p:nvPr/>
          </p:nvSpPr>
          <p:spPr>
            <a:xfrm>
              <a:off x="44845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7"/>
            <p:cNvSpPr/>
            <p:nvPr/>
          </p:nvSpPr>
          <p:spPr>
            <a:xfrm>
              <a:off x="4485600" y="49190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297" name="AutoShape 19"/>
            <p:cNvSpPr/>
            <p:nvPr/>
          </p:nvSpPr>
          <p:spPr>
            <a:xfrm>
              <a:off x="610092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0"/>
            <p:cNvSpPr/>
            <p:nvPr/>
          </p:nvSpPr>
          <p:spPr>
            <a:xfrm>
              <a:off x="6102000" y="49190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08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11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14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17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20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23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26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29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32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35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38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41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44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347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350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353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356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359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369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373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377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382" name="AutoShape 4"/>
            <p:cNvSpPr/>
            <p:nvPr/>
          </p:nvSpPr>
          <p:spPr>
            <a:xfrm>
              <a:off x="1863720" y="4459320"/>
              <a:ext cx="5492880" cy="3913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38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38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AutoShape 7"/>
            <p:cNvSpPr/>
            <p:nvPr/>
          </p:nvSpPr>
          <p:spPr>
            <a:xfrm>
              <a:off x="1879560" y="4465800"/>
              <a:ext cx="545292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391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39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426320" y="3936960"/>
              <a:ext cx="133920" cy="329760"/>
              <a:chOff x="1426320" y="3936960"/>
              <a:chExt cx="133920" cy="329760"/>
            </a:xfrm>
          </p:grpSpPr>
          <p:pic>
            <p:nvPicPr>
              <p:cNvPr id="39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3936960"/>
                <a:ext cx="13392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43820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400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40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999360" y="3346200"/>
              <a:ext cx="152280" cy="333360"/>
              <a:chOff x="999360" y="3346200"/>
              <a:chExt cx="152280" cy="333360"/>
            </a:xfrm>
          </p:grpSpPr>
          <p:pic>
            <p:nvPicPr>
              <p:cNvPr id="40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6200"/>
                <a:ext cx="152280" cy="33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017000" y="345528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AutoShape 17"/>
            <p:cNvSpPr/>
            <p:nvPr/>
          </p:nvSpPr>
          <p:spPr>
            <a:xfrm>
              <a:off x="101160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409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8278200" y="2663280"/>
              <a:ext cx="243000" cy="433800"/>
              <a:chOff x="8278200" y="2663280"/>
              <a:chExt cx="243000" cy="433800"/>
            </a:xfrm>
          </p:grpSpPr>
          <p:pic>
            <p:nvPicPr>
              <p:cNvPr id="41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8200" y="2663280"/>
                <a:ext cx="24300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8476920" y="2814120"/>
                <a:ext cx="2592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00560" y="2694240"/>
              <a:ext cx="164520" cy="354240"/>
              <a:chOff x="700560" y="2694240"/>
              <a:chExt cx="164520" cy="354240"/>
            </a:xfrm>
          </p:grpSpPr>
          <p:pic>
            <p:nvPicPr>
              <p:cNvPr id="41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560" y="2694240"/>
                <a:ext cx="16452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1460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22"/>
            <p:cNvSpPr/>
            <p:nvPr/>
          </p:nvSpPr>
          <p:spPr>
            <a:xfrm>
              <a:off x="70848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434" name="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435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1920" y="1529280"/>
                <a:ext cx="1156320" cy="113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6" name=""/>
              <p:cNvGrpSpPr/>
              <p:nvPr/>
            </p:nvGrpSpPr>
            <p:grpSpPr>
              <a:xfrm>
                <a:off x="4016520" y="1523880"/>
                <a:ext cx="1158840" cy="1146960"/>
                <a:chOff x="4016520" y="1523880"/>
                <a:chExt cx="1158840" cy="1146960"/>
              </a:xfrm>
            </p:grpSpPr>
            <p:pic>
              <p:nvPicPr>
                <p:cNvPr id="437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6520" y="1523880"/>
                  <a:ext cx="1158840" cy="114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8" name=""/>
                <p:cNvSpPr/>
                <p:nvPr/>
              </p:nvSpPr>
              <p:spPr>
                <a:xfrm>
                  <a:off x="4189680" y="1695960"/>
                  <a:ext cx="81252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440" y="153468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dc:language>en-US</dc:language>
  <cp:lastModifiedBy>echo</cp:lastModifiedBy>
  <dcterms:modified xsi:type="dcterms:W3CDTF">2015-07-04T06:20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