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43BA-2D55-4A30-B5AB-D7A97C99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B0C-F18E-4545-BC74-B76C5EBA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D60-1031-4E64-B9F8-6F5AAA90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234-9548-49DE-8DE3-CBE7081C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A3C9-9249-4CE1-98D4-2BC07E0D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5B9E-9439-4BF8-969F-845900A9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0421-A57D-46BE-931B-EEF31E98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B10C-66B2-4AB8-A903-BC43529E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9F14-2ABE-4B3E-984A-8929080D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B710-8F14-476B-AA00-F93CDAF6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14DE-4458-481A-82DD-4DEA7F31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5C3E-1DCD-4161-AF43-1A1EB3C6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D498-461C-454A-925F-41C59818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924B-8BAC-4BEB-9642-BDFCD12F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FDB7-E506-4D46-B32A-978C79BA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692C-B2A5-49D6-8CB4-EA741EE6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7193-D768-40A5-8A10-51C98B8A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3B64-B607-407A-A2FB-33E5D0E6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6412-597A-4D5E-88A4-8E55C626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C85-68C5-4654-B6DB-83DEDB33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E7C7-8D52-4F9D-AD2C-2B17FA49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E0B-9922-4721-89ED-43DF9133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D3AC-DE5E-45AB-BB8C-0D7F2843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6C37-9DC7-44ED-838D-EAC39234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6378480"/>
            <a:ext cx="9144000" cy="47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3399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2" descr="花纹1"/>
          <p:cNvPicPr/>
          <p:nvPr/>
        </p:nvPicPr>
        <p:blipFill>
          <a:blip r:embed="rId2"/>
          <a:stretch/>
        </p:blipFill>
        <p:spPr>
          <a:xfrm>
            <a:off x="7593120" y="5126040"/>
            <a:ext cx="155088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0"/>
            <a:ext cx="9144000" cy="65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3399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28600" y="171360"/>
            <a:ext cx="952560" cy="952560"/>
            <a:chOff x="228600" y="171360"/>
            <a:chExt cx="952560" cy="952560"/>
          </a:xfrm>
        </p:grpSpPr>
        <p:sp>
          <p:nvSpPr>
            <p:cNvPr id="4" name="Oval 9"/>
            <p:cNvSpPr/>
            <p:nvPr/>
          </p:nvSpPr>
          <p:spPr>
            <a:xfrm>
              <a:off x="228600" y="171360"/>
              <a:ext cx="952560" cy="952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10"/>
            <p:cNvSpPr/>
            <p:nvPr/>
          </p:nvSpPr>
          <p:spPr>
            <a:xfrm>
              <a:off x="289080" y="227880"/>
              <a:ext cx="826560" cy="8269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82C9-DE85-4381-9E0F-05DA7388C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主题背景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4EDE-065B-4EAB-97B8-220736272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981080" y="0"/>
            <a:ext cx="3505320" cy="6858000"/>
            <a:chOff x="1981080" y="0"/>
            <a:chExt cx="3505320" cy="6858000"/>
          </a:xfrm>
        </p:grpSpPr>
        <p:sp>
          <p:nvSpPr>
            <p:cNvPr id="52" name="Rectangle 9"/>
            <p:cNvSpPr/>
            <p:nvPr/>
          </p:nvSpPr>
          <p:spPr>
            <a:xfrm>
              <a:off x="1981080" y="0"/>
              <a:ext cx="28195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0"/>
            <p:cNvSpPr/>
            <p:nvPr/>
          </p:nvSpPr>
          <p:spPr>
            <a:xfrm>
              <a:off x="2666880" y="0"/>
              <a:ext cx="21337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3352680" y="0"/>
              <a:ext cx="14479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2"/>
            <p:cNvSpPr/>
            <p:nvPr/>
          </p:nvSpPr>
          <p:spPr>
            <a:xfrm>
              <a:off x="4038480" y="0"/>
              <a:ext cx="14479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008080" y="1170000"/>
            <a:ext cx="1494000" cy="1494000"/>
            <a:chOff x="2008080" y="1170000"/>
            <a:chExt cx="1494000" cy="1494000"/>
          </a:xfrm>
        </p:grpSpPr>
        <p:sp>
          <p:nvSpPr>
            <p:cNvPr id="57" name="Oval 14"/>
            <p:cNvSpPr/>
            <p:nvPr/>
          </p:nvSpPr>
          <p:spPr>
            <a:xfrm>
              <a:off x="2008080" y="1170000"/>
              <a:ext cx="1494000" cy="14940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2103480" y="1260360"/>
              <a:ext cx="1295280" cy="1295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268880" y="4643280"/>
            <a:ext cx="1066680" cy="1067040"/>
            <a:chOff x="4268880" y="4643280"/>
            <a:chExt cx="1066680" cy="1067040"/>
          </a:xfrm>
        </p:grpSpPr>
        <p:sp>
          <p:nvSpPr>
            <p:cNvPr id="60" name="Oval 17"/>
            <p:cNvSpPr/>
            <p:nvPr/>
          </p:nvSpPr>
          <p:spPr>
            <a:xfrm>
              <a:off x="4268880" y="4643280"/>
              <a:ext cx="1066680" cy="10670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4336920" y="4707720"/>
              <a:ext cx="924840" cy="9241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888840" y="2752200"/>
            <a:ext cx="655488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8840" y="2752200"/>
            <a:ext cx="655488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中国风青花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49480" y="3778200"/>
            <a:ext cx="565920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309760" y="1734480"/>
            <a:ext cx="4792680" cy="789480"/>
            <a:chOff x="2309760" y="1734480"/>
            <a:chExt cx="4792680" cy="789480"/>
          </a:xfrm>
        </p:grpSpPr>
        <p:sp>
          <p:nvSpPr>
            <p:cNvPr id="104" name="Line 5"/>
            <p:cNvSpPr/>
            <p:nvPr/>
          </p:nvSpPr>
          <p:spPr>
            <a:xfrm>
              <a:off x="2554200" y="239688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6" descr="小花纹"/>
            <p:cNvPicPr/>
            <p:nvPr/>
          </p:nvPicPr>
          <p:blipFill>
            <a:blip r:embed="rId1">
              <a:lum bright="36000"/>
            </a:blip>
            <a:stretch/>
          </p:blipFill>
          <p:spPr>
            <a:xfrm flipH="1" rot="2104200">
              <a:off x="6516360" y="180612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" name=""/>
            <p:cNvGrpSpPr/>
            <p:nvPr/>
          </p:nvGrpSpPr>
          <p:grpSpPr>
            <a:xfrm>
              <a:off x="2309760" y="2197080"/>
              <a:ext cx="316080" cy="326880"/>
              <a:chOff x="2309760" y="2197080"/>
              <a:chExt cx="316080" cy="326880"/>
            </a:xfrm>
          </p:grpSpPr>
          <p:sp>
            <p:nvSpPr>
              <p:cNvPr id="107" name="Oval 8"/>
              <p:cNvSpPr/>
              <p:nvPr/>
            </p:nvSpPr>
            <p:spPr>
              <a:xfrm>
                <a:off x="2309760" y="219708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Oval 9"/>
              <p:cNvSpPr/>
              <p:nvPr/>
            </p:nvSpPr>
            <p:spPr>
              <a:xfrm>
                <a:off x="2342880" y="223236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10"/>
              <p:cNvSpPr/>
              <p:nvPr/>
            </p:nvSpPr>
            <p:spPr>
              <a:xfrm>
                <a:off x="2377440" y="226764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11"/>
              <p:cNvSpPr/>
              <p:nvPr/>
            </p:nvSpPr>
            <p:spPr>
              <a:xfrm>
                <a:off x="2412360" y="230220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ext Box 12"/>
          <p:cNvSpPr/>
          <p:nvPr/>
        </p:nvSpPr>
        <p:spPr>
          <a:xfrm>
            <a:off x="2865600" y="190008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322360" y="2458440"/>
            <a:ext cx="4792680" cy="789480"/>
            <a:chOff x="2322360" y="2458440"/>
            <a:chExt cx="4792680" cy="789480"/>
          </a:xfrm>
        </p:grpSpPr>
        <p:sp>
          <p:nvSpPr>
            <p:cNvPr id="113" name="Line 53"/>
            <p:cNvSpPr/>
            <p:nvPr/>
          </p:nvSpPr>
          <p:spPr>
            <a:xfrm>
              <a:off x="2566800" y="312084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54" descr="小花纹"/>
            <p:cNvPicPr/>
            <p:nvPr/>
          </p:nvPicPr>
          <p:blipFill>
            <a:blip r:embed="rId2">
              <a:lum bright="36000"/>
            </a:blip>
            <a:stretch/>
          </p:blipFill>
          <p:spPr>
            <a:xfrm flipH="1" rot="2104200">
              <a:off x="6528960" y="253008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" name=""/>
            <p:cNvGrpSpPr/>
            <p:nvPr/>
          </p:nvGrpSpPr>
          <p:grpSpPr>
            <a:xfrm>
              <a:off x="2322360" y="2921040"/>
              <a:ext cx="316080" cy="326880"/>
              <a:chOff x="2322360" y="2921040"/>
              <a:chExt cx="316080" cy="326880"/>
            </a:xfrm>
          </p:grpSpPr>
          <p:sp>
            <p:nvSpPr>
              <p:cNvPr id="116" name="Oval 56"/>
              <p:cNvSpPr/>
              <p:nvPr/>
            </p:nvSpPr>
            <p:spPr>
              <a:xfrm>
                <a:off x="2322360" y="292104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57"/>
              <p:cNvSpPr/>
              <p:nvPr/>
            </p:nvSpPr>
            <p:spPr>
              <a:xfrm>
                <a:off x="2355480" y="295632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58"/>
              <p:cNvSpPr/>
              <p:nvPr/>
            </p:nvSpPr>
            <p:spPr>
              <a:xfrm>
                <a:off x="2390040" y="299160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59"/>
              <p:cNvSpPr/>
              <p:nvPr/>
            </p:nvSpPr>
            <p:spPr>
              <a:xfrm>
                <a:off x="2424960" y="302616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Text Box 60"/>
          <p:cNvSpPr/>
          <p:nvPr/>
        </p:nvSpPr>
        <p:spPr>
          <a:xfrm>
            <a:off x="2878200" y="262404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335320" y="3271320"/>
            <a:ext cx="4792680" cy="789480"/>
            <a:chOff x="2335320" y="3271320"/>
            <a:chExt cx="4792680" cy="789480"/>
          </a:xfrm>
        </p:grpSpPr>
        <p:sp>
          <p:nvSpPr>
            <p:cNvPr id="122" name="Line 62"/>
            <p:cNvSpPr/>
            <p:nvPr/>
          </p:nvSpPr>
          <p:spPr>
            <a:xfrm>
              <a:off x="2579760" y="393372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63" descr="小花纹"/>
            <p:cNvPicPr/>
            <p:nvPr/>
          </p:nvPicPr>
          <p:blipFill>
            <a:blip r:embed="rId3">
              <a:lum bright="36000"/>
            </a:blip>
            <a:stretch/>
          </p:blipFill>
          <p:spPr>
            <a:xfrm flipH="1" rot="2104200">
              <a:off x="6541920" y="334296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2335320" y="3733920"/>
              <a:ext cx="316080" cy="326880"/>
              <a:chOff x="2335320" y="3733920"/>
              <a:chExt cx="316080" cy="326880"/>
            </a:xfrm>
          </p:grpSpPr>
          <p:sp>
            <p:nvSpPr>
              <p:cNvPr id="125" name="Oval 65"/>
              <p:cNvSpPr/>
              <p:nvPr/>
            </p:nvSpPr>
            <p:spPr>
              <a:xfrm>
                <a:off x="2335320" y="373392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66"/>
              <p:cNvSpPr/>
              <p:nvPr/>
            </p:nvSpPr>
            <p:spPr>
              <a:xfrm>
                <a:off x="2368440" y="376920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67"/>
              <p:cNvSpPr/>
              <p:nvPr/>
            </p:nvSpPr>
            <p:spPr>
              <a:xfrm>
                <a:off x="2403000" y="380448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68"/>
              <p:cNvSpPr/>
              <p:nvPr/>
            </p:nvSpPr>
            <p:spPr>
              <a:xfrm>
                <a:off x="2437920" y="383904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69"/>
          <p:cNvSpPr/>
          <p:nvPr/>
        </p:nvSpPr>
        <p:spPr>
          <a:xfrm>
            <a:off x="2890800" y="3436920"/>
            <a:ext cx="35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35320" y="4058640"/>
            <a:ext cx="4792680" cy="789480"/>
            <a:chOff x="2335320" y="4058640"/>
            <a:chExt cx="4792680" cy="789480"/>
          </a:xfrm>
        </p:grpSpPr>
        <p:sp>
          <p:nvSpPr>
            <p:cNvPr id="131" name="Line 71"/>
            <p:cNvSpPr/>
            <p:nvPr/>
          </p:nvSpPr>
          <p:spPr>
            <a:xfrm>
              <a:off x="2579760" y="472104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72" descr="小花纹"/>
            <p:cNvPicPr/>
            <p:nvPr/>
          </p:nvPicPr>
          <p:blipFill>
            <a:blip r:embed="rId4">
              <a:lum bright="36000"/>
            </a:blip>
            <a:stretch/>
          </p:blipFill>
          <p:spPr>
            <a:xfrm flipH="1" rot="2104200">
              <a:off x="6541920" y="413028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"/>
            <p:cNvGrpSpPr/>
            <p:nvPr/>
          </p:nvGrpSpPr>
          <p:grpSpPr>
            <a:xfrm>
              <a:off x="2335320" y="4521240"/>
              <a:ext cx="316080" cy="326880"/>
              <a:chOff x="2335320" y="4521240"/>
              <a:chExt cx="316080" cy="326880"/>
            </a:xfrm>
          </p:grpSpPr>
          <p:sp>
            <p:nvSpPr>
              <p:cNvPr id="134" name="Oval 74"/>
              <p:cNvSpPr/>
              <p:nvPr/>
            </p:nvSpPr>
            <p:spPr>
              <a:xfrm>
                <a:off x="2335320" y="452124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75"/>
              <p:cNvSpPr/>
              <p:nvPr/>
            </p:nvSpPr>
            <p:spPr>
              <a:xfrm>
                <a:off x="2368440" y="455652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76"/>
              <p:cNvSpPr/>
              <p:nvPr/>
            </p:nvSpPr>
            <p:spPr>
              <a:xfrm>
                <a:off x="2403000" y="459180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77"/>
              <p:cNvSpPr/>
              <p:nvPr/>
            </p:nvSpPr>
            <p:spPr>
              <a:xfrm>
                <a:off x="2437920" y="462636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Text Box 78"/>
          <p:cNvSpPr/>
          <p:nvPr/>
        </p:nvSpPr>
        <p:spPr>
          <a:xfrm>
            <a:off x="2890800" y="4224240"/>
            <a:ext cx="35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45"/>
          <p:cNvSpPr/>
          <p:nvPr/>
        </p:nvSpPr>
        <p:spPr>
          <a:xfrm>
            <a:off x="766800" y="1504800"/>
            <a:ext cx="7556400" cy="392616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4" descr="花纹"/>
          <p:cNvPicPr/>
          <p:nvPr/>
        </p:nvPicPr>
        <p:blipFill>
          <a:blip r:embed="rId1"/>
          <a:stretch/>
        </p:blipFill>
        <p:spPr>
          <a:xfrm>
            <a:off x="595440" y="3762360"/>
            <a:ext cx="1404720" cy="18734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46"/>
          <p:cNvSpPr/>
          <p:nvPr/>
        </p:nvSpPr>
        <p:spPr>
          <a:xfrm>
            <a:off x="1182600" y="1262160"/>
            <a:ext cx="2527560" cy="471240"/>
          </a:xfrm>
          <a:prstGeom prst="roundRect">
            <a:avLst>
              <a:gd name="adj" fmla="val 3669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7"/>
          <p:cNvSpPr/>
          <p:nvPr/>
        </p:nvSpPr>
        <p:spPr>
          <a:xfrm>
            <a:off x="1281240" y="1297080"/>
            <a:ext cx="26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rc 2"/>
          <p:cNvSpPr/>
          <p:nvPr/>
        </p:nvSpPr>
        <p:spPr>
          <a:xfrm>
            <a:off x="-7920" y="1555920"/>
            <a:ext cx="2208240" cy="3822480"/>
          </a:xfrm>
          <a:prstGeom prst="pie">
            <a:avLst/>
          </a:prstGeom>
          <a:solidFill>
            <a:srgbClr val="ffffff">
              <a:alpha val="17000"/>
            </a:srgbClr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花纹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1833480"/>
            <a:ext cx="2497320" cy="33418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1558800" y="1398600"/>
            <a:ext cx="69249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2163600" y="2367000"/>
            <a:ext cx="6454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2235240" y="3422520"/>
            <a:ext cx="64548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1698480" y="4565520"/>
            <a:ext cx="69249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4"/>
          <p:cNvSpPr/>
          <p:nvPr/>
        </p:nvSpPr>
        <p:spPr>
          <a:xfrm>
            <a:off x="2260440" y="3265560"/>
            <a:ext cx="4505400" cy="614160"/>
          </a:xfrm>
          <a:prstGeom prst="rect">
            <a:avLst/>
          </a:prstGeom>
          <a:gradFill rotWithShape="0">
            <a:gsLst>
              <a:gs pos="0">
                <a:srgbClr val="9966ff">
                  <a:alpha val="17254"/>
                </a:srgbClr>
              </a:gs>
              <a:gs pos="50000">
                <a:srgbClr val="ffffff"/>
              </a:gs>
              <a:gs pos="100000">
                <a:srgbClr val="9966ff">
                  <a:alpha val="1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rc 94"/>
          <p:cNvSpPr/>
          <p:nvPr/>
        </p:nvSpPr>
        <p:spPr>
          <a:xfrm>
            <a:off x="0" y="1193760"/>
            <a:ext cx="2394000" cy="4788000"/>
          </a:xfrm>
          <a:prstGeom prst="pie">
            <a:avLst/>
          </a:prstGeom>
          <a:gradFill rotWithShape="0">
            <a:gsLst>
              <a:gs pos="0">
                <a:srgbClr val="9966ff">
                  <a:alpha val="17254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3" descr="花纹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38040" y="1771560"/>
            <a:ext cx="2496960" cy="3341880"/>
          </a:xfrm>
          <a:prstGeom prst="rect">
            <a:avLst/>
          </a:prstGeom>
          <a:ln w="0">
            <a:noFill/>
          </a:ln>
        </p:spPr>
      </p:pic>
      <p:sp>
        <p:nvSpPr>
          <p:cNvPr id="155" name="Arc 98"/>
          <p:cNvSpPr/>
          <p:nvPr/>
        </p:nvSpPr>
        <p:spPr>
          <a:xfrm flipH="1" rot="21465600">
            <a:off x="6660360" y="1119240"/>
            <a:ext cx="2494080" cy="4788000"/>
          </a:xfrm>
          <a:prstGeom prst="pie">
            <a:avLst/>
          </a:prstGeom>
          <a:gradFill rotWithShape="0">
            <a:gsLst>
              <a:gs pos="0">
                <a:srgbClr val="9966ff">
                  <a:alpha val="17254"/>
                </a:srgbClr>
              </a:gs>
              <a:gs pos="100000">
                <a:srgbClr val="ffffff"/>
              </a:gs>
            </a:gsLst>
            <a:lin ang="106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9" descr="花纹"/>
          <p:cNvPicPr/>
          <p:nvPr/>
        </p:nvPicPr>
        <p:blipFill>
          <a:blip r:embed="rId2">
            <a:lum bright="70000" contrast="-70000"/>
          </a:blip>
          <a:stretch/>
        </p:blipFill>
        <p:spPr>
          <a:xfrm flipH="1" rot="21463200">
            <a:off x="6869160" y="1865160"/>
            <a:ext cx="2679480" cy="33418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5"/>
          <p:cNvSpPr/>
          <p:nvPr/>
        </p:nvSpPr>
        <p:spPr>
          <a:xfrm>
            <a:off x="3184560" y="3360600"/>
            <a:ext cx="26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6"/>
          <p:cNvSpPr/>
          <p:nvPr/>
        </p:nvSpPr>
        <p:spPr>
          <a:xfrm>
            <a:off x="2200320" y="1895400"/>
            <a:ext cx="49132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7"/>
          <p:cNvSpPr/>
          <p:nvPr/>
        </p:nvSpPr>
        <p:spPr>
          <a:xfrm>
            <a:off x="2273400" y="4240080"/>
            <a:ext cx="49132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8" descr="花纹1"/>
          <p:cNvPicPr/>
          <p:nvPr/>
        </p:nvPicPr>
        <p:blipFill>
          <a:blip r:embed="rId3"/>
          <a:stretch/>
        </p:blipFill>
        <p:spPr>
          <a:xfrm>
            <a:off x="7593120" y="5126040"/>
            <a:ext cx="1550880" cy="1731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060560" y="3638520"/>
            <a:ext cx="682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40640" y="1362240"/>
            <a:ext cx="8125560" cy="2071080"/>
            <a:chOff x="440640" y="1362240"/>
            <a:chExt cx="8125560" cy="2071080"/>
          </a:xfrm>
        </p:grpSpPr>
        <p:sp>
          <p:nvSpPr>
            <p:cNvPr id="164" name="Rectangle 11"/>
            <p:cNvSpPr/>
            <p:nvPr/>
          </p:nvSpPr>
          <p:spPr>
            <a:xfrm>
              <a:off x="444600" y="2036520"/>
              <a:ext cx="8121600" cy="72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ff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440640" y="1362240"/>
              <a:ext cx="1091160" cy="2071080"/>
              <a:chOff x="440640" y="1362240"/>
              <a:chExt cx="1091160" cy="2071080"/>
            </a:xfrm>
          </p:grpSpPr>
          <p:pic>
            <p:nvPicPr>
              <p:cNvPr id="166" name="Picture 13" descr="未标题-12"/>
              <p:cNvPicPr/>
              <p:nvPr/>
            </p:nvPicPr>
            <p:blipFill>
              <a:blip r:embed="rId1"/>
              <a:stretch/>
            </p:blipFill>
            <p:spPr>
              <a:xfrm rot="98400">
                <a:off x="456120" y="231480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Picture 15" descr="未标题-12"/>
              <p:cNvPicPr/>
              <p:nvPr/>
            </p:nvPicPr>
            <p:blipFill>
              <a:blip r:embed="rId2"/>
              <a:stretch/>
            </p:blipFill>
            <p:spPr>
              <a:xfrm flipH="1" rot="10899000">
                <a:off x="460440" y="137700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8" name="Rectangle 18"/>
          <p:cNvSpPr/>
          <p:nvPr/>
        </p:nvSpPr>
        <p:spPr>
          <a:xfrm>
            <a:off x="1487520" y="1933560"/>
            <a:ext cx="71308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1606680" y="3951360"/>
            <a:ext cx="7537320" cy="72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66ff">
                  <a:alpha val="3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03080" y="3276720"/>
            <a:ext cx="1090800" cy="2071080"/>
            <a:chOff x="1603080" y="3276720"/>
            <a:chExt cx="1090800" cy="2071080"/>
          </a:xfrm>
        </p:grpSpPr>
        <p:pic>
          <p:nvPicPr>
            <p:cNvPr id="171" name="Picture 22" descr="未标题-12"/>
            <p:cNvPicPr/>
            <p:nvPr/>
          </p:nvPicPr>
          <p:blipFill>
            <a:blip r:embed="rId3"/>
            <a:stretch/>
          </p:blipFill>
          <p:spPr>
            <a:xfrm rot="98400">
              <a:off x="1618560" y="4229280"/>
              <a:ext cx="105552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3" descr="未标题-12"/>
            <p:cNvPicPr/>
            <p:nvPr/>
          </p:nvPicPr>
          <p:blipFill>
            <a:blip r:embed="rId4"/>
            <a:stretch/>
          </p:blipFill>
          <p:spPr>
            <a:xfrm flipH="1" rot="10899000">
              <a:off x="1622520" y="3291480"/>
              <a:ext cx="105552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Rectangle 24"/>
          <p:cNvSpPr/>
          <p:nvPr/>
        </p:nvSpPr>
        <p:spPr>
          <a:xfrm>
            <a:off x="2649600" y="3848040"/>
            <a:ext cx="62564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3257640" y="1276200"/>
            <a:ext cx="149040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5DFA-B5F5-42C7-9D62-023065E07E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12:57:25Z</dcterms:created>
  <dc:creator/>
  <dc:description/>
  <dc:language>en-US</dc:language>
  <cp:lastModifiedBy>微软用户</cp:lastModifiedBy>
  <dcterms:modified xsi:type="dcterms:W3CDTF">2015-07-04T06:17:26Z</dcterms:modified>
  <cp:revision>6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