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14B9-168E-416A-B184-9B689FC4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2CFA-4F39-42B6-982D-730D2F06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5104-E054-4F2A-9DB5-E5794A4D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C85D-E9EC-4DEF-A5F6-5C1ABD2B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17DC-830F-4939-B549-B7A6F657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A0B8-D574-453D-8116-E193BA26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5894-644B-4608-BA4F-ED7390D0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0EFD-4033-4AD6-A46B-D970F2C1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2C05-812D-45D5-AAE2-A4C1726D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3244-6033-4211-8158-DECD1E35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159B-D254-41E2-964F-90789E2E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07C9-7382-4140-A90F-5F869CBB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AEE2-4903-4A06-9D55-595FA24F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2174-5220-47F7-B207-33894C38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8550-317A-4489-A887-B991623C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F214-54DF-4B3F-AA62-FB8FF3C0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F921-394F-4B2F-9954-DE23FB4E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7C99-2B2F-4B81-95DA-F8E32B65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926B-33B5-4A48-8B95-FF3F1FBA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E0E1-3EF2-45B5-B0A1-B9600691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4FC0-DEED-4496-BA63-0C69D062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3E05-D612-47EF-8B09-A1DBEAD5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7F2F-E5DB-4D08-A5FD-897A2028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2A4E-28F0-42A6-8C92-5C8F8F12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A279-8119-41C0-9647-830517C58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8BE4-C8C4-4642-8EAE-B91A3A09E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2556000"/>
            <a:ext cx="7772400" cy="11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</a:rPr>
              <a:t>中国风水墨菊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20600" y="3440160"/>
            <a:ext cx="3962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华文行楷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华文行楷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4" name=""/>
          <p:cNvSpPr/>
          <p:nvPr/>
        </p:nvSpPr>
        <p:spPr>
          <a:xfrm>
            <a:off x="7507440" y="478152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迷你简柏青"/>
                <a:ea typeface="迷你简柏青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23516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内页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首页直接选择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3"/>
          <p:cNvSpPr/>
          <p:nvPr/>
        </p:nvSpPr>
        <p:spPr>
          <a:xfrm>
            <a:off x="2971800" y="2800440"/>
            <a:ext cx="32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谢谢观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华文行楷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华文行楷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华文行楷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华文行楷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行楷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华文行楷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行楷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B06A-1318-40D1-B4F7-963F475554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13:29:51Z</dcterms:created>
  <dc:creator/>
  <dc:description/>
  <dc:language>en-US</dc:language>
  <cp:lastModifiedBy>Administrator</cp:lastModifiedBy>
  <dcterms:modified xsi:type="dcterms:W3CDTF">2015-07-04T06:15:48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